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9EB-C911-4357-AE5F-4CCAB80D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22E-EC02-4E38-99AC-6240184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E6C-3D28-4808-B5FE-46F0CF1C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653-9042-4B53-8C83-DA12BE97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89F7-E1BB-48BE-B292-E27B1F01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02D0-F498-4999-BF10-C339360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665A-33AB-4B72-9DB6-295B3415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BB7E-D280-4048-A2A3-05B587CA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AA04-0A9F-4C23-BF62-1684691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CDAF-603B-4C0F-B2B4-EB454098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ABCA-6D36-4F41-A363-F244A66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48A-90C7-4C9C-9D6A-8F0EB50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1700-116A-4D7E-86FB-90B7479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E7E7-166F-4F79-8543-E564B49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867A-B562-4764-89F8-606AF8EA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F589-C643-4CC0-BC25-A7C221BD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2DB2-C8A6-4F09-B029-870DC33E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5AC-67D7-47DB-A170-8D1747EB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2DB-1862-47C9-927E-E06FE99B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CD0-7336-40F6-9059-E3244121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1C1-ACB1-4604-9324-DBF4F7E9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B60-0A77-42B5-B632-5C2E59C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65E-AC9C-474C-A391-44E6DEE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EA7-1B99-4675-869D-C57D4126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E72-EC23-4DC4-B434-9A3B3B924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97BF-4757-49F9-83F3-B28641F95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d80"/>
                </a:solidFill>
                <a:latin typeface="Arial"/>
              </a:rPr>
              <a:t>Tuesday, March 10th</a:t>
            </a:r>
            <a:endParaRPr b="0" lang="en-US" sz="4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first four terms of this recursive sequ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24, 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k+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= -3A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k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+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4040" y="3919680"/>
            <a:ext cx="1938240" cy="625320"/>
          </a:xfrm>
          <a:custGeom>
            <a:avLst/>
            <a:gdLst/>
            <a:ahLst/>
            <a:rect l="l" t="t" r="r" b="b"/>
            <a:pathLst>
              <a:path w="5384" h="1738">
                <a:moveTo>
                  <a:pt x="1662" y="11137"/>
                </a:moveTo>
                <a:cubicBezTo>
                  <a:pt x="1662" y="11162"/>
                  <a:pt x="1662" y="11170"/>
                  <a:pt x="1662" y="11187"/>
                </a:cubicBezTo>
                <a:cubicBezTo>
                  <a:pt x="1682" y="11162"/>
                  <a:pt x="1679" y="11145"/>
                  <a:pt x="1712" y="11112"/>
                </a:cubicBezTo>
                <a:cubicBezTo>
                  <a:pt x="1732" y="11092"/>
                  <a:pt x="1730" y="11069"/>
                  <a:pt x="1761" y="11038"/>
                </a:cubicBezTo>
                <a:cubicBezTo>
                  <a:pt x="1794" y="11005"/>
                  <a:pt x="1809" y="11004"/>
                  <a:pt x="1836" y="10988"/>
                </a:cubicBezTo>
                <a:cubicBezTo>
                  <a:pt x="1858" y="10975"/>
                  <a:pt x="1904" y="10954"/>
                  <a:pt x="1935" y="10964"/>
                </a:cubicBezTo>
                <a:cubicBezTo>
                  <a:pt x="1974" y="10977"/>
                  <a:pt x="2033" y="10997"/>
                  <a:pt x="2059" y="11038"/>
                </a:cubicBezTo>
                <a:cubicBezTo>
                  <a:pt x="2083" y="11075"/>
                  <a:pt x="2111" y="11132"/>
                  <a:pt x="2133" y="11162"/>
                </a:cubicBezTo>
                <a:cubicBezTo>
                  <a:pt x="2168" y="11208"/>
                  <a:pt x="2144" y="11236"/>
                  <a:pt x="2158" y="11286"/>
                </a:cubicBezTo>
                <a:cubicBezTo>
                  <a:pt x="2170" y="11329"/>
                  <a:pt x="2190" y="11357"/>
                  <a:pt x="2183" y="11410"/>
                </a:cubicBezTo>
                <a:cubicBezTo>
                  <a:pt x="2177" y="11455"/>
                  <a:pt x="2172" y="11516"/>
                  <a:pt x="2158" y="11559"/>
                </a:cubicBezTo>
                <a:cubicBezTo>
                  <a:pt x="2144" y="11603"/>
                  <a:pt x="2125" y="11672"/>
                  <a:pt x="2108" y="11708"/>
                </a:cubicBezTo>
                <a:cubicBezTo>
                  <a:pt x="2087" y="11752"/>
                  <a:pt x="2061" y="11816"/>
                  <a:pt x="2034" y="11857"/>
                </a:cubicBezTo>
                <a:cubicBezTo>
                  <a:pt x="2003" y="11904"/>
                  <a:pt x="1952" y="11925"/>
                  <a:pt x="1910" y="11956"/>
                </a:cubicBezTo>
                <a:cubicBezTo>
                  <a:pt x="1869" y="11987"/>
                  <a:pt x="1833" y="12021"/>
                  <a:pt x="1786" y="12030"/>
                </a:cubicBezTo>
                <a:cubicBezTo>
                  <a:pt x="1739" y="12039"/>
                  <a:pt x="1723" y="12024"/>
                  <a:pt x="1687" y="12005"/>
                </a:cubicBezTo>
                <a:cubicBezTo>
                  <a:pt x="1635" y="11978"/>
                  <a:pt x="1617" y="11996"/>
                  <a:pt x="1588" y="11931"/>
                </a:cubicBezTo>
                <a:cubicBezTo>
                  <a:pt x="1575" y="11902"/>
                  <a:pt x="1545" y="11836"/>
                  <a:pt x="1538" y="11807"/>
                </a:cubicBezTo>
                <a:cubicBezTo>
                  <a:pt x="1525" y="11757"/>
                  <a:pt x="1543" y="11721"/>
                  <a:pt x="1563" y="11683"/>
                </a:cubicBezTo>
                <a:cubicBezTo>
                  <a:pt x="1584" y="11643"/>
                  <a:pt x="1585" y="11621"/>
                  <a:pt x="1637" y="11609"/>
                </a:cubicBezTo>
                <a:cubicBezTo>
                  <a:pt x="1684" y="11598"/>
                  <a:pt x="1701" y="11619"/>
                  <a:pt x="1736" y="11633"/>
                </a:cubicBezTo>
                <a:cubicBezTo>
                  <a:pt x="1776" y="11649"/>
                  <a:pt x="1831" y="11646"/>
                  <a:pt x="1860" y="11683"/>
                </a:cubicBezTo>
                <a:cubicBezTo>
                  <a:pt x="1903" y="11739"/>
                  <a:pt x="1936" y="11804"/>
                  <a:pt x="1984" y="11857"/>
                </a:cubicBezTo>
                <a:cubicBezTo>
                  <a:pt x="2016" y="11892"/>
                  <a:pt x="2035" y="11936"/>
                  <a:pt x="2059" y="11981"/>
                </a:cubicBezTo>
                <a:cubicBezTo>
                  <a:pt x="2079" y="12018"/>
                  <a:pt x="2099" y="12046"/>
                  <a:pt x="2133" y="12080"/>
                </a:cubicBezTo>
                <a:cubicBezTo>
                  <a:pt x="2164" y="12111"/>
                  <a:pt x="2151" y="12096"/>
                  <a:pt x="2208" y="12080"/>
                </a:cubicBezTo>
              </a:path>
              <a:path w="5384" h="1738">
                <a:moveTo>
                  <a:pt x="2629" y="11038"/>
                </a:moveTo>
                <a:cubicBezTo>
                  <a:pt x="2666" y="11124"/>
                  <a:pt x="2634" y="11089"/>
                  <a:pt x="2629" y="11162"/>
                </a:cubicBezTo>
                <a:cubicBezTo>
                  <a:pt x="2627" y="11193"/>
                  <a:pt x="2619" y="11258"/>
                  <a:pt x="2604" y="11286"/>
                </a:cubicBezTo>
                <a:cubicBezTo>
                  <a:pt x="2584" y="11323"/>
                  <a:pt x="2560" y="11368"/>
                  <a:pt x="2555" y="11410"/>
                </a:cubicBezTo>
                <a:cubicBezTo>
                  <a:pt x="2555" y="11438"/>
                  <a:pt x="2557" y="11449"/>
                  <a:pt x="2580" y="11460"/>
                </a:cubicBezTo>
                <a:cubicBezTo>
                  <a:pt x="2637" y="11416"/>
                  <a:pt x="2637" y="11443"/>
                  <a:pt x="2704" y="11460"/>
                </a:cubicBezTo>
                <a:cubicBezTo>
                  <a:pt x="2753" y="11472"/>
                  <a:pt x="2804" y="11482"/>
                  <a:pt x="2853" y="11485"/>
                </a:cubicBezTo>
                <a:cubicBezTo>
                  <a:pt x="2916" y="11489"/>
                  <a:pt x="2961" y="11509"/>
                  <a:pt x="3026" y="11509"/>
                </a:cubicBezTo>
                <a:cubicBezTo>
                  <a:pt x="3110" y="11509"/>
                  <a:pt x="3154" y="11528"/>
                  <a:pt x="3200" y="11460"/>
                </a:cubicBezTo>
              </a:path>
              <a:path w="5384" h="1738">
                <a:moveTo>
                  <a:pt x="3125" y="10889"/>
                </a:moveTo>
                <a:cubicBezTo>
                  <a:pt x="3158" y="10944"/>
                  <a:pt x="3140" y="10978"/>
                  <a:pt x="3150" y="11038"/>
                </a:cubicBezTo>
                <a:cubicBezTo>
                  <a:pt x="3173" y="11174"/>
                  <a:pt x="3071" y="12020"/>
                  <a:pt x="3175" y="12055"/>
                </a:cubicBezTo>
              </a:path>
              <a:path w="5384" h="1738">
                <a:moveTo>
                  <a:pt x="3746" y="12005"/>
                </a:moveTo>
                <a:cubicBezTo>
                  <a:pt x="3815" y="12017"/>
                  <a:pt x="3790" y="12015"/>
                  <a:pt x="3820" y="12055"/>
                </a:cubicBezTo>
                <a:cubicBezTo>
                  <a:pt x="3866" y="12116"/>
                  <a:pt x="3831" y="12167"/>
                  <a:pt x="3820" y="12229"/>
                </a:cubicBezTo>
                <a:cubicBezTo>
                  <a:pt x="3807" y="12300"/>
                  <a:pt x="3808" y="12314"/>
                  <a:pt x="3770" y="12378"/>
                </a:cubicBezTo>
                <a:cubicBezTo>
                  <a:pt x="3740" y="12429"/>
                  <a:pt x="3713" y="12461"/>
                  <a:pt x="3671" y="12502"/>
                </a:cubicBezTo>
                <a:cubicBezTo>
                  <a:pt x="3646" y="12527"/>
                  <a:pt x="3606" y="12547"/>
                  <a:pt x="3572" y="12551"/>
                </a:cubicBezTo>
                <a:cubicBezTo>
                  <a:pt x="3564" y="12551"/>
                  <a:pt x="3555" y="12551"/>
                  <a:pt x="3547" y="12551"/>
                </a:cubicBezTo>
              </a:path>
              <a:path w="5384" h="1738">
                <a:moveTo>
                  <a:pt x="4217" y="11460"/>
                </a:moveTo>
                <a:cubicBezTo>
                  <a:pt x="4307" y="11460"/>
                  <a:pt x="4381" y="11472"/>
                  <a:pt x="4465" y="11485"/>
                </a:cubicBezTo>
                <a:cubicBezTo>
                  <a:pt x="4539" y="11497"/>
                  <a:pt x="4591" y="11483"/>
                  <a:pt x="4663" y="11509"/>
                </a:cubicBezTo>
              </a:path>
              <a:path w="5384" h="1738">
                <a:moveTo>
                  <a:pt x="5184" y="11038"/>
                </a:moveTo>
                <a:cubicBezTo>
                  <a:pt x="5217" y="11082"/>
                  <a:pt x="5209" y="11104"/>
                  <a:pt x="5209" y="11162"/>
                </a:cubicBezTo>
                <a:cubicBezTo>
                  <a:pt x="5209" y="11217"/>
                  <a:pt x="5187" y="11255"/>
                  <a:pt x="5184" y="11311"/>
                </a:cubicBezTo>
                <a:cubicBezTo>
                  <a:pt x="5180" y="11383"/>
                  <a:pt x="5171" y="11440"/>
                  <a:pt x="5159" y="11509"/>
                </a:cubicBezTo>
                <a:cubicBezTo>
                  <a:pt x="5142" y="11607"/>
                  <a:pt x="5115" y="11709"/>
                  <a:pt x="5110" y="11807"/>
                </a:cubicBezTo>
                <a:cubicBezTo>
                  <a:pt x="5106" y="11883"/>
                  <a:pt x="5084" y="11929"/>
                  <a:pt x="5110" y="12005"/>
                </a:cubicBezTo>
                <a:cubicBezTo>
                  <a:pt x="5134" y="12077"/>
                  <a:pt x="5168" y="12110"/>
                  <a:pt x="5234" y="12154"/>
                </a:cubicBezTo>
                <a:cubicBezTo>
                  <a:pt x="5276" y="12182"/>
                  <a:pt x="5382" y="12198"/>
                  <a:pt x="5432" y="12179"/>
                </a:cubicBezTo>
                <a:cubicBezTo>
                  <a:pt x="5473" y="12163"/>
                  <a:pt x="5527" y="12150"/>
                  <a:pt x="5556" y="12105"/>
                </a:cubicBezTo>
                <a:cubicBezTo>
                  <a:pt x="5605" y="12029"/>
                  <a:pt x="5606" y="11999"/>
                  <a:pt x="5606" y="11906"/>
                </a:cubicBezTo>
                <a:cubicBezTo>
                  <a:pt x="5606" y="11861"/>
                  <a:pt x="5604" y="11816"/>
                  <a:pt x="5581" y="11782"/>
                </a:cubicBezTo>
                <a:cubicBezTo>
                  <a:pt x="5563" y="11756"/>
                  <a:pt x="5511" y="11736"/>
                  <a:pt x="5482" y="11733"/>
                </a:cubicBezTo>
                <a:cubicBezTo>
                  <a:pt x="5430" y="11727"/>
                  <a:pt x="5418" y="11747"/>
                  <a:pt x="5383" y="11782"/>
                </a:cubicBezTo>
                <a:cubicBezTo>
                  <a:pt x="5357" y="11808"/>
                  <a:pt x="5335" y="11870"/>
                  <a:pt x="5333" y="11906"/>
                </a:cubicBezTo>
                <a:cubicBezTo>
                  <a:pt x="5330" y="11968"/>
                  <a:pt x="5320" y="12058"/>
                  <a:pt x="5358" y="12105"/>
                </a:cubicBezTo>
                <a:cubicBezTo>
                  <a:pt x="5366" y="12113"/>
                  <a:pt x="5375" y="12121"/>
                  <a:pt x="5383" y="12129"/>
                </a:cubicBezTo>
              </a:path>
              <a:path w="5384" h="1738">
                <a:moveTo>
                  <a:pt x="5804" y="11137"/>
                </a:moveTo>
                <a:cubicBezTo>
                  <a:pt x="5825" y="11101"/>
                  <a:pt x="5847" y="11036"/>
                  <a:pt x="5879" y="11013"/>
                </a:cubicBezTo>
                <a:cubicBezTo>
                  <a:pt x="5893" y="11003"/>
                  <a:pt x="5960" y="10969"/>
                  <a:pt x="5978" y="10964"/>
                </a:cubicBezTo>
                <a:cubicBezTo>
                  <a:pt x="6026" y="10952"/>
                  <a:pt x="6033" y="10966"/>
                  <a:pt x="6077" y="10939"/>
                </a:cubicBezTo>
                <a:cubicBezTo>
                  <a:pt x="6123" y="10966"/>
                  <a:pt x="6155" y="10947"/>
                  <a:pt x="6201" y="10964"/>
                </a:cubicBezTo>
                <a:cubicBezTo>
                  <a:pt x="6251" y="10983"/>
                  <a:pt x="6277" y="11057"/>
                  <a:pt x="6300" y="11088"/>
                </a:cubicBezTo>
                <a:cubicBezTo>
                  <a:pt x="6330" y="11127"/>
                  <a:pt x="6322" y="11138"/>
                  <a:pt x="6325" y="11187"/>
                </a:cubicBezTo>
                <a:cubicBezTo>
                  <a:pt x="6328" y="11237"/>
                  <a:pt x="6308" y="11273"/>
                  <a:pt x="6300" y="11311"/>
                </a:cubicBezTo>
                <a:cubicBezTo>
                  <a:pt x="6294" y="11340"/>
                  <a:pt x="6279" y="11389"/>
                  <a:pt x="6276" y="11410"/>
                </a:cubicBezTo>
                <a:cubicBezTo>
                  <a:pt x="6269" y="11455"/>
                  <a:pt x="6258" y="11499"/>
                  <a:pt x="6251" y="11534"/>
                </a:cubicBezTo>
                <a:cubicBezTo>
                  <a:pt x="6244" y="11571"/>
                  <a:pt x="6245" y="11602"/>
                  <a:pt x="6226" y="11633"/>
                </a:cubicBezTo>
                <a:cubicBezTo>
                  <a:pt x="6207" y="11664"/>
                  <a:pt x="6194" y="11706"/>
                  <a:pt x="6176" y="11733"/>
                </a:cubicBezTo>
                <a:cubicBezTo>
                  <a:pt x="6146" y="11776"/>
                  <a:pt x="6132" y="11814"/>
                  <a:pt x="6102" y="11857"/>
                </a:cubicBezTo>
                <a:cubicBezTo>
                  <a:pt x="6080" y="11888"/>
                  <a:pt x="6013" y="11946"/>
                  <a:pt x="6003" y="11981"/>
                </a:cubicBezTo>
                <a:cubicBezTo>
                  <a:pt x="5993" y="12016"/>
                  <a:pt x="5997" y="12050"/>
                  <a:pt x="5978" y="12080"/>
                </a:cubicBezTo>
                <a:cubicBezTo>
                  <a:pt x="5970" y="12088"/>
                  <a:pt x="5961" y="12097"/>
                  <a:pt x="5953" y="12105"/>
                </a:cubicBezTo>
                <a:cubicBezTo>
                  <a:pt x="6000" y="12123"/>
                  <a:pt x="6012" y="12123"/>
                  <a:pt x="6052" y="12129"/>
                </a:cubicBezTo>
                <a:cubicBezTo>
                  <a:pt x="6102" y="12136"/>
                  <a:pt x="6161" y="12148"/>
                  <a:pt x="6201" y="12154"/>
                </a:cubicBezTo>
                <a:cubicBezTo>
                  <a:pt x="6253" y="12162"/>
                  <a:pt x="6300" y="12172"/>
                  <a:pt x="6350" y="12179"/>
                </a:cubicBezTo>
                <a:cubicBezTo>
                  <a:pt x="6402" y="12187"/>
                  <a:pt x="6422" y="12201"/>
                  <a:pt x="6474" y="12204"/>
                </a:cubicBezTo>
                <a:cubicBezTo>
                  <a:pt x="6516" y="12206"/>
                  <a:pt x="6526" y="12197"/>
                  <a:pt x="6548" y="12179"/>
                </a:cubicBezTo>
                <a:cubicBezTo>
                  <a:pt x="6548" y="12154"/>
                  <a:pt x="6548" y="12146"/>
                  <a:pt x="6573" y="12154"/>
                </a:cubicBezTo>
              </a:path>
              <a:path w="5384" h="1738">
                <a:moveTo>
                  <a:pt x="6821" y="11981"/>
                </a:moveTo>
                <a:cubicBezTo>
                  <a:pt x="6830" y="12016"/>
                  <a:pt x="6864" y="12048"/>
                  <a:pt x="6871" y="12080"/>
                </a:cubicBezTo>
                <a:cubicBezTo>
                  <a:pt x="6883" y="12137"/>
                  <a:pt x="6911" y="12197"/>
                  <a:pt x="6921" y="12254"/>
                </a:cubicBezTo>
                <a:cubicBezTo>
                  <a:pt x="6931" y="12311"/>
                  <a:pt x="6913" y="12378"/>
                  <a:pt x="6896" y="12427"/>
                </a:cubicBezTo>
                <a:cubicBezTo>
                  <a:pt x="6879" y="12476"/>
                  <a:pt x="6826" y="12535"/>
                  <a:pt x="6796" y="12576"/>
                </a:cubicBezTo>
                <a:cubicBezTo>
                  <a:pt x="6772" y="12609"/>
                  <a:pt x="6711" y="12611"/>
                  <a:pt x="6672" y="126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86040" y="3956040"/>
            <a:ext cx="27000" cy="393840"/>
          </a:xfrm>
          <a:custGeom>
            <a:avLst/>
            <a:gdLst/>
            <a:ahLst/>
            <a:rect l="l" t="t" r="r" b="b"/>
            <a:pathLst>
              <a:path w="75" h="1093">
                <a:moveTo>
                  <a:pt x="7789" y="10988"/>
                </a:moveTo>
                <a:cubicBezTo>
                  <a:pt x="7789" y="11053"/>
                  <a:pt x="7803" y="11109"/>
                  <a:pt x="7813" y="11162"/>
                </a:cubicBezTo>
                <a:cubicBezTo>
                  <a:pt x="7830" y="11250"/>
                  <a:pt x="7798" y="11327"/>
                  <a:pt x="7789" y="11410"/>
                </a:cubicBezTo>
                <a:cubicBezTo>
                  <a:pt x="7778" y="11511"/>
                  <a:pt x="7778" y="11609"/>
                  <a:pt x="7764" y="11708"/>
                </a:cubicBezTo>
                <a:cubicBezTo>
                  <a:pt x="7752" y="11797"/>
                  <a:pt x="7745" y="11892"/>
                  <a:pt x="7739" y="11981"/>
                </a:cubicBezTo>
                <a:cubicBezTo>
                  <a:pt x="7738" y="11997"/>
                  <a:pt x="7739" y="12119"/>
                  <a:pt x="7739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2960" y="3956040"/>
            <a:ext cx="892080" cy="588960"/>
          </a:xfrm>
          <a:custGeom>
            <a:avLst/>
            <a:gdLst/>
            <a:ahLst/>
            <a:rect l="l" t="t" r="r" b="b"/>
            <a:pathLst>
              <a:path w="2481" h="1639">
                <a:moveTo>
                  <a:pt x="8731" y="11162"/>
                </a:moveTo>
                <a:cubicBezTo>
                  <a:pt x="8723" y="11064"/>
                  <a:pt x="8726" y="11057"/>
                  <a:pt x="8682" y="11013"/>
                </a:cubicBezTo>
                <a:cubicBezTo>
                  <a:pt x="8633" y="10964"/>
                  <a:pt x="8566" y="10992"/>
                  <a:pt x="8508" y="11013"/>
                </a:cubicBezTo>
                <a:cubicBezTo>
                  <a:pt x="8447" y="11035"/>
                  <a:pt x="8404" y="11093"/>
                  <a:pt x="8359" y="11137"/>
                </a:cubicBezTo>
                <a:cubicBezTo>
                  <a:pt x="8324" y="11172"/>
                  <a:pt x="8295" y="11238"/>
                  <a:pt x="8285" y="11286"/>
                </a:cubicBezTo>
                <a:cubicBezTo>
                  <a:pt x="8276" y="11329"/>
                  <a:pt x="8290" y="11401"/>
                  <a:pt x="8310" y="11435"/>
                </a:cubicBezTo>
                <a:cubicBezTo>
                  <a:pt x="8351" y="11506"/>
                  <a:pt x="8389" y="11506"/>
                  <a:pt x="8458" y="11509"/>
                </a:cubicBezTo>
                <a:cubicBezTo>
                  <a:pt x="8524" y="11512"/>
                  <a:pt x="8557" y="11505"/>
                  <a:pt x="8607" y="11460"/>
                </a:cubicBezTo>
                <a:cubicBezTo>
                  <a:pt x="8673" y="11401"/>
                  <a:pt x="8704" y="11360"/>
                  <a:pt x="8731" y="11286"/>
                </a:cubicBezTo>
                <a:cubicBezTo>
                  <a:pt x="8744" y="11249"/>
                  <a:pt x="8752" y="11230"/>
                  <a:pt x="8756" y="11187"/>
                </a:cubicBezTo>
                <a:cubicBezTo>
                  <a:pt x="8756" y="11179"/>
                  <a:pt x="8756" y="11170"/>
                  <a:pt x="8756" y="11162"/>
                </a:cubicBezTo>
                <a:cubicBezTo>
                  <a:pt x="8756" y="11282"/>
                  <a:pt x="8746" y="11396"/>
                  <a:pt x="8731" y="11509"/>
                </a:cubicBezTo>
                <a:cubicBezTo>
                  <a:pt x="8719" y="11598"/>
                  <a:pt x="8751" y="11671"/>
                  <a:pt x="8756" y="11757"/>
                </a:cubicBezTo>
                <a:cubicBezTo>
                  <a:pt x="8760" y="11831"/>
                  <a:pt x="8771" y="11889"/>
                  <a:pt x="8781" y="11956"/>
                </a:cubicBezTo>
                <a:cubicBezTo>
                  <a:pt x="8792" y="12025"/>
                  <a:pt x="8770" y="12071"/>
                  <a:pt x="8806" y="12129"/>
                </a:cubicBezTo>
                <a:cubicBezTo>
                  <a:pt x="8829" y="12166"/>
                  <a:pt x="8806" y="12071"/>
                  <a:pt x="8806" y="12030"/>
                </a:cubicBezTo>
              </a:path>
              <a:path w="2481" h="1639">
                <a:moveTo>
                  <a:pt x="9252" y="11137"/>
                </a:moveTo>
                <a:cubicBezTo>
                  <a:pt x="9252" y="11184"/>
                  <a:pt x="9235" y="11200"/>
                  <a:pt x="9227" y="11237"/>
                </a:cubicBezTo>
                <a:cubicBezTo>
                  <a:pt x="9211" y="11310"/>
                  <a:pt x="9188" y="11378"/>
                  <a:pt x="9178" y="11460"/>
                </a:cubicBezTo>
                <a:cubicBezTo>
                  <a:pt x="9168" y="11539"/>
                  <a:pt x="9153" y="11599"/>
                  <a:pt x="9153" y="11683"/>
                </a:cubicBezTo>
                <a:cubicBezTo>
                  <a:pt x="9153" y="11759"/>
                  <a:pt x="9162" y="11810"/>
                  <a:pt x="9178" y="11881"/>
                </a:cubicBezTo>
                <a:cubicBezTo>
                  <a:pt x="9193" y="11946"/>
                  <a:pt x="9219" y="11971"/>
                  <a:pt x="9277" y="12005"/>
                </a:cubicBezTo>
                <a:cubicBezTo>
                  <a:pt x="9340" y="12042"/>
                  <a:pt x="9376" y="12076"/>
                  <a:pt x="9451" y="12080"/>
                </a:cubicBezTo>
                <a:cubicBezTo>
                  <a:pt x="9506" y="12083"/>
                  <a:pt x="9578" y="12082"/>
                  <a:pt x="9624" y="12055"/>
                </a:cubicBezTo>
                <a:cubicBezTo>
                  <a:pt x="9680" y="12021"/>
                  <a:pt x="9718" y="11965"/>
                  <a:pt x="9723" y="11906"/>
                </a:cubicBezTo>
                <a:cubicBezTo>
                  <a:pt x="9726" y="11863"/>
                  <a:pt x="9727" y="11839"/>
                  <a:pt x="9699" y="11807"/>
                </a:cubicBezTo>
                <a:cubicBezTo>
                  <a:pt x="9659" y="11762"/>
                  <a:pt x="9640" y="11811"/>
                  <a:pt x="9624" y="11832"/>
                </a:cubicBezTo>
                <a:cubicBezTo>
                  <a:pt x="9595" y="11871"/>
                  <a:pt x="9568" y="11889"/>
                  <a:pt x="9550" y="11931"/>
                </a:cubicBezTo>
                <a:cubicBezTo>
                  <a:pt x="9530" y="11979"/>
                  <a:pt x="9509" y="12050"/>
                  <a:pt x="9525" y="12105"/>
                </a:cubicBezTo>
                <a:cubicBezTo>
                  <a:pt x="9545" y="12145"/>
                  <a:pt x="9554" y="12151"/>
                  <a:pt x="9550" y="12179"/>
                </a:cubicBezTo>
              </a:path>
              <a:path w="2481" h="1639">
                <a:moveTo>
                  <a:pt x="10170" y="12129"/>
                </a:moveTo>
                <a:cubicBezTo>
                  <a:pt x="10132" y="12277"/>
                  <a:pt x="10116" y="12389"/>
                  <a:pt x="10021" y="12502"/>
                </a:cubicBezTo>
                <a:cubicBezTo>
                  <a:pt x="9976" y="12555"/>
                  <a:pt x="9951" y="12588"/>
                  <a:pt x="9897" y="12626"/>
                </a:cubicBezTo>
              </a:path>
              <a:path w="2481" h="1639">
                <a:moveTo>
                  <a:pt x="10567" y="11485"/>
                </a:moveTo>
                <a:cubicBezTo>
                  <a:pt x="10633" y="11485"/>
                  <a:pt x="10699" y="11485"/>
                  <a:pt x="10765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71960" y="4037040"/>
            <a:ext cx="768240" cy="357120"/>
          </a:xfrm>
          <a:custGeom>
            <a:avLst/>
            <a:gdLst/>
            <a:ahLst/>
            <a:rect l="l" t="t" r="r" b="b"/>
            <a:pathLst>
              <a:path w="2134" h="993">
                <a:moveTo>
                  <a:pt x="11385" y="11261"/>
                </a:moveTo>
                <a:cubicBezTo>
                  <a:pt x="11534" y="11261"/>
                  <a:pt x="11683" y="11261"/>
                  <a:pt x="11832" y="11261"/>
                </a:cubicBezTo>
              </a:path>
              <a:path w="2134" h="993">
                <a:moveTo>
                  <a:pt x="11460" y="11212"/>
                </a:moveTo>
                <a:cubicBezTo>
                  <a:pt x="11375" y="11296"/>
                  <a:pt x="11378" y="11302"/>
                  <a:pt x="11336" y="11385"/>
                </a:cubicBezTo>
                <a:cubicBezTo>
                  <a:pt x="11322" y="11413"/>
                  <a:pt x="11289" y="11471"/>
                  <a:pt x="11311" y="11509"/>
                </a:cubicBezTo>
                <a:cubicBezTo>
                  <a:pt x="11322" y="11529"/>
                  <a:pt x="11355" y="11581"/>
                  <a:pt x="11361" y="11584"/>
                </a:cubicBezTo>
                <a:cubicBezTo>
                  <a:pt x="11390" y="11599"/>
                  <a:pt x="11436" y="11542"/>
                  <a:pt x="11460" y="11534"/>
                </a:cubicBezTo>
                <a:cubicBezTo>
                  <a:pt x="11485" y="11526"/>
                  <a:pt x="11505" y="11525"/>
                  <a:pt x="11534" y="11509"/>
                </a:cubicBezTo>
                <a:cubicBezTo>
                  <a:pt x="11568" y="11491"/>
                  <a:pt x="11612" y="11466"/>
                  <a:pt x="11658" y="11485"/>
                </a:cubicBezTo>
                <a:cubicBezTo>
                  <a:pt x="11707" y="11505"/>
                  <a:pt x="11742" y="11543"/>
                  <a:pt x="11782" y="11584"/>
                </a:cubicBezTo>
                <a:cubicBezTo>
                  <a:pt x="11814" y="11616"/>
                  <a:pt x="11870" y="11666"/>
                  <a:pt x="11881" y="11708"/>
                </a:cubicBezTo>
                <a:cubicBezTo>
                  <a:pt x="11898" y="11773"/>
                  <a:pt x="11906" y="11836"/>
                  <a:pt x="11906" y="11906"/>
                </a:cubicBezTo>
                <a:cubicBezTo>
                  <a:pt x="11906" y="11972"/>
                  <a:pt x="11892" y="12041"/>
                  <a:pt x="11832" y="12080"/>
                </a:cubicBezTo>
                <a:cubicBezTo>
                  <a:pt x="11775" y="12117"/>
                  <a:pt x="11750" y="12129"/>
                  <a:pt x="11683" y="12129"/>
                </a:cubicBezTo>
                <a:cubicBezTo>
                  <a:pt x="11617" y="12129"/>
                  <a:pt x="11562" y="12139"/>
                  <a:pt x="11509" y="12105"/>
                </a:cubicBezTo>
                <a:cubicBezTo>
                  <a:pt x="11459" y="12072"/>
                  <a:pt x="11384" y="12026"/>
                  <a:pt x="11361" y="11981"/>
                </a:cubicBezTo>
              </a:path>
              <a:path w="2134" h="993">
                <a:moveTo>
                  <a:pt x="12154" y="11311"/>
                </a:moveTo>
                <a:cubicBezTo>
                  <a:pt x="12249" y="11311"/>
                  <a:pt x="12297" y="11329"/>
                  <a:pt x="12378" y="11336"/>
                </a:cubicBezTo>
                <a:cubicBezTo>
                  <a:pt x="12467" y="11344"/>
                  <a:pt x="12560" y="11336"/>
                  <a:pt x="12650" y="11336"/>
                </a:cubicBezTo>
                <a:cubicBezTo>
                  <a:pt x="12598" y="11349"/>
                  <a:pt x="12596" y="11382"/>
                  <a:pt x="12576" y="11435"/>
                </a:cubicBezTo>
                <a:cubicBezTo>
                  <a:pt x="12550" y="11504"/>
                  <a:pt x="12530" y="11586"/>
                  <a:pt x="12526" y="11658"/>
                </a:cubicBezTo>
                <a:cubicBezTo>
                  <a:pt x="12521" y="11745"/>
                  <a:pt x="12502" y="11813"/>
                  <a:pt x="12502" y="11906"/>
                </a:cubicBezTo>
                <a:cubicBezTo>
                  <a:pt x="12502" y="11975"/>
                  <a:pt x="12487" y="12051"/>
                  <a:pt x="12526" y="12105"/>
                </a:cubicBezTo>
                <a:cubicBezTo>
                  <a:pt x="12536" y="12063"/>
                  <a:pt x="12544" y="12053"/>
                  <a:pt x="12551" y="12005"/>
                </a:cubicBezTo>
              </a:path>
              <a:path w="2134" h="993">
                <a:moveTo>
                  <a:pt x="13295" y="11361"/>
                </a:moveTo>
                <a:cubicBezTo>
                  <a:pt x="13295" y="11261"/>
                  <a:pt x="13307" y="11278"/>
                  <a:pt x="13246" y="11237"/>
                </a:cubicBezTo>
                <a:cubicBezTo>
                  <a:pt x="13198" y="11205"/>
                  <a:pt x="13155" y="11212"/>
                  <a:pt x="13097" y="11212"/>
                </a:cubicBezTo>
                <a:cubicBezTo>
                  <a:pt x="13060" y="11212"/>
                  <a:pt x="13033" y="11254"/>
                  <a:pt x="13022" y="11286"/>
                </a:cubicBezTo>
                <a:cubicBezTo>
                  <a:pt x="13011" y="11318"/>
                  <a:pt x="13058" y="11405"/>
                  <a:pt x="13072" y="11435"/>
                </a:cubicBezTo>
                <a:cubicBezTo>
                  <a:pt x="13110" y="11517"/>
                  <a:pt x="13164" y="11613"/>
                  <a:pt x="13221" y="11683"/>
                </a:cubicBezTo>
                <a:cubicBezTo>
                  <a:pt x="13265" y="11737"/>
                  <a:pt x="13355" y="11836"/>
                  <a:pt x="13370" y="11906"/>
                </a:cubicBezTo>
                <a:cubicBezTo>
                  <a:pt x="13385" y="11976"/>
                  <a:pt x="13395" y="12030"/>
                  <a:pt x="13395" y="12105"/>
                </a:cubicBezTo>
                <a:cubicBezTo>
                  <a:pt x="13395" y="12162"/>
                  <a:pt x="13365" y="12221"/>
                  <a:pt x="13295" y="12204"/>
                </a:cubicBezTo>
                <a:cubicBezTo>
                  <a:pt x="13243" y="12192"/>
                  <a:pt x="13186" y="12165"/>
                  <a:pt x="13146" y="12129"/>
                </a:cubicBezTo>
                <a:cubicBezTo>
                  <a:pt x="13106" y="12093"/>
                  <a:pt x="13078" y="12060"/>
                  <a:pt x="13072" y="12005"/>
                </a:cubicBezTo>
                <a:cubicBezTo>
                  <a:pt x="13066" y="11947"/>
                  <a:pt x="13062" y="11876"/>
                  <a:pt x="13097" y="11832"/>
                </a:cubicBezTo>
                <a:cubicBezTo>
                  <a:pt x="13130" y="11790"/>
                  <a:pt x="13169" y="11753"/>
                  <a:pt x="13196" y="11708"/>
                </a:cubicBezTo>
                <a:cubicBezTo>
                  <a:pt x="13231" y="11650"/>
                  <a:pt x="13283" y="11614"/>
                  <a:pt x="13320" y="11559"/>
                </a:cubicBezTo>
                <a:cubicBezTo>
                  <a:pt x="13351" y="11512"/>
                  <a:pt x="13401" y="11438"/>
                  <a:pt x="13419" y="11385"/>
                </a:cubicBezTo>
                <a:cubicBezTo>
                  <a:pt x="13424" y="11371"/>
                  <a:pt x="13465" y="11278"/>
                  <a:pt x="13444" y="11261"/>
                </a:cubicBezTo>
                <a:cubicBezTo>
                  <a:pt x="13436" y="11261"/>
                  <a:pt x="13427" y="11261"/>
                  <a:pt x="13419" y="112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, 4, 9, 16, 25, 36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52760" y="2813040"/>
            <a:ext cx="436320" cy="303120"/>
          </a:xfrm>
          <a:custGeom>
            <a:avLst/>
            <a:gdLst/>
            <a:ahLst/>
            <a:rect l="l" t="t" r="r" b="b"/>
            <a:pathLst>
              <a:path w="1216" h="845">
                <a:moveTo>
                  <a:pt x="5135" y="7838"/>
                </a:moveTo>
                <a:cubicBezTo>
                  <a:pt x="5061" y="7813"/>
                  <a:pt x="4955" y="7800"/>
                  <a:pt x="4887" y="7863"/>
                </a:cubicBezTo>
                <a:cubicBezTo>
                  <a:pt x="4773" y="7968"/>
                  <a:pt x="4686" y="8140"/>
                  <a:pt x="4638" y="8285"/>
                </a:cubicBezTo>
                <a:cubicBezTo>
                  <a:pt x="4613" y="8361"/>
                  <a:pt x="4572" y="8460"/>
                  <a:pt x="4614" y="8533"/>
                </a:cubicBezTo>
                <a:cubicBezTo>
                  <a:pt x="4641" y="8579"/>
                  <a:pt x="4692" y="8582"/>
                  <a:pt x="4738" y="8582"/>
                </a:cubicBezTo>
                <a:cubicBezTo>
                  <a:pt x="4804" y="8582"/>
                  <a:pt x="4894" y="8513"/>
                  <a:pt x="4936" y="8458"/>
                </a:cubicBezTo>
                <a:cubicBezTo>
                  <a:pt x="4986" y="8392"/>
                  <a:pt x="5023" y="8309"/>
                  <a:pt x="5060" y="8235"/>
                </a:cubicBezTo>
                <a:cubicBezTo>
                  <a:pt x="5068" y="8219"/>
                  <a:pt x="5077" y="8202"/>
                  <a:pt x="5085" y="8186"/>
                </a:cubicBezTo>
                <a:cubicBezTo>
                  <a:pt x="5085" y="8258"/>
                  <a:pt x="5095" y="8340"/>
                  <a:pt x="5110" y="8409"/>
                </a:cubicBezTo>
                <a:cubicBezTo>
                  <a:pt x="5125" y="8474"/>
                  <a:pt x="5150" y="8590"/>
                  <a:pt x="5209" y="8632"/>
                </a:cubicBezTo>
                <a:cubicBezTo>
                  <a:pt x="5249" y="8652"/>
                  <a:pt x="5256" y="8661"/>
                  <a:pt x="5283" y="8657"/>
                </a:cubicBezTo>
              </a:path>
              <a:path w="1216" h="845">
                <a:moveTo>
                  <a:pt x="5432" y="8434"/>
                </a:moveTo>
                <a:cubicBezTo>
                  <a:pt x="5432" y="8508"/>
                  <a:pt x="5432" y="8583"/>
                  <a:pt x="5432" y="8657"/>
                </a:cubicBezTo>
                <a:cubicBezTo>
                  <a:pt x="5483" y="8640"/>
                  <a:pt x="5441" y="8612"/>
                  <a:pt x="5457" y="8558"/>
                </a:cubicBezTo>
                <a:cubicBezTo>
                  <a:pt x="5476" y="8494"/>
                  <a:pt x="5484" y="8456"/>
                  <a:pt x="5531" y="8409"/>
                </a:cubicBezTo>
                <a:cubicBezTo>
                  <a:pt x="5584" y="8355"/>
                  <a:pt x="5641" y="8444"/>
                  <a:pt x="5680" y="8483"/>
                </a:cubicBezTo>
                <a:cubicBezTo>
                  <a:pt x="5721" y="8524"/>
                  <a:pt x="5763" y="8566"/>
                  <a:pt x="5804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6120" y="3394080"/>
            <a:ext cx="420840" cy="2259000"/>
          </a:xfrm>
          <a:custGeom>
            <a:avLst/>
            <a:gdLst/>
            <a:ahLst/>
            <a:rect l="l" t="t" r="r" b="b"/>
            <a:pathLst>
              <a:path w="1167" h="6276">
                <a:moveTo>
                  <a:pt x="4738" y="9426"/>
                </a:moveTo>
                <a:cubicBezTo>
                  <a:pt x="4738" y="9644"/>
                  <a:pt x="4734" y="9859"/>
                  <a:pt x="4762" y="10071"/>
                </a:cubicBezTo>
                <a:cubicBezTo>
                  <a:pt x="4768" y="10119"/>
                  <a:pt x="4762" y="10171"/>
                  <a:pt x="4762" y="10220"/>
                </a:cubicBezTo>
              </a:path>
              <a:path w="1167" h="6276">
                <a:moveTo>
                  <a:pt x="4564" y="10790"/>
                </a:moveTo>
                <a:cubicBezTo>
                  <a:pt x="4534" y="10836"/>
                  <a:pt x="4458" y="10922"/>
                  <a:pt x="4490" y="10988"/>
                </a:cubicBezTo>
                <a:cubicBezTo>
                  <a:pt x="4540" y="11091"/>
                  <a:pt x="4746" y="11090"/>
                  <a:pt x="4812" y="11088"/>
                </a:cubicBezTo>
                <a:cubicBezTo>
                  <a:pt x="4913" y="11086"/>
                  <a:pt x="4979" y="11039"/>
                  <a:pt x="5060" y="10988"/>
                </a:cubicBezTo>
              </a:path>
              <a:path w="1167" h="6276">
                <a:moveTo>
                  <a:pt x="4911" y="10691"/>
                </a:moveTo>
                <a:cubicBezTo>
                  <a:pt x="4867" y="10841"/>
                  <a:pt x="4765" y="11069"/>
                  <a:pt x="4787" y="11237"/>
                </a:cubicBezTo>
                <a:cubicBezTo>
                  <a:pt x="4799" y="11331"/>
                  <a:pt x="4812" y="11412"/>
                  <a:pt x="4812" y="11509"/>
                </a:cubicBezTo>
              </a:path>
              <a:path w="1167" h="6276">
                <a:moveTo>
                  <a:pt x="4663" y="12204"/>
                </a:moveTo>
                <a:cubicBezTo>
                  <a:pt x="4691" y="12144"/>
                  <a:pt x="4742" y="12055"/>
                  <a:pt x="4713" y="11981"/>
                </a:cubicBezTo>
                <a:cubicBezTo>
                  <a:pt x="4691" y="11924"/>
                  <a:pt x="4568" y="11963"/>
                  <a:pt x="4539" y="11981"/>
                </a:cubicBezTo>
                <a:cubicBezTo>
                  <a:pt x="4461" y="12029"/>
                  <a:pt x="4328" y="12118"/>
                  <a:pt x="4291" y="12204"/>
                </a:cubicBezTo>
                <a:cubicBezTo>
                  <a:pt x="4258" y="12281"/>
                  <a:pt x="4308" y="12322"/>
                  <a:pt x="4366" y="12353"/>
                </a:cubicBezTo>
                <a:cubicBezTo>
                  <a:pt x="4449" y="12397"/>
                  <a:pt x="4489" y="12370"/>
                  <a:pt x="4564" y="12328"/>
                </a:cubicBezTo>
                <a:cubicBezTo>
                  <a:pt x="4626" y="12293"/>
                  <a:pt x="4626" y="12278"/>
                  <a:pt x="4663" y="12229"/>
                </a:cubicBezTo>
                <a:cubicBezTo>
                  <a:pt x="4663" y="12292"/>
                  <a:pt x="4635" y="12341"/>
                  <a:pt x="4614" y="12402"/>
                </a:cubicBezTo>
                <a:cubicBezTo>
                  <a:pt x="4574" y="12520"/>
                  <a:pt x="4509" y="12669"/>
                  <a:pt x="4539" y="12799"/>
                </a:cubicBezTo>
                <a:cubicBezTo>
                  <a:pt x="4550" y="12848"/>
                  <a:pt x="4564" y="12870"/>
                  <a:pt x="4564" y="12923"/>
                </a:cubicBezTo>
              </a:path>
              <a:path w="1167" h="6276">
                <a:moveTo>
                  <a:pt x="4415" y="13072"/>
                </a:moveTo>
                <a:cubicBezTo>
                  <a:pt x="4376" y="13261"/>
                  <a:pt x="4331" y="13452"/>
                  <a:pt x="4316" y="13643"/>
                </a:cubicBezTo>
                <a:cubicBezTo>
                  <a:pt x="4307" y="13757"/>
                  <a:pt x="4316" y="13875"/>
                  <a:pt x="4316" y="13990"/>
                </a:cubicBezTo>
              </a:path>
              <a:path w="1167" h="6276">
                <a:moveTo>
                  <a:pt x="4614" y="13494"/>
                </a:moveTo>
                <a:cubicBezTo>
                  <a:pt x="4575" y="13594"/>
                  <a:pt x="4483" y="13734"/>
                  <a:pt x="4490" y="13841"/>
                </a:cubicBezTo>
                <a:cubicBezTo>
                  <a:pt x="4499" y="13971"/>
                  <a:pt x="4548" y="14101"/>
                  <a:pt x="4688" y="14139"/>
                </a:cubicBezTo>
                <a:cubicBezTo>
                  <a:pt x="4762" y="14159"/>
                  <a:pt x="4876" y="14133"/>
                  <a:pt x="4936" y="14089"/>
                </a:cubicBezTo>
                <a:cubicBezTo>
                  <a:pt x="5004" y="14039"/>
                  <a:pt x="5026" y="13968"/>
                  <a:pt x="5035" y="13891"/>
                </a:cubicBezTo>
                <a:cubicBezTo>
                  <a:pt x="4965" y="13848"/>
                  <a:pt x="4918" y="13870"/>
                  <a:pt x="4837" y="13891"/>
                </a:cubicBezTo>
                <a:cubicBezTo>
                  <a:pt x="4666" y="13934"/>
                  <a:pt x="4613" y="14018"/>
                  <a:pt x="4589" y="14188"/>
                </a:cubicBezTo>
                <a:cubicBezTo>
                  <a:pt x="4589" y="14213"/>
                  <a:pt x="4589" y="14238"/>
                  <a:pt x="4589" y="14263"/>
                </a:cubicBezTo>
              </a:path>
              <a:path w="1167" h="6276">
                <a:moveTo>
                  <a:pt x="4167" y="14660"/>
                </a:moveTo>
                <a:cubicBezTo>
                  <a:pt x="4312" y="14624"/>
                  <a:pt x="4340" y="14629"/>
                  <a:pt x="4440" y="14734"/>
                </a:cubicBezTo>
                <a:cubicBezTo>
                  <a:pt x="4505" y="14802"/>
                  <a:pt x="4551" y="14892"/>
                  <a:pt x="4490" y="14982"/>
                </a:cubicBezTo>
                <a:cubicBezTo>
                  <a:pt x="4389" y="15131"/>
                  <a:pt x="4275" y="15125"/>
                  <a:pt x="4142" y="15230"/>
                </a:cubicBezTo>
                <a:cubicBezTo>
                  <a:pt x="4095" y="15267"/>
                  <a:pt x="4032" y="15324"/>
                  <a:pt x="4018" y="15379"/>
                </a:cubicBezTo>
                <a:cubicBezTo>
                  <a:pt x="4035" y="15448"/>
                  <a:pt x="4101" y="15455"/>
                  <a:pt x="4167" y="15478"/>
                </a:cubicBezTo>
                <a:cubicBezTo>
                  <a:pt x="4297" y="15523"/>
                  <a:pt x="4382" y="15534"/>
                  <a:pt x="4514" y="15503"/>
                </a:cubicBezTo>
              </a:path>
              <a:path w="1167" h="6276">
                <a:moveTo>
                  <a:pt x="4762" y="14858"/>
                </a:moveTo>
                <a:cubicBezTo>
                  <a:pt x="4941" y="14893"/>
                  <a:pt x="5031" y="14933"/>
                  <a:pt x="5184" y="14908"/>
                </a:cubicBezTo>
              </a:path>
              <a:path w="1167" h="6276">
                <a:moveTo>
                  <a:pt x="4812" y="14808"/>
                </a:moveTo>
                <a:cubicBezTo>
                  <a:pt x="4732" y="14915"/>
                  <a:pt x="4784" y="14947"/>
                  <a:pt x="4862" y="15056"/>
                </a:cubicBezTo>
                <a:cubicBezTo>
                  <a:pt x="4965" y="15199"/>
                  <a:pt x="5038" y="15298"/>
                  <a:pt x="5060" y="15478"/>
                </a:cubicBezTo>
                <a:cubicBezTo>
                  <a:pt x="5071" y="15568"/>
                  <a:pt x="5016" y="15617"/>
                  <a:pt x="4936" y="15652"/>
                </a:cubicBezTo>
                <a:cubicBezTo>
                  <a:pt x="4849" y="15690"/>
                  <a:pt x="4779" y="15722"/>
                  <a:pt x="4688" y="15677"/>
                </a:cubicBezTo>
                <a:cubicBezTo>
                  <a:pt x="4582" y="15624"/>
                  <a:pt x="4618" y="15513"/>
                  <a:pt x="4638" y="154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5960" y="2820960"/>
            <a:ext cx="473040" cy="2697120"/>
          </a:xfrm>
          <a:custGeom>
            <a:avLst/>
            <a:gdLst/>
            <a:ahLst/>
            <a:rect l="l" t="t" r="r" b="b"/>
            <a:pathLst>
              <a:path w="1315" h="7492">
                <a:moveTo>
                  <a:pt x="2332" y="8012"/>
                </a:moveTo>
                <a:cubicBezTo>
                  <a:pt x="2332" y="8109"/>
                  <a:pt x="2329" y="8189"/>
                  <a:pt x="2307" y="8285"/>
                </a:cubicBezTo>
                <a:cubicBezTo>
                  <a:pt x="2281" y="8397"/>
                  <a:pt x="2257" y="8492"/>
                  <a:pt x="2257" y="8607"/>
                </a:cubicBezTo>
                <a:cubicBezTo>
                  <a:pt x="2257" y="8615"/>
                  <a:pt x="2257" y="8699"/>
                  <a:pt x="2257" y="8632"/>
                </a:cubicBezTo>
                <a:cubicBezTo>
                  <a:pt x="2288" y="8550"/>
                  <a:pt x="2288" y="8469"/>
                  <a:pt x="2307" y="8384"/>
                </a:cubicBezTo>
                <a:cubicBezTo>
                  <a:pt x="2331" y="8277"/>
                  <a:pt x="2372" y="8167"/>
                  <a:pt x="2406" y="8062"/>
                </a:cubicBezTo>
                <a:cubicBezTo>
                  <a:pt x="2439" y="7960"/>
                  <a:pt x="2441" y="7867"/>
                  <a:pt x="2555" y="7838"/>
                </a:cubicBezTo>
                <a:cubicBezTo>
                  <a:pt x="2643" y="7816"/>
                  <a:pt x="2690" y="7904"/>
                  <a:pt x="2729" y="7962"/>
                </a:cubicBezTo>
                <a:cubicBezTo>
                  <a:pt x="2801" y="8068"/>
                  <a:pt x="2793" y="8168"/>
                  <a:pt x="2828" y="8285"/>
                </a:cubicBezTo>
                <a:cubicBezTo>
                  <a:pt x="2851" y="8363"/>
                  <a:pt x="2875" y="8467"/>
                  <a:pt x="2927" y="8533"/>
                </a:cubicBezTo>
                <a:cubicBezTo>
                  <a:pt x="2968" y="8585"/>
                  <a:pt x="2990" y="8634"/>
                  <a:pt x="3026" y="8682"/>
                </a:cubicBezTo>
              </a:path>
              <a:path w="1315" h="7492">
                <a:moveTo>
                  <a:pt x="2381" y="9277"/>
                </a:moveTo>
                <a:cubicBezTo>
                  <a:pt x="2381" y="9439"/>
                  <a:pt x="2389" y="9592"/>
                  <a:pt x="2406" y="9748"/>
                </a:cubicBezTo>
                <a:cubicBezTo>
                  <a:pt x="2418" y="9854"/>
                  <a:pt x="2422" y="10014"/>
                  <a:pt x="2406" y="10096"/>
                </a:cubicBezTo>
              </a:path>
              <a:path w="1315" h="7492">
                <a:moveTo>
                  <a:pt x="2084" y="10492"/>
                </a:moveTo>
                <a:cubicBezTo>
                  <a:pt x="2185" y="10467"/>
                  <a:pt x="2285" y="10456"/>
                  <a:pt x="2381" y="10517"/>
                </a:cubicBezTo>
                <a:cubicBezTo>
                  <a:pt x="2453" y="10563"/>
                  <a:pt x="2501" y="10633"/>
                  <a:pt x="2505" y="10716"/>
                </a:cubicBezTo>
                <a:cubicBezTo>
                  <a:pt x="2510" y="10819"/>
                  <a:pt x="2425" y="10891"/>
                  <a:pt x="2356" y="10964"/>
                </a:cubicBezTo>
                <a:cubicBezTo>
                  <a:pt x="2316" y="11006"/>
                  <a:pt x="2275" y="11028"/>
                  <a:pt x="2232" y="11063"/>
                </a:cubicBezTo>
                <a:cubicBezTo>
                  <a:pt x="2240" y="11096"/>
                  <a:pt x="2271" y="11145"/>
                  <a:pt x="2307" y="11162"/>
                </a:cubicBezTo>
                <a:cubicBezTo>
                  <a:pt x="2389" y="11201"/>
                  <a:pt x="2514" y="11209"/>
                  <a:pt x="2604" y="11212"/>
                </a:cubicBezTo>
                <a:cubicBezTo>
                  <a:pt x="2687" y="11212"/>
                  <a:pt x="2703" y="11212"/>
                  <a:pt x="2753" y="11212"/>
                </a:cubicBezTo>
              </a:path>
              <a:path w="1315" h="7492">
                <a:moveTo>
                  <a:pt x="2133" y="11683"/>
                </a:moveTo>
                <a:cubicBezTo>
                  <a:pt x="2245" y="11690"/>
                  <a:pt x="2403" y="11700"/>
                  <a:pt x="2505" y="11757"/>
                </a:cubicBezTo>
                <a:cubicBezTo>
                  <a:pt x="2581" y="11799"/>
                  <a:pt x="2573" y="11873"/>
                  <a:pt x="2505" y="11906"/>
                </a:cubicBezTo>
                <a:cubicBezTo>
                  <a:pt x="2429" y="11943"/>
                  <a:pt x="2366" y="11992"/>
                  <a:pt x="2282" y="12005"/>
                </a:cubicBezTo>
                <a:cubicBezTo>
                  <a:pt x="2240" y="12005"/>
                  <a:pt x="2224" y="11997"/>
                  <a:pt x="2232" y="12030"/>
                </a:cubicBezTo>
                <a:cubicBezTo>
                  <a:pt x="2243" y="12064"/>
                  <a:pt x="2317" y="12092"/>
                  <a:pt x="2356" y="12129"/>
                </a:cubicBezTo>
                <a:cubicBezTo>
                  <a:pt x="2405" y="12175"/>
                  <a:pt x="2535" y="12244"/>
                  <a:pt x="2530" y="12328"/>
                </a:cubicBezTo>
                <a:cubicBezTo>
                  <a:pt x="2525" y="12410"/>
                  <a:pt x="2410" y="12451"/>
                  <a:pt x="2356" y="12477"/>
                </a:cubicBezTo>
                <a:cubicBezTo>
                  <a:pt x="2286" y="12511"/>
                  <a:pt x="2218" y="12509"/>
                  <a:pt x="2158" y="12502"/>
                </a:cubicBezTo>
                <a:cubicBezTo>
                  <a:pt x="2108" y="12496"/>
                  <a:pt x="2101" y="12488"/>
                  <a:pt x="2059" y="12477"/>
                </a:cubicBezTo>
              </a:path>
              <a:path w="1315" h="7492">
                <a:moveTo>
                  <a:pt x="2084" y="12948"/>
                </a:moveTo>
                <a:cubicBezTo>
                  <a:pt x="2041" y="13111"/>
                  <a:pt x="1990" y="13169"/>
                  <a:pt x="2133" y="13271"/>
                </a:cubicBezTo>
                <a:cubicBezTo>
                  <a:pt x="2171" y="13298"/>
                  <a:pt x="2311" y="13320"/>
                  <a:pt x="2356" y="13295"/>
                </a:cubicBezTo>
                <a:cubicBezTo>
                  <a:pt x="2373" y="13279"/>
                  <a:pt x="2389" y="13262"/>
                  <a:pt x="2406" y="13246"/>
                </a:cubicBezTo>
              </a:path>
              <a:path w="1315" h="7492">
                <a:moveTo>
                  <a:pt x="2456" y="13196"/>
                </a:moveTo>
                <a:cubicBezTo>
                  <a:pt x="2345" y="13501"/>
                  <a:pt x="2306" y="13578"/>
                  <a:pt x="2332" y="13866"/>
                </a:cubicBezTo>
                <a:cubicBezTo>
                  <a:pt x="2339" y="13948"/>
                  <a:pt x="2366" y="14012"/>
                  <a:pt x="2381" y="14089"/>
                </a:cubicBezTo>
              </a:path>
              <a:path w="1315" h="7492">
                <a:moveTo>
                  <a:pt x="2108" y="14362"/>
                </a:moveTo>
                <a:cubicBezTo>
                  <a:pt x="2287" y="14389"/>
                  <a:pt x="2385" y="14394"/>
                  <a:pt x="2555" y="14387"/>
                </a:cubicBezTo>
                <a:cubicBezTo>
                  <a:pt x="2571" y="14387"/>
                  <a:pt x="2588" y="14387"/>
                  <a:pt x="2604" y="14387"/>
                </a:cubicBezTo>
              </a:path>
              <a:path w="1315" h="7492">
                <a:moveTo>
                  <a:pt x="2108" y="14436"/>
                </a:moveTo>
                <a:cubicBezTo>
                  <a:pt x="2068" y="14465"/>
                  <a:pt x="1932" y="14533"/>
                  <a:pt x="1984" y="14610"/>
                </a:cubicBezTo>
                <a:cubicBezTo>
                  <a:pt x="2033" y="14683"/>
                  <a:pt x="2120" y="14729"/>
                  <a:pt x="2183" y="14784"/>
                </a:cubicBezTo>
                <a:cubicBezTo>
                  <a:pt x="2268" y="14859"/>
                  <a:pt x="2361" y="15011"/>
                  <a:pt x="2356" y="15131"/>
                </a:cubicBezTo>
                <a:cubicBezTo>
                  <a:pt x="2352" y="15225"/>
                  <a:pt x="2222" y="15253"/>
                  <a:pt x="2158" y="15280"/>
                </a:cubicBezTo>
                <a:cubicBezTo>
                  <a:pt x="2067" y="15318"/>
                  <a:pt x="2006" y="15333"/>
                  <a:pt x="1910" y="15304"/>
                </a:cubicBezTo>
                <a:cubicBezTo>
                  <a:pt x="1863" y="15290"/>
                  <a:pt x="1797" y="15279"/>
                  <a:pt x="1761" y="15255"/>
                </a:cubicBezTo>
                <a:cubicBezTo>
                  <a:pt x="1739" y="15233"/>
                  <a:pt x="1734" y="15224"/>
                  <a:pt x="1712" y="15230"/>
                </a:cubicBezTo>
                <a:cubicBezTo>
                  <a:pt x="1712" y="15266"/>
                  <a:pt x="1696" y="15301"/>
                  <a:pt x="1736" y="15304"/>
                </a:cubicBezTo>
                <a:cubicBezTo>
                  <a:pt x="1753" y="15304"/>
                  <a:pt x="1769" y="15304"/>
                  <a:pt x="1786" y="153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71840" y="3660840"/>
            <a:ext cx="1393560" cy="598320"/>
          </a:xfrm>
          <a:custGeom>
            <a:avLst/>
            <a:gdLst/>
            <a:ahLst/>
            <a:rect l="l" t="t" r="r" b="b"/>
            <a:pathLst>
              <a:path w="3870" h="1663">
                <a:moveTo>
                  <a:pt x="7813" y="10889"/>
                </a:moveTo>
                <a:cubicBezTo>
                  <a:pt x="7835" y="10828"/>
                  <a:pt x="7890" y="10735"/>
                  <a:pt x="7863" y="10666"/>
                </a:cubicBezTo>
                <a:cubicBezTo>
                  <a:pt x="7841" y="10609"/>
                  <a:pt x="7709" y="10599"/>
                  <a:pt x="7665" y="10616"/>
                </a:cubicBezTo>
                <a:cubicBezTo>
                  <a:pt x="7539" y="10665"/>
                  <a:pt x="7339" y="10788"/>
                  <a:pt x="7268" y="10914"/>
                </a:cubicBezTo>
                <a:cubicBezTo>
                  <a:pt x="7204" y="11028"/>
                  <a:pt x="7110" y="11215"/>
                  <a:pt x="7144" y="11361"/>
                </a:cubicBezTo>
                <a:cubicBezTo>
                  <a:pt x="7163" y="11445"/>
                  <a:pt x="7274" y="11478"/>
                  <a:pt x="7342" y="11485"/>
                </a:cubicBezTo>
                <a:cubicBezTo>
                  <a:pt x="7443" y="11495"/>
                  <a:pt x="7493" y="11438"/>
                  <a:pt x="7565" y="11385"/>
                </a:cubicBezTo>
                <a:cubicBezTo>
                  <a:pt x="7627" y="11340"/>
                  <a:pt x="7717" y="11268"/>
                  <a:pt x="7739" y="11187"/>
                </a:cubicBezTo>
                <a:cubicBezTo>
                  <a:pt x="7750" y="11147"/>
                  <a:pt x="7750" y="11124"/>
                  <a:pt x="7764" y="11088"/>
                </a:cubicBezTo>
                <a:cubicBezTo>
                  <a:pt x="7747" y="11149"/>
                  <a:pt x="7721" y="11222"/>
                  <a:pt x="7714" y="11286"/>
                </a:cubicBezTo>
                <a:cubicBezTo>
                  <a:pt x="7704" y="11369"/>
                  <a:pt x="7746" y="11458"/>
                  <a:pt x="7813" y="11509"/>
                </a:cubicBezTo>
                <a:cubicBezTo>
                  <a:pt x="7870" y="11537"/>
                  <a:pt x="7894" y="11548"/>
                  <a:pt x="7938" y="11559"/>
                </a:cubicBezTo>
              </a:path>
              <a:path w="3870" h="1663">
                <a:moveTo>
                  <a:pt x="8086" y="11485"/>
                </a:moveTo>
                <a:cubicBezTo>
                  <a:pt x="8074" y="11556"/>
                  <a:pt x="8033" y="11704"/>
                  <a:pt x="8062" y="11782"/>
                </a:cubicBezTo>
                <a:cubicBezTo>
                  <a:pt x="8070" y="11790"/>
                  <a:pt x="8078" y="11799"/>
                  <a:pt x="8086" y="11807"/>
                </a:cubicBezTo>
                <a:cubicBezTo>
                  <a:pt x="8151" y="11742"/>
                  <a:pt x="8141" y="11720"/>
                  <a:pt x="8161" y="11633"/>
                </a:cubicBezTo>
                <a:cubicBezTo>
                  <a:pt x="8181" y="11546"/>
                  <a:pt x="8220" y="11464"/>
                  <a:pt x="8260" y="11385"/>
                </a:cubicBezTo>
                <a:cubicBezTo>
                  <a:pt x="8268" y="11369"/>
                  <a:pt x="8277" y="11352"/>
                  <a:pt x="8285" y="11336"/>
                </a:cubicBezTo>
                <a:cubicBezTo>
                  <a:pt x="8337" y="11349"/>
                  <a:pt x="8339" y="11382"/>
                  <a:pt x="8359" y="11435"/>
                </a:cubicBezTo>
                <a:cubicBezTo>
                  <a:pt x="8396" y="11536"/>
                  <a:pt x="8399" y="11634"/>
                  <a:pt x="8434" y="11733"/>
                </a:cubicBezTo>
                <a:cubicBezTo>
                  <a:pt x="8452" y="11784"/>
                  <a:pt x="8456" y="11847"/>
                  <a:pt x="8508" y="11807"/>
                </a:cubicBezTo>
                <a:cubicBezTo>
                  <a:pt x="8538" y="11777"/>
                  <a:pt x="8549" y="11763"/>
                  <a:pt x="8558" y="11733"/>
                </a:cubicBezTo>
              </a:path>
              <a:path w="3870" h="1663">
                <a:moveTo>
                  <a:pt x="8806" y="11137"/>
                </a:moveTo>
                <a:cubicBezTo>
                  <a:pt x="8880" y="11137"/>
                  <a:pt x="8955" y="11137"/>
                  <a:pt x="9029" y="11137"/>
                </a:cubicBezTo>
              </a:path>
              <a:path w="3870" h="1663">
                <a:moveTo>
                  <a:pt x="8682" y="11336"/>
                </a:moveTo>
                <a:cubicBezTo>
                  <a:pt x="8842" y="11415"/>
                  <a:pt x="8883" y="11384"/>
                  <a:pt x="9054" y="11311"/>
                </a:cubicBezTo>
              </a:path>
              <a:path w="3870" h="1663">
                <a:moveTo>
                  <a:pt x="9475" y="10939"/>
                </a:moveTo>
                <a:cubicBezTo>
                  <a:pt x="9448" y="11109"/>
                  <a:pt x="9445" y="11220"/>
                  <a:pt x="9451" y="11385"/>
                </a:cubicBezTo>
                <a:cubicBezTo>
                  <a:pt x="9454" y="11461"/>
                  <a:pt x="9450" y="11490"/>
                  <a:pt x="9475" y="11559"/>
                </a:cubicBezTo>
                <a:cubicBezTo>
                  <a:pt x="9505" y="11469"/>
                  <a:pt x="9504" y="11378"/>
                  <a:pt x="9525" y="11286"/>
                </a:cubicBezTo>
                <a:cubicBezTo>
                  <a:pt x="9553" y="11160"/>
                  <a:pt x="9549" y="11038"/>
                  <a:pt x="9599" y="10914"/>
                </a:cubicBezTo>
                <a:cubicBezTo>
                  <a:pt x="9632" y="10834"/>
                  <a:pt x="9618" y="10719"/>
                  <a:pt x="9748" y="10740"/>
                </a:cubicBezTo>
                <a:cubicBezTo>
                  <a:pt x="9850" y="10756"/>
                  <a:pt x="9895" y="10853"/>
                  <a:pt x="9922" y="10939"/>
                </a:cubicBezTo>
                <a:cubicBezTo>
                  <a:pt x="9964" y="11072"/>
                  <a:pt x="9966" y="11203"/>
                  <a:pt x="9996" y="11336"/>
                </a:cubicBezTo>
                <a:cubicBezTo>
                  <a:pt x="10025" y="11466"/>
                  <a:pt x="10068" y="11580"/>
                  <a:pt x="10096" y="11708"/>
                </a:cubicBezTo>
                <a:cubicBezTo>
                  <a:pt x="10116" y="11798"/>
                  <a:pt x="10136" y="11881"/>
                  <a:pt x="10170" y="11757"/>
                </a:cubicBezTo>
                <a:cubicBezTo>
                  <a:pt x="10195" y="11683"/>
                  <a:pt x="10203" y="11658"/>
                  <a:pt x="10220" y="11609"/>
                </a:cubicBezTo>
              </a:path>
              <a:path w="3870" h="1663">
                <a:moveTo>
                  <a:pt x="10145" y="10244"/>
                </a:moveTo>
                <a:cubicBezTo>
                  <a:pt x="10230" y="10168"/>
                  <a:pt x="10271" y="10147"/>
                  <a:pt x="10393" y="10170"/>
                </a:cubicBezTo>
                <a:cubicBezTo>
                  <a:pt x="10481" y="10186"/>
                  <a:pt x="10589" y="10223"/>
                  <a:pt x="10616" y="10319"/>
                </a:cubicBezTo>
                <a:cubicBezTo>
                  <a:pt x="10631" y="10375"/>
                  <a:pt x="10563" y="10488"/>
                  <a:pt x="10517" y="10517"/>
                </a:cubicBezTo>
                <a:cubicBezTo>
                  <a:pt x="10453" y="10558"/>
                  <a:pt x="10400" y="10560"/>
                  <a:pt x="10344" y="10616"/>
                </a:cubicBezTo>
                <a:cubicBezTo>
                  <a:pt x="10395" y="10655"/>
                  <a:pt x="10449" y="10641"/>
                  <a:pt x="10517" y="10641"/>
                </a:cubicBezTo>
                <a:cubicBezTo>
                  <a:pt x="10631" y="10641"/>
                  <a:pt x="10753" y="10644"/>
                  <a:pt x="10864" y="10666"/>
                </a:cubicBezTo>
                <a:cubicBezTo>
                  <a:pt x="10939" y="10691"/>
                  <a:pt x="10963" y="10699"/>
                  <a:pt x="11013" y="107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4680" y="3205080"/>
            <a:ext cx="1804680" cy="54000"/>
          </a:xfrm>
          <a:custGeom>
            <a:avLst/>
            <a:gdLst/>
            <a:ahLst/>
            <a:rect l="l" t="t" r="r" b="b"/>
            <a:pathLst>
              <a:path w="5012" h="150">
                <a:moveTo>
                  <a:pt x="1513" y="8979"/>
                </a:moveTo>
                <a:cubicBezTo>
                  <a:pt x="1786" y="9003"/>
                  <a:pt x="2052" y="8962"/>
                  <a:pt x="2332" y="8954"/>
                </a:cubicBezTo>
                <a:cubicBezTo>
                  <a:pt x="2679" y="8944"/>
                  <a:pt x="3026" y="8915"/>
                  <a:pt x="3373" y="8905"/>
                </a:cubicBezTo>
                <a:cubicBezTo>
                  <a:pt x="4059" y="8885"/>
                  <a:pt x="4748" y="8907"/>
                  <a:pt x="5432" y="8930"/>
                </a:cubicBezTo>
                <a:cubicBezTo>
                  <a:pt x="5764" y="8941"/>
                  <a:pt x="6056" y="9000"/>
                  <a:pt x="6375" y="9054"/>
                </a:cubicBezTo>
                <a:cubicBezTo>
                  <a:pt x="6460" y="9054"/>
                  <a:pt x="6480" y="9060"/>
                  <a:pt x="6524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85920" y="2598840"/>
            <a:ext cx="169920" cy="2849400"/>
          </a:xfrm>
          <a:custGeom>
            <a:avLst/>
            <a:gdLst/>
            <a:ahLst/>
            <a:rect l="l" t="t" r="r" b="b"/>
            <a:pathLst>
              <a:path w="472" h="7914">
                <a:moveTo>
                  <a:pt x="4043" y="7218"/>
                </a:moveTo>
                <a:cubicBezTo>
                  <a:pt x="3983" y="7415"/>
                  <a:pt x="3911" y="7612"/>
                  <a:pt x="3870" y="7813"/>
                </a:cubicBezTo>
                <a:cubicBezTo>
                  <a:pt x="3817" y="8073"/>
                  <a:pt x="3836" y="8321"/>
                  <a:pt x="3820" y="8582"/>
                </a:cubicBezTo>
                <a:cubicBezTo>
                  <a:pt x="3792" y="9027"/>
                  <a:pt x="3774" y="9475"/>
                  <a:pt x="3770" y="9922"/>
                </a:cubicBezTo>
                <a:cubicBezTo>
                  <a:pt x="3760" y="11059"/>
                  <a:pt x="3737" y="12185"/>
                  <a:pt x="3671" y="13320"/>
                </a:cubicBezTo>
                <a:cubicBezTo>
                  <a:pt x="3641" y="13833"/>
                  <a:pt x="3634" y="14346"/>
                  <a:pt x="3597" y="14858"/>
                </a:cubicBezTo>
                <a:cubicBezTo>
                  <a:pt x="3589" y="14949"/>
                  <a:pt x="3580" y="15040"/>
                  <a:pt x="3572" y="151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05200" y="3241800"/>
            <a:ext cx="795600" cy="455400"/>
          </a:xfrm>
          <a:custGeom>
            <a:avLst/>
            <a:gdLst/>
            <a:ahLst/>
            <a:rect l="l" t="t" r="r" b="b"/>
            <a:pathLst>
              <a:path w="2209" h="1266">
                <a:moveTo>
                  <a:pt x="13072" y="9475"/>
                </a:moveTo>
                <a:cubicBezTo>
                  <a:pt x="13072" y="9664"/>
                  <a:pt x="13002" y="10014"/>
                  <a:pt x="13097" y="10170"/>
                </a:cubicBezTo>
                <a:cubicBezTo>
                  <a:pt x="13120" y="10078"/>
                  <a:pt x="13157" y="9966"/>
                  <a:pt x="13171" y="9872"/>
                </a:cubicBezTo>
                <a:cubicBezTo>
                  <a:pt x="13191" y="9737"/>
                  <a:pt x="13207" y="9609"/>
                  <a:pt x="13246" y="9475"/>
                </a:cubicBezTo>
                <a:cubicBezTo>
                  <a:pt x="13277" y="9368"/>
                  <a:pt x="13308" y="9245"/>
                  <a:pt x="13370" y="9153"/>
                </a:cubicBezTo>
                <a:cubicBezTo>
                  <a:pt x="13413" y="9089"/>
                  <a:pt x="13518" y="9048"/>
                  <a:pt x="13593" y="9079"/>
                </a:cubicBezTo>
                <a:cubicBezTo>
                  <a:pt x="13693" y="9120"/>
                  <a:pt x="13802" y="9232"/>
                  <a:pt x="13841" y="9327"/>
                </a:cubicBezTo>
                <a:cubicBezTo>
                  <a:pt x="13896" y="9460"/>
                  <a:pt x="13910" y="9583"/>
                  <a:pt x="13940" y="9723"/>
                </a:cubicBezTo>
                <a:cubicBezTo>
                  <a:pt x="13966" y="9844"/>
                  <a:pt x="13959" y="9978"/>
                  <a:pt x="13990" y="10096"/>
                </a:cubicBezTo>
                <a:cubicBezTo>
                  <a:pt x="14001" y="10137"/>
                  <a:pt x="14015" y="10236"/>
                  <a:pt x="14039" y="10269"/>
                </a:cubicBezTo>
                <a:cubicBezTo>
                  <a:pt x="14047" y="10269"/>
                  <a:pt x="14056" y="10269"/>
                  <a:pt x="14064" y="10269"/>
                </a:cubicBezTo>
              </a:path>
              <a:path w="2209" h="1266">
                <a:moveTo>
                  <a:pt x="14784" y="9004"/>
                </a:moveTo>
                <a:cubicBezTo>
                  <a:pt x="14815" y="9133"/>
                  <a:pt x="14794" y="9221"/>
                  <a:pt x="14784" y="9351"/>
                </a:cubicBezTo>
                <a:cubicBezTo>
                  <a:pt x="14771" y="9512"/>
                  <a:pt x="14774" y="9690"/>
                  <a:pt x="14808" y="9847"/>
                </a:cubicBezTo>
                <a:cubicBezTo>
                  <a:pt x="14831" y="9952"/>
                  <a:pt x="14843" y="10074"/>
                  <a:pt x="14883" y="10170"/>
                </a:cubicBezTo>
                <a:cubicBezTo>
                  <a:pt x="14902" y="10214"/>
                  <a:pt x="14957" y="10322"/>
                  <a:pt x="14957" y="10220"/>
                </a:cubicBezTo>
              </a:path>
              <a:path w="2209" h="1266">
                <a:moveTo>
                  <a:pt x="14486" y="9699"/>
                </a:moveTo>
                <a:cubicBezTo>
                  <a:pt x="14660" y="9739"/>
                  <a:pt x="14852" y="9783"/>
                  <a:pt x="15032" y="9798"/>
                </a:cubicBezTo>
                <a:cubicBezTo>
                  <a:pt x="15156" y="9798"/>
                  <a:pt x="15197" y="9798"/>
                  <a:pt x="15280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59280" y="3152880"/>
            <a:ext cx="44640" cy="588960"/>
          </a:xfrm>
          <a:custGeom>
            <a:avLst/>
            <a:gdLst/>
            <a:ahLst/>
            <a:rect l="l" t="t" r="r" b="b"/>
            <a:pathLst>
              <a:path w="125" h="1638">
                <a:moveTo>
                  <a:pt x="16098" y="8756"/>
                </a:moveTo>
                <a:cubicBezTo>
                  <a:pt x="16068" y="8873"/>
                  <a:pt x="16035" y="9006"/>
                  <a:pt x="16024" y="9128"/>
                </a:cubicBezTo>
                <a:cubicBezTo>
                  <a:pt x="16004" y="9350"/>
                  <a:pt x="16015" y="9551"/>
                  <a:pt x="16049" y="9773"/>
                </a:cubicBezTo>
                <a:cubicBezTo>
                  <a:pt x="16081" y="9981"/>
                  <a:pt x="16113" y="10183"/>
                  <a:pt x="16123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4880" y="2687760"/>
            <a:ext cx="216000" cy="357120"/>
          </a:xfrm>
          <a:custGeom>
            <a:avLst/>
            <a:gdLst/>
            <a:ahLst/>
            <a:rect l="l" t="t" r="r" b="b"/>
            <a:pathLst>
              <a:path w="596" h="993">
                <a:moveTo>
                  <a:pt x="2034" y="7838"/>
                </a:moveTo>
                <a:cubicBezTo>
                  <a:pt x="2012" y="7946"/>
                  <a:pt x="1988" y="8052"/>
                  <a:pt x="1984" y="8161"/>
                </a:cubicBezTo>
                <a:cubicBezTo>
                  <a:pt x="1981" y="8234"/>
                  <a:pt x="1960" y="8287"/>
                  <a:pt x="1960" y="8359"/>
                </a:cubicBezTo>
                <a:cubicBezTo>
                  <a:pt x="1960" y="8426"/>
                  <a:pt x="1960" y="8322"/>
                  <a:pt x="1960" y="8310"/>
                </a:cubicBezTo>
                <a:cubicBezTo>
                  <a:pt x="1960" y="8146"/>
                  <a:pt x="1938" y="7971"/>
                  <a:pt x="1984" y="7813"/>
                </a:cubicBezTo>
                <a:cubicBezTo>
                  <a:pt x="2005" y="7742"/>
                  <a:pt x="2017" y="7624"/>
                  <a:pt x="2059" y="7565"/>
                </a:cubicBezTo>
                <a:cubicBezTo>
                  <a:pt x="2089" y="7523"/>
                  <a:pt x="2151" y="7452"/>
                  <a:pt x="2208" y="7466"/>
                </a:cubicBezTo>
                <a:cubicBezTo>
                  <a:pt x="2317" y="7492"/>
                  <a:pt x="2327" y="7676"/>
                  <a:pt x="2356" y="7764"/>
                </a:cubicBezTo>
                <a:cubicBezTo>
                  <a:pt x="2392" y="7872"/>
                  <a:pt x="2407" y="7979"/>
                  <a:pt x="2431" y="8086"/>
                </a:cubicBezTo>
                <a:cubicBezTo>
                  <a:pt x="2450" y="8169"/>
                  <a:pt x="2491" y="8253"/>
                  <a:pt x="2505" y="8334"/>
                </a:cubicBezTo>
                <a:cubicBezTo>
                  <a:pt x="2516" y="8397"/>
                  <a:pt x="2542" y="8420"/>
                  <a:pt x="2555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89040" y="2670120"/>
            <a:ext cx="500040" cy="419040"/>
          </a:xfrm>
          <a:custGeom>
            <a:avLst/>
            <a:gdLst/>
            <a:ahLst/>
            <a:rect l="l" t="t" r="r" b="b"/>
            <a:pathLst>
              <a:path w="1390" h="1166">
                <a:moveTo>
                  <a:pt x="4961" y="7813"/>
                </a:moveTo>
                <a:cubicBezTo>
                  <a:pt x="4961" y="7717"/>
                  <a:pt x="4953" y="7623"/>
                  <a:pt x="4936" y="7541"/>
                </a:cubicBezTo>
                <a:cubicBezTo>
                  <a:pt x="4931" y="7519"/>
                  <a:pt x="4911" y="7414"/>
                  <a:pt x="4862" y="7417"/>
                </a:cubicBezTo>
                <a:cubicBezTo>
                  <a:pt x="4803" y="7421"/>
                  <a:pt x="4724" y="7472"/>
                  <a:pt x="4688" y="7516"/>
                </a:cubicBezTo>
                <a:cubicBezTo>
                  <a:pt x="4601" y="7621"/>
                  <a:pt x="4535" y="7722"/>
                  <a:pt x="4465" y="7838"/>
                </a:cubicBezTo>
                <a:cubicBezTo>
                  <a:pt x="4395" y="7955"/>
                  <a:pt x="4402" y="8077"/>
                  <a:pt x="4440" y="8210"/>
                </a:cubicBezTo>
                <a:cubicBezTo>
                  <a:pt x="4458" y="8273"/>
                  <a:pt x="4549" y="8325"/>
                  <a:pt x="4614" y="8310"/>
                </a:cubicBezTo>
                <a:cubicBezTo>
                  <a:pt x="4678" y="8296"/>
                  <a:pt x="4771" y="8236"/>
                  <a:pt x="4812" y="8186"/>
                </a:cubicBezTo>
                <a:cubicBezTo>
                  <a:pt x="4879" y="8104"/>
                  <a:pt x="4941" y="8031"/>
                  <a:pt x="4986" y="7938"/>
                </a:cubicBezTo>
                <a:cubicBezTo>
                  <a:pt x="5003" y="7903"/>
                  <a:pt x="5020" y="7868"/>
                  <a:pt x="5035" y="7838"/>
                </a:cubicBezTo>
                <a:cubicBezTo>
                  <a:pt x="5027" y="7921"/>
                  <a:pt x="5028" y="7982"/>
                  <a:pt x="5035" y="8062"/>
                </a:cubicBezTo>
                <a:cubicBezTo>
                  <a:pt x="5042" y="8146"/>
                  <a:pt x="5025" y="8194"/>
                  <a:pt x="5085" y="8260"/>
                </a:cubicBezTo>
                <a:cubicBezTo>
                  <a:pt x="5100" y="8277"/>
                  <a:pt x="5158" y="8305"/>
                  <a:pt x="5184" y="8285"/>
                </a:cubicBezTo>
                <a:cubicBezTo>
                  <a:pt x="5201" y="8260"/>
                  <a:pt x="5217" y="8235"/>
                  <a:pt x="5234" y="8210"/>
                </a:cubicBezTo>
              </a:path>
              <a:path w="1390" h="1166">
                <a:moveTo>
                  <a:pt x="5333" y="8384"/>
                </a:moveTo>
                <a:cubicBezTo>
                  <a:pt x="5384" y="8333"/>
                  <a:pt x="5378" y="8301"/>
                  <a:pt x="5407" y="8235"/>
                </a:cubicBezTo>
                <a:cubicBezTo>
                  <a:pt x="5438" y="8165"/>
                  <a:pt x="5484" y="8067"/>
                  <a:pt x="5556" y="8037"/>
                </a:cubicBezTo>
                <a:cubicBezTo>
                  <a:pt x="5604" y="8017"/>
                  <a:pt x="5695" y="8128"/>
                  <a:pt x="5705" y="8161"/>
                </a:cubicBezTo>
                <a:cubicBezTo>
                  <a:pt x="5737" y="8262"/>
                  <a:pt x="5746" y="8384"/>
                  <a:pt x="5779" y="8483"/>
                </a:cubicBezTo>
                <a:cubicBezTo>
                  <a:pt x="5802" y="8553"/>
                  <a:pt x="5805" y="8532"/>
                  <a:pt x="5755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40080" y="3205080"/>
            <a:ext cx="938160" cy="644760"/>
          </a:xfrm>
          <a:custGeom>
            <a:avLst/>
            <a:gdLst/>
            <a:ahLst/>
            <a:rect l="l" t="t" r="r" b="b"/>
            <a:pathLst>
              <a:path w="2605" h="1787">
                <a:moveTo>
                  <a:pt x="10120" y="9426"/>
                </a:moveTo>
                <a:cubicBezTo>
                  <a:pt x="10120" y="9509"/>
                  <a:pt x="10120" y="9591"/>
                  <a:pt x="10120" y="9674"/>
                </a:cubicBezTo>
                <a:cubicBezTo>
                  <a:pt x="10165" y="9592"/>
                  <a:pt x="10148" y="9566"/>
                  <a:pt x="10170" y="9475"/>
                </a:cubicBezTo>
                <a:cubicBezTo>
                  <a:pt x="10191" y="9388"/>
                  <a:pt x="10220" y="9272"/>
                  <a:pt x="10195" y="9178"/>
                </a:cubicBezTo>
                <a:cubicBezTo>
                  <a:pt x="10164" y="9063"/>
                  <a:pt x="10122" y="8986"/>
                  <a:pt x="10021" y="8930"/>
                </a:cubicBezTo>
                <a:cubicBezTo>
                  <a:pt x="9936" y="8883"/>
                  <a:pt x="9825" y="8959"/>
                  <a:pt x="9748" y="9004"/>
                </a:cubicBezTo>
                <a:cubicBezTo>
                  <a:pt x="9614" y="9083"/>
                  <a:pt x="9528" y="9220"/>
                  <a:pt x="9451" y="9351"/>
                </a:cubicBezTo>
                <a:cubicBezTo>
                  <a:pt x="9367" y="9493"/>
                  <a:pt x="9294" y="9631"/>
                  <a:pt x="9277" y="9798"/>
                </a:cubicBezTo>
                <a:cubicBezTo>
                  <a:pt x="9264" y="9920"/>
                  <a:pt x="9267" y="10054"/>
                  <a:pt x="9302" y="10170"/>
                </a:cubicBezTo>
                <a:cubicBezTo>
                  <a:pt x="9325" y="10245"/>
                  <a:pt x="9375" y="10315"/>
                  <a:pt x="9451" y="10344"/>
                </a:cubicBezTo>
                <a:cubicBezTo>
                  <a:pt x="9530" y="10374"/>
                  <a:pt x="9624" y="10291"/>
                  <a:pt x="9674" y="10244"/>
                </a:cubicBezTo>
                <a:cubicBezTo>
                  <a:pt x="9785" y="10139"/>
                  <a:pt x="9845" y="10000"/>
                  <a:pt x="9922" y="9872"/>
                </a:cubicBezTo>
                <a:cubicBezTo>
                  <a:pt x="9965" y="9801"/>
                  <a:pt x="10007" y="9715"/>
                  <a:pt x="10046" y="9649"/>
                </a:cubicBezTo>
                <a:cubicBezTo>
                  <a:pt x="10054" y="9641"/>
                  <a:pt x="10063" y="9632"/>
                  <a:pt x="10071" y="9624"/>
                </a:cubicBezTo>
                <a:cubicBezTo>
                  <a:pt x="10052" y="9680"/>
                  <a:pt x="10059" y="9735"/>
                  <a:pt x="10046" y="9798"/>
                </a:cubicBezTo>
                <a:cubicBezTo>
                  <a:pt x="10026" y="9895"/>
                  <a:pt x="10015" y="9974"/>
                  <a:pt x="10046" y="10071"/>
                </a:cubicBezTo>
                <a:cubicBezTo>
                  <a:pt x="10068" y="10140"/>
                  <a:pt x="10138" y="10210"/>
                  <a:pt x="10195" y="10244"/>
                </a:cubicBezTo>
                <a:cubicBezTo>
                  <a:pt x="10259" y="10281"/>
                  <a:pt x="10211" y="10265"/>
                  <a:pt x="10294" y="10244"/>
                </a:cubicBezTo>
              </a:path>
              <a:path w="2605" h="1787">
                <a:moveTo>
                  <a:pt x="10418" y="10195"/>
                </a:moveTo>
                <a:cubicBezTo>
                  <a:pt x="10418" y="10222"/>
                  <a:pt x="10399" y="10466"/>
                  <a:pt x="10443" y="10517"/>
                </a:cubicBezTo>
                <a:cubicBezTo>
                  <a:pt x="10451" y="10517"/>
                  <a:pt x="10460" y="10517"/>
                  <a:pt x="10468" y="10517"/>
                </a:cubicBezTo>
                <a:cubicBezTo>
                  <a:pt x="10511" y="10473"/>
                  <a:pt x="10532" y="10429"/>
                  <a:pt x="10542" y="10368"/>
                </a:cubicBezTo>
                <a:cubicBezTo>
                  <a:pt x="10558" y="10271"/>
                  <a:pt x="10584" y="10181"/>
                  <a:pt x="10641" y="10096"/>
                </a:cubicBezTo>
                <a:cubicBezTo>
                  <a:pt x="10665" y="10060"/>
                  <a:pt x="10702" y="10054"/>
                  <a:pt x="10740" y="10046"/>
                </a:cubicBezTo>
                <a:cubicBezTo>
                  <a:pt x="10769" y="10095"/>
                  <a:pt x="10791" y="10160"/>
                  <a:pt x="10815" y="10220"/>
                </a:cubicBezTo>
                <a:cubicBezTo>
                  <a:pt x="10849" y="10305"/>
                  <a:pt x="10897" y="10401"/>
                  <a:pt x="10914" y="10492"/>
                </a:cubicBezTo>
                <a:cubicBezTo>
                  <a:pt x="10924" y="10548"/>
                  <a:pt x="10940" y="10648"/>
                  <a:pt x="10988" y="10691"/>
                </a:cubicBezTo>
                <a:cubicBezTo>
                  <a:pt x="11013" y="10691"/>
                  <a:pt x="11021" y="10691"/>
                  <a:pt x="11038" y="10691"/>
                </a:cubicBezTo>
              </a:path>
              <a:path w="2605" h="1787">
                <a:moveTo>
                  <a:pt x="11385" y="9947"/>
                </a:moveTo>
                <a:cubicBezTo>
                  <a:pt x="11508" y="9928"/>
                  <a:pt x="11609" y="9922"/>
                  <a:pt x="11733" y="9922"/>
                </a:cubicBezTo>
                <a:cubicBezTo>
                  <a:pt x="11774" y="9922"/>
                  <a:pt x="11782" y="9922"/>
                  <a:pt x="11807" y="9922"/>
                </a:cubicBezTo>
              </a:path>
              <a:path w="2605" h="1787">
                <a:moveTo>
                  <a:pt x="11534" y="10195"/>
                </a:moveTo>
                <a:cubicBezTo>
                  <a:pt x="11657" y="10233"/>
                  <a:pt x="11762" y="10271"/>
                  <a:pt x="11881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81360" y="3830760"/>
            <a:ext cx="973440" cy="519120"/>
          </a:xfrm>
          <a:custGeom>
            <a:avLst/>
            <a:gdLst/>
            <a:ahLst/>
            <a:rect l="l" t="t" r="r" b="b"/>
            <a:pathLst>
              <a:path w="2705" h="1440">
                <a:moveTo>
                  <a:pt x="12799" y="10790"/>
                </a:moveTo>
                <a:cubicBezTo>
                  <a:pt x="12845" y="10744"/>
                  <a:pt x="12889" y="10721"/>
                  <a:pt x="12948" y="10691"/>
                </a:cubicBezTo>
                <a:cubicBezTo>
                  <a:pt x="13015" y="10657"/>
                  <a:pt x="13120" y="10631"/>
                  <a:pt x="13196" y="10641"/>
                </a:cubicBezTo>
                <a:cubicBezTo>
                  <a:pt x="13321" y="10657"/>
                  <a:pt x="13371" y="10675"/>
                  <a:pt x="13469" y="10740"/>
                </a:cubicBezTo>
                <a:cubicBezTo>
                  <a:pt x="13533" y="10782"/>
                  <a:pt x="13548" y="10839"/>
                  <a:pt x="13519" y="10914"/>
                </a:cubicBezTo>
                <a:cubicBezTo>
                  <a:pt x="13477" y="11022"/>
                  <a:pt x="13411" y="11144"/>
                  <a:pt x="13345" y="11237"/>
                </a:cubicBezTo>
                <a:cubicBezTo>
                  <a:pt x="13274" y="11337"/>
                  <a:pt x="13176" y="11415"/>
                  <a:pt x="13097" y="11509"/>
                </a:cubicBezTo>
                <a:cubicBezTo>
                  <a:pt x="13016" y="11604"/>
                  <a:pt x="12924" y="11708"/>
                  <a:pt x="12849" y="11807"/>
                </a:cubicBezTo>
                <a:cubicBezTo>
                  <a:pt x="12836" y="11824"/>
                  <a:pt x="12724" y="11910"/>
                  <a:pt x="12725" y="11931"/>
                </a:cubicBezTo>
                <a:cubicBezTo>
                  <a:pt x="12729" y="11998"/>
                  <a:pt x="12745" y="11999"/>
                  <a:pt x="12799" y="12005"/>
                </a:cubicBezTo>
                <a:cubicBezTo>
                  <a:pt x="12920" y="12019"/>
                  <a:pt x="13050" y="12020"/>
                  <a:pt x="13171" y="12030"/>
                </a:cubicBezTo>
                <a:cubicBezTo>
                  <a:pt x="13257" y="12037"/>
                  <a:pt x="13340" y="12025"/>
                  <a:pt x="13419" y="12005"/>
                </a:cubicBezTo>
                <a:cubicBezTo>
                  <a:pt x="13444" y="11997"/>
                  <a:pt x="13469" y="11989"/>
                  <a:pt x="13494" y="11981"/>
                </a:cubicBezTo>
              </a:path>
              <a:path w="2705" h="1440">
                <a:moveTo>
                  <a:pt x="13866" y="11509"/>
                </a:moveTo>
                <a:cubicBezTo>
                  <a:pt x="13866" y="11591"/>
                  <a:pt x="13850" y="11654"/>
                  <a:pt x="13841" y="11733"/>
                </a:cubicBezTo>
                <a:cubicBezTo>
                  <a:pt x="13836" y="11778"/>
                  <a:pt x="13812" y="11918"/>
                  <a:pt x="13816" y="11956"/>
                </a:cubicBezTo>
                <a:cubicBezTo>
                  <a:pt x="13824" y="11972"/>
                  <a:pt x="13833" y="11989"/>
                  <a:pt x="13841" y="12005"/>
                </a:cubicBezTo>
                <a:cubicBezTo>
                  <a:pt x="13828" y="12005"/>
                  <a:pt x="13827" y="11993"/>
                  <a:pt x="13841" y="11931"/>
                </a:cubicBezTo>
                <a:cubicBezTo>
                  <a:pt x="13862" y="11837"/>
                  <a:pt x="13886" y="11746"/>
                  <a:pt x="13915" y="11658"/>
                </a:cubicBezTo>
                <a:cubicBezTo>
                  <a:pt x="13946" y="11565"/>
                  <a:pt x="13976" y="11483"/>
                  <a:pt x="14039" y="11410"/>
                </a:cubicBezTo>
                <a:cubicBezTo>
                  <a:pt x="14092" y="11348"/>
                  <a:pt x="14133" y="11315"/>
                  <a:pt x="14213" y="11311"/>
                </a:cubicBezTo>
                <a:cubicBezTo>
                  <a:pt x="14274" y="11308"/>
                  <a:pt x="14363" y="11347"/>
                  <a:pt x="14412" y="11385"/>
                </a:cubicBezTo>
                <a:cubicBezTo>
                  <a:pt x="14476" y="11435"/>
                  <a:pt x="14529" y="11557"/>
                  <a:pt x="14560" y="11633"/>
                </a:cubicBezTo>
                <a:cubicBezTo>
                  <a:pt x="14595" y="11717"/>
                  <a:pt x="14617" y="11795"/>
                  <a:pt x="14635" y="11881"/>
                </a:cubicBezTo>
                <a:cubicBezTo>
                  <a:pt x="14649" y="11951"/>
                  <a:pt x="14671" y="12014"/>
                  <a:pt x="14684" y="12080"/>
                </a:cubicBezTo>
              </a:path>
              <a:path w="2705" h="1440">
                <a:moveTo>
                  <a:pt x="15007" y="11485"/>
                </a:moveTo>
                <a:cubicBezTo>
                  <a:pt x="15147" y="11463"/>
                  <a:pt x="15281" y="11472"/>
                  <a:pt x="15429" y="114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13280" y="3946680"/>
            <a:ext cx="17640" cy="482400"/>
          </a:xfrm>
          <a:custGeom>
            <a:avLst/>
            <a:gdLst/>
            <a:ahLst/>
            <a:rect l="l" t="t" r="r" b="b"/>
            <a:pathLst>
              <a:path w="50" h="1340">
                <a:moveTo>
                  <a:pt x="16148" y="10964"/>
                </a:moveTo>
                <a:cubicBezTo>
                  <a:pt x="16148" y="11142"/>
                  <a:pt x="16158" y="11311"/>
                  <a:pt x="16173" y="11485"/>
                </a:cubicBezTo>
                <a:cubicBezTo>
                  <a:pt x="16185" y="11624"/>
                  <a:pt x="16194" y="11767"/>
                  <a:pt x="16197" y="11906"/>
                </a:cubicBezTo>
                <a:cubicBezTo>
                  <a:pt x="16200" y="12043"/>
                  <a:pt x="16183" y="12169"/>
                  <a:pt x="16173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3040" y="2473200"/>
            <a:ext cx="2170080" cy="3884760"/>
          </a:xfrm>
          <a:custGeom>
            <a:avLst/>
            <a:gdLst/>
            <a:ahLst/>
            <a:rect l="l" t="t" r="r" b="b"/>
            <a:pathLst>
              <a:path w="6028" h="10791">
                <a:moveTo>
                  <a:pt x="1315" y="8706"/>
                </a:moveTo>
                <a:cubicBezTo>
                  <a:pt x="1499" y="8699"/>
                  <a:pt x="1675" y="8682"/>
                  <a:pt x="1860" y="8682"/>
                </a:cubicBezTo>
                <a:cubicBezTo>
                  <a:pt x="2578" y="8682"/>
                  <a:pt x="3301" y="8661"/>
                  <a:pt x="4018" y="8706"/>
                </a:cubicBezTo>
                <a:cubicBezTo>
                  <a:pt x="4390" y="8729"/>
                  <a:pt x="4763" y="8733"/>
                  <a:pt x="5135" y="8756"/>
                </a:cubicBezTo>
                <a:cubicBezTo>
                  <a:pt x="5729" y="8792"/>
                  <a:pt x="6313" y="8892"/>
                  <a:pt x="6896" y="8979"/>
                </a:cubicBezTo>
                <a:cubicBezTo>
                  <a:pt x="7064" y="9004"/>
                  <a:pt x="7199" y="9018"/>
                  <a:pt x="7342" y="8979"/>
                </a:cubicBezTo>
                <a:cubicBezTo>
                  <a:pt x="7342" y="8971"/>
                  <a:pt x="7342" y="8962"/>
                  <a:pt x="7342" y="8954"/>
                </a:cubicBezTo>
              </a:path>
              <a:path w="6028" h="10791">
                <a:moveTo>
                  <a:pt x="3646" y="6871"/>
                </a:moveTo>
                <a:cubicBezTo>
                  <a:pt x="3646" y="7212"/>
                  <a:pt x="3621" y="7548"/>
                  <a:pt x="3621" y="7888"/>
                </a:cubicBezTo>
                <a:cubicBezTo>
                  <a:pt x="3621" y="8948"/>
                  <a:pt x="3598" y="10004"/>
                  <a:pt x="3572" y="11063"/>
                </a:cubicBezTo>
                <a:cubicBezTo>
                  <a:pt x="3560" y="11569"/>
                  <a:pt x="3525" y="12072"/>
                  <a:pt x="3473" y="12576"/>
                </a:cubicBezTo>
                <a:cubicBezTo>
                  <a:pt x="3395" y="13336"/>
                  <a:pt x="3298" y="14101"/>
                  <a:pt x="3200" y="14858"/>
                </a:cubicBezTo>
                <a:cubicBezTo>
                  <a:pt x="3158" y="15185"/>
                  <a:pt x="3087" y="15507"/>
                  <a:pt x="3001" y="15825"/>
                </a:cubicBezTo>
              </a:path>
              <a:path w="6028" h="10791">
                <a:moveTo>
                  <a:pt x="3051" y="15528"/>
                </a:moveTo>
                <a:cubicBezTo>
                  <a:pt x="3002" y="15674"/>
                  <a:pt x="2963" y="15822"/>
                  <a:pt x="2952" y="15974"/>
                </a:cubicBezTo>
                <a:cubicBezTo>
                  <a:pt x="2930" y="16269"/>
                  <a:pt x="2942" y="16572"/>
                  <a:pt x="2927" y="16867"/>
                </a:cubicBezTo>
                <a:cubicBezTo>
                  <a:pt x="2916" y="17077"/>
                  <a:pt x="2885" y="17283"/>
                  <a:pt x="2828" y="17487"/>
                </a:cubicBezTo>
                <a:cubicBezTo>
                  <a:pt x="2809" y="17554"/>
                  <a:pt x="2786" y="17595"/>
                  <a:pt x="2778" y="176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6160" y="3348000"/>
            <a:ext cx="9720" cy="295200"/>
          </a:xfrm>
          <a:custGeom>
            <a:avLst/>
            <a:gdLst/>
            <a:ahLst/>
            <a:rect l="l" t="t" r="r" b="b"/>
            <a:pathLst>
              <a:path w="26" h="819">
                <a:moveTo>
                  <a:pt x="2183" y="9302"/>
                </a:moveTo>
                <a:cubicBezTo>
                  <a:pt x="2159" y="9429"/>
                  <a:pt x="2158" y="9545"/>
                  <a:pt x="2158" y="9674"/>
                </a:cubicBezTo>
                <a:cubicBezTo>
                  <a:pt x="2158" y="9823"/>
                  <a:pt x="2158" y="9971"/>
                  <a:pt x="2158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6960" y="3963960"/>
            <a:ext cx="204840" cy="314280"/>
          </a:xfrm>
          <a:custGeom>
            <a:avLst/>
            <a:gdLst/>
            <a:ahLst/>
            <a:rect l="l" t="t" r="r" b="b"/>
            <a:pathLst>
              <a:path w="571" h="869">
                <a:moveTo>
                  <a:pt x="1984" y="11013"/>
                </a:moveTo>
                <a:cubicBezTo>
                  <a:pt x="2094" y="11013"/>
                  <a:pt x="2136" y="11015"/>
                  <a:pt x="2232" y="11063"/>
                </a:cubicBezTo>
                <a:cubicBezTo>
                  <a:pt x="2301" y="11098"/>
                  <a:pt x="2340" y="11181"/>
                  <a:pt x="2307" y="11261"/>
                </a:cubicBezTo>
                <a:cubicBezTo>
                  <a:pt x="2262" y="11368"/>
                  <a:pt x="2164" y="11454"/>
                  <a:pt x="2084" y="11534"/>
                </a:cubicBezTo>
                <a:cubicBezTo>
                  <a:pt x="2031" y="11587"/>
                  <a:pt x="1960" y="11659"/>
                  <a:pt x="1935" y="11733"/>
                </a:cubicBezTo>
                <a:cubicBezTo>
                  <a:pt x="1906" y="11820"/>
                  <a:pt x="2015" y="11821"/>
                  <a:pt x="2059" y="11832"/>
                </a:cubicBezTo>
                <a:cubicBezTo>
                  <a:pt x="2168" y="11861"/>
                  <a:pt x="2293" y="11875"/>
                  <a:pt x="2406" y="11881"/>
                </a:cubicBezTo>
                <a:cubicBezTo>
                  <a:pt x="2456" y="11881"/>
                  <a:pt x="2472" y="11881"/>
                  <a:pt x="2505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5320" y="4589640"/>
            <a:ext cx="160560" cy="349200"/>
          </a:xfrm>
          <a:custGeom>
            <a:avLst/>
            <a:gdLst/>
            <a:ahLst/>
            <a:rect l="l" t="t" r="r" b="b"/>
            <a:pathLst>
              <a:path w="448" h="968">
                <a:moveTo>
                  <a:pt x="1910" y="12750"/>
                </a:moveTo>
                <a:cubicBezTo>
                  <a:pt x="1968" y="12779"/>
                  <a:pt x="2117" y="12823"/>
                  <a:pt x="2158" y="12874"/>
                </a:cubicBezTo>
                <a:cubicBezTo>
                  <a:pt x="2204" y="12931"/>
                  <a:pt x="2185" y="12990"/>
                  <a:pt x="2158" y="13047"/>
                </a:cubicBezTo>
                <a:cubicBezTo>
                  <a:pt x="2124" y="13119"/>
                  <a:pt x="2065" y="13121"/>
                  <a:pt x="2009" y="13171"/>
                </a:cubicBezTo>
                <a:cubicBezTo>
                  <a:pt x="1939" y="13234"/>
                  <a:pt x="2042" y="13301"/>
                  <a:pt x="2084" y="13345"/>
                </a:cubicBezTo>
                <a:cubicBezTo>
                  <a:pt x="2140" y="13404"/>
                  <a:pt x="2182" y="13482"/>
                  <a:pt x="2158" y="13568"/>
                </a:cubicBezTo>
                <a:cubicBezTo>
                  <a:pt x="2133" y="13659"/>
                  <a:pt x="2054" y="13666"/>
                  <a:pt x="1984" y="13692"/>
                </a:cubicBezTo>
                <a:cubicBezTo>
                  <a:pt x="1900" y="13723"/>
                  <a:pt x="1828" y="13717"/>
                  <a:pt x="1736" y="137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9760" y="5214960"/>
            <a:ext cx="231480" cy="785880"/>
          </a:xfrm>
          <a:custGeom>
            <a:avLst/>
            <a:gdLst/>
            <a:ahLst/>
            <a:rect l="l" t="t" r="r" b="b"/>
            <a:pathLst>
              <a:path w="646" h="2184">
                <a:moveTo>
                  <a:pt x="1687" y="14486"/>
                </a:moveTo>
                <a:cubicBezTo>
                  <a:pt x="1681" y="14537"/>
                  <a:pt x="1550" y="14896"/>
                  <a:pt x="1736" y="14932"/>
                </a:cubicBezTo>
                <a:cubicBezTo>
                  <a:pt x="1822" y="14949"/>
                  <a:pt x="1868" y="14901"/>
                  <a:pt x="1935" y="14858"/>
                </a:cubicBezTo>
              </a:path>
              <a:path w="646" h="2184">
                <a:moveTo>
                  <a:pt x="2059" y="14560"/>
                </a:moveTo>
                <a:cubicBezTo>
                  <a:pt x="2014" y="14777"/>
                  <a:pt x="1993" y="14990"/>
                  <a:pt x="1960" y="15205"/>
                </a:cubicBezTo>
                <a:cubicBezTo>
                  <a:pt x="1948" y="15285"/>
                  <a:pt x="1961" y="15429"/>
                  <a:pt x="1935" y="15503"/>
                </a:cubicBezTo>
                <a:cubicBezTo>
                  <a:pt x="1927" y="15511"/>
                  <a:pt x="1918" y="15520"/>
                  <a:pt x="1910" y="15528"/>
                </a:cubicBezTo>
              </a:path>
              <a:path w="646" h="2184">
                <a:moveTo>
                  <a:pt x="1538" y="15900"/>
                </a:moveTo>
                <a:cubicBezTo>
                  <a:pt x="1666" y="15894"/>
                  <a:pt x="1766" y="15869"/>
                  <a:pt x="1885" y="15850"/>
                </a:cubicBezTo>
                <a:cubicBezTo>
                  <a:pt x="1930" y="15850"/>
                  <a:pt x="1943" y="15853"/>
                  <a:pt x="1960" y="15825"/>
                </a:cubicBezTo>
              </a:path>
              <a:path w="646" h="2184">
                <a:moveTo>
                  <a:pt x="1513" y="15925"/>
                </a:moveTo>
                <a:cubicBezTo>
                  <a:pt x="1494" y="16096"/>
                  <a:pt x="1517" y="16129"/>
                  <a:pt x="1612" y="16272"/>
                </a:cubicBezTo>
                <a:cubicBezTo>
                  <a:pt x="1666" y="16353"/>
                  <a:pt x="1731" y="16467"/>
                  <a:pt x="1712" y="16570"/>
                </a:cubicBezTo>
                <a:cubicBezTo>
                  <a:pt x="1700" y="16633"/>
                  <a:pt x="1597" y="16682"/>
                  <a:pt x="1538" y="16669"/>
                </a:cubicBezTo>
                <a:cubicBezTo>
                  <a:pt x="1435" y="16646"/>
                  <a:pt x="1418" y="16588"/>
                  <a:pt x="1414" y="16495"/>
                </a:cubicBezTo>
                <a:cubicBezTo>
                  <a:pt x="1414" y="16470"/>
                  <a:pt x="1414" y="16446"/>
                  <a:pt x="1414" y="164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01840" y="3214800"/>
            <a:ext cx="509400" cy="2768400"/>
          </a:xfrm>
          <a:custGeom>
            <a:avLst/>
            <a:gdLst/>
            <a:ahLst/>
            <a:rect l="l" t="t" r="r" b="b"/>
            <a:pathLst>
              <a:path w="1415" h="7690">
                <a:moveTo>
                  <a:pt x="4440" y="9004"/>
                </a:moveTo>
                <a:cubicBezTo>
                  <a:pt x="4397" y="9004"/>
                  <a:pt x="4445" y="8981"/>
                  <a:pt x="4465" y="8979"/>
                </a:cubicBezTo>
                <a:cubicBezTo>
                  <a:pt x="4506" y="8974"/>
                  <a:pt x="4518" y="8954"/>
                  <a:pt x="4564" y="8954"/>
                </a:cubicBezTo>
                <a:cubicBezTo>
                  <a:pt x="4616" y="8954"/>
                  <a:pt x="4616" y="8949"/>
                  <a:pt x="4638" y="8979"/>
                </a:cubicBezTo>
                <a:cubicBezTo>
                  <a:pt x="4667" y="9018"/>
                  <a:pt x="4661" y="9057"/>
                  <a:pt x="4638" y="9103"/>
                </a:cubicBezTo>
                <a:cubicBezTo>
                  <a:pt x="4614" y="9153"/>
                  <a:pt x="4471" y="9302"/>
                  <a:pt x="4415" y="9327"/>
                </a:cubicBezTo>
                <a:cubicBezTo>
                  <a:pt x="4370" y="9347"/>
                  <a:pt x="4437" y="9327"/>
                  <a:pt x="4465" y="9327"/>
                </a:cubicBezTo>
                <a:cubicBezTo>
                  <a:pt x="4585" y="9327"/>
                  <a:pt x="4697" y="9334"/>
                  <a:pt x="4812" y="9302"/>
                </a:cubicBezTo>
              </a:path>
              <a:path w="1415" h="7690">
                <a:moveTo>
                  <a:pt x="5060" y="8930"/>
                </a:moveTo>
                <a:cubicBezTo>
                  <a:pt x="5050" y="9022"/>
                  <a:pt x="5029" y="9021"/>
                  <a:pt x="4986" y="9103"/>
                </a:cubicBezTo>
                <a:cubicBezTo>
                  <a:pt x="4941" y="9190"/>
                  <a:pt x="4910" y="9290"/>
                  <a:pt x="4862" y="9376"/>
                </a:cubicBezTo>
                <a:cubicBezTo>
                  <a:pt x="4807" y="9475"/>
                  <a:pt x="4756" y="9569"/>
                  <a:pt x="4713" y="9674"/>
                </a:cubicBezTo>
                <a:cubicBezTo>
                  <a:pt x="4671" y="9778"/>
                  <a:pt x="4617" y="9854"/>
                  <a:pt x="4564" y="9947"/>
                </a:cubicBezTo>
                <a:cubicBezTo>
                  <a:pt x="4540" y="9990"/>
                  <a:pt x="4532" y="10031"/>
                  <a:pt x="4514" y="10071"/>
                </a:cubicBezTo>
              </a:path>
              <a:path w="1415" h="7690">
                <a:moveTo>
                  <a:pt x="5209" y="9599"/>
                </a:moveTo>
                <a:cubicBezTo>
                  <a:pt x="5237" y="9702"/>
                  <a:pt x="5225" y="9727"/>
                  <a:pt x="5209" y="9823"/>
                </a:cubicBezTo>
                <a:cubicBezTo>
                  <a:pt x="5198" y="9888"/>
                  <a:pt x="5188" y="9957"/>
                  <a:pt x="5184" y="10021"/>
                </a:cubicBezTo>
                <a:cubicBezTo>
                  <a:pt x="5181" y="10084"/>
                  <a:pt x="5203" y="10094"/>
                  <a:pt x="5209" y="10145"/>
                </a:cubicBezTo>
                <a:cubicBezTo>
                  <a:pt x="5214" y="10194"/>
                  <a:pt x="5233" y="10208"/>
                  <a:pt x="5209" y="10220"/>
                </a:cubicBezTo>
              </a:path>
              <a:path w="1415" h="7690">
                <a:moveTo>
                  <a:pt x="4316" y="10666"/>
                </a:moveTo>
                <a:cubicBezTo>
                  <a:pt x="4367" y="10650"/>
                  <a:pt x="4458" y="10619"/>
                  <a:pt x="4514" y="10641"/>
                </a:cubicBezTo>
                <a:cubicBezTo>
                  <a:pt x="4548" y="10654"/>
                  <a:pt x="4586" y="10677"/>
                  <a:pt x="4589" y="10716"/>
                </a:cubicBezTo>
                <a:cubicBezTo>
                  <a:pt x="4594" y="10783"/>
                  <a:pt x="4585" y="10795"/>
                  <a:pt x="4539" y="10840"/>
                </a:cubicBezTo>
                <a:cubicBezTo>
                  <a:pt x="4510" y="10868"/>
                  <a:pt x="4475" y="10902"/>
                  <a:pt x="4440" y="10914"/>
                </a:cubicBezTo>
                <a:cubicBezTo>
                  <a:pt x="4432" y="10914"/>
                  <a:pt x="4423" y="10914"/>
                  <a:pt x="4415" y="10914"/>
                </a:cubicBezTo>
                <a:cubicBezTo>
                  <a:pt x="4492" y="10927"/>
                  <a:pt x="4505" y="10938"/>
                  <a:pt x="4539" y="10988"/>
                </a:cubicBezTo>
                <a:cubicBezTo>
                  <a:pt x="4577" y="11044"/>
                  <a:pt x="4614" y="11037"/>
                  <a:pt x="4564" y="11112"/>
                </a:cubicBezTo>
                <a:cubicBezTo>
                  <a:pt x="4524" y="11172"/>
                  <a:pt x="4480" y="11162"/>
                  <a:pt x="4415" y="11162"/>
                </a:cubicBezTo>
                <a:cubicBezTo>
                  <a:pt x="4383" y="11162"/>
                  <a:pt x="4308" y="11162"/>
                  <a:pt x="4291" y="11137"/>
                </a:cubicBezTo>
                <a:cubicBezTo>
                  <a:pt x="4291" y="11112"/>
                  <a:pt x="4291" y="11104"/>
                  <a:pt x="4291" y="11088"/>
                </a:cubicBezTo>
              </a:path>
              <a:path w="1415" h="7690">
                <a:moveTo>
                  <a:pt x="5060" y="10691"/>
                </a:moveTo>
                <a:cubicBezTo>
                  <a:pt x="5025" y="10788"/>
                  <a:pt x="4977" y="10872"/>
                  <a:pt x="4936" y="10964"/>
                </a:cubicBezTo>
                <a:cubicBezTo>
                  <a:pt x="4892" y="11063"/>
                  <a:pt x="4865" y="11167"/>
                  <a:pt x="4812" y="11261"/>
                </a:cubicBezTo>
                <a:cubicBezTo>
                  <a:pt x="4762" y="11351"/>
                  <a:pt x="4707" y="11447"/>
                  <a:pt x="4663" y="11534"/>
                </a:cubicBezTo>
                <a:cubicBezTo>
                  <a:pt x="4631" y="11597"/>
                  <a:pt x="4585" y="11689"/>
                  <a:pt x="4564" y="11757"/>
                </a:cubicBezTo>
                <a:cubicBezTo>
                  <a:pt x="4551" y="11799"/>
                  <a:pt x="4518" y="11817"/>
                  <a:pt x="4564" y="11832"/>
                </a:cubicBezTo>
              </a:path>
              <a:path w="1415" h="7690">
                <a:moveTo>
                  <a:pt x="4961" y="11534"/>
                </a:moveTo>
                <a:cubicBezTo>
                  <a:pt x="5082" y="11508"/>
                  <a:pt x="5118" y="11512"/>
                  <a:pt x="5234" y="11534"/>
                </a:cubicBezTo>
                <a:cubicBezTo>
                  <a:pt x="5259" y="11539"/>
                  <a:pt x="5326" y="11569"/>
                  <a:pt x="5308" y="11609"/>
                </a:cubicBezTo>
                <a:cubicBezTo>
                  <a:pt x="5298" y="11631"/>
                  <a:pt x="5263" y="11700"/>
                  <a:pt x="5234" y="11708"/>
                </a:cubicBezTo>
                <a:cubicBezTo>
                  <a:pt x="5179" y="11724"/>
                  <a:pt x="5157" y="11723"/>
                  <a:pt x="5110" y="11757"/>
                </a:cubicBezTo>
                <a:cubicBezTo>
                  <a:pt x="5154" y="11768"/>
                  <a:pt x="5175" y="11798"/>
                  <a:pt x="5209" y="11832"/>
                </a:cubicBezTo>
                <a:cubicBezTo>
                  <a:pt x="5277" y="11899"/>
                  <a:pt x="5272" y="11921"/>
                  <a:pt x="5259" y="12005"/>
                </a:cubicBezTo>
                <a:cubicBezTo>
                  <a:pt x="5249" y="12074"/>
                  <a:pt x="5165" y="12055"/>
                  <a:pt x="5110" y="12055"/>
                </a:cubicBezTo>
                <a:cubicBezTo>
                  <a:pt x="5036" y="12055"/>
                  <a:pt x="4978" y="12039"/>
                  <a:pt x="4911" y="12030"/>
                </a:cubicBezTo>
                <a:cubicBezTo>
                  <a:pt x="4853" y="12030"/>
                  <a:pt x="4845" y="12030"/>
                  <a:pt x="4812" y="12030"/>
                </a:cubicBezTo>
              </a:path>
              <a:path w="1415" h="7690">
                <a:moveTo>
                  <a:pt x="4142" y="12650"/>
                </a:moveTo>
                <a:cubicBezTo>
                  <a:pt x="4125" y="12710"/>
                  <a:pt x="4082" y="12752"/>
                  <a:pt x="4068" y="12799"/>
                </a:cubicBezTo>
                <a:cubicBezTo>
                  <a:pt x="4059" y="12831"/>
                  <a:pt x="4057" y="12930"/>
                  <a:pt x="4093" y="12948"/>
                </a:cubicBezTo>
                <a:cubicBezTo>
                  <a:pt x="4145" y="12974"/>
                  <a:pt x="4207" y="12973"/>
                  <a:pt x="4266" y="12973"/>
                </a:cubicBezTo>
                <a:cubicBezTo>
                  <a:pt x="4319" y="12973"/>
                  <a:pt x="4328" y="12961"/>
                  <a:pt x="4366" y="12923"/>
                </a:cubicBezTo>
              </a:path>
              <a:path w="1415" h="7690">
                <a:moveTo>
                  <a:pt x="4415" y="12576"/>
                </a:moveTo>
                <a:cubicBezTo>
                  <a:pt x="4389" y="12687"/>
                  <a:pt x="4362" y="12788"/>
                  <a:pt x="4341" y="12898"/>
                </a:cubicBezTo>
                <a:cubicBezTo>
                  <a:pt x="4327" y="12969"/>
                  <a:pt x="4311" y="13118"/>
                  <a:pt x="4341" y="13196"/>
                </a:cubicBezTo>
                <a:cubicBezTo>
                  <a:pt x="4353" y="13228"/>
                  <a:pt x="4368" y="13238"/>
                  <a:pt x="4390" y="13246"/>
                </a:cubicBezTo>
              </a:path>
              <a:path w="1415" h="7690">
                <a:moveTo>
                  <a:pt x="4787" y="12650"/>
                </a:moveTo>
                <a:cubicBezTo>
                  <a:pt x="4752" y="12816"/>
                  <a:pt x="4711" y="12943"/>
                  <a:pt x="4638" y="13097"/>
                </a:cubicBezTo>
                <a:cubicBezTo>
                  <a:pt x="4572" y="13238"/>
                  <a:pt x="4527" y="13377"/>
                  <a:pt x="4465" y="13519"/>
                </a:cubicBezTo>
                <a:cubicBezTo>
                  <a:pt x="4408" y="13649"/>
                  <a:pt x="4354" y="13778"/>
                  <a:pt x="4316" y="13915"/>
                </a:cubicBezTo>
                <a:cubicBezTo>
                  <a:pt x="4300" y="13973"/>
                  <a:pt x="4259" y="14104"/>
                  <a:pt x="4266" y="14163"/>
                </a:cubicBezTo>
                <a:cubicBezTo>
                  <a:pt x="4266" y="14188"/>
                  <a:pt x="4266" y="14196"/>
                  <a:pt x="4291" y="14188"/>
                </a:cubicBezTo>
              </a:path>
              <a:path w="1415" h="7690">
                <a:moveTo>
                  <a:pt x="4738" y="13643"/>
                </a:moveTo>
                <a:cubicBezTo>
                  <a:pt x="4854" y="13627"/>
                  <a:pt x="5035" y="13628"/>
                  <a:pt x="5135" y="13568"/>
                </a:cubicBezTo>
              </a:path>
              <a:path w="1415" h="7690">
                <a:moveTo>
                  <a:pt x="4738" y="13593"/>
                </a:moveTo>
                <a:cubicBezTo>
                  <a:pt x="4726" y="13634"/>
                  <a:pt x="4716" y="13699"/>
                  <a:pt x="4762" y="13742"/>
                </a:cubicBezTo>
                <a:cubicBezTo>
                  <a:pt x="4815" y="13791"/>
                  <a:pt x="4912" y="13815"/>
                  <a:pt x="4961" y="13866"/>
                </a:cubicBezTo>
                <a:cubicBezTo>
                  <a:pt x="5011" y="13918"/>
                  <a:pt x="5104" y="14056"/>
                  <a:pt x="5085" y="14139"/>
                </a:cubicBezTo>
                <a:cubicBezTo>
                  <a:pt x="5074" y="14187"/>
                  <a:pt x="5029" y="14261"/>
                  <a:pt x="4986" y="14288"/>
                </a:cubicBezTo>
                <a:cubicBezTo>
                  <a:pt x="4931" y="14323"/>
                  <a:pt x="4874" y="14312"/>
                  <a:pt x="4812" y="14312"/>
                </a:cubicBezTo>
                <a:cubicBezTo>
                  <a:pt x="4746" y="14312"/>
                  <a:pt x="4699" y="14294"/>
                  <a:pt x="4638" y="14288"/>
                </a:cubicBezTo>
                <a:cubicBezTo>
                  <a:pt x="4630" y="14288"/>
                  <a:pt x="4622" y="14288"/>
                  <a:pt x="4614" y="14288"/>
                </a:cubicBezTo>
              </a:path>
              <a:path w="1415" h="7690">
                <a:moveTo>
                  <a:pt x="3969" y="14957"/>
                </a:moveTo>
                <a:cubicBezTo>
                  <a:pt x="4051" y="14957"/>
                  <a:pt x="4113" y="14971"/>
                  <a:pt x="4192" y="14982"/>
                </a:cubicBezTo>
                <a:cubicBezTo>
                  <a:pt x="4252" y="14991"/>
                  <a:pt x="4287" y="14977"/>
                  <a:pt x="4341" y="14957"/>
                </a:cubicBezTo>
              </a:path>
              <a:path w="1415" h="7690">
                <a:moveTo>
                  <a:pt x="3919" y="14957"/>
                </a:moveTo>
                <a:cubicBezTo>
                  <a:pt x="3880" y="15009"/>
                  <a:pt x="3898" y="15032"/>
                  <a:pt x="3944" y="15081"/>
                </a:cubicBezTo>
                <a:cubicBezTo>
                  <a:pt x="4013" y="15154"/>
                  <a:pt x="4088" y="15197"/>
                  <a:pt x="4142" y="15280"/>
                </a:cubicBezTo>
                <a:cubicBezTo>
                  <a:pt x="4192" y="15358"/>
                  <a:pt x="4185" y="15424"/>
                  <a:pt x="4093" y="15429"/>
                </a:cubicBezTo>
                <a:cubicBezTo>
                  <a:pt x="4033" y="15433"/>
                  <a:pt x="3971" y="15439"/>
                  <a:pt x="3919" y="15404"/>
                </a:cubicBezTo>
                <a:cubicBezTo>
                  <a:pt x="3869" y="15371"/>
                  <a:pt x="3896" y="15317"/>
                  <a:pt x="3919" y="15280"/>
                </a:cubicBezTo>
              </a:path>
              <a:path w="1415" h="7690">
                <a:moveTo>
                  <a:pt x="4614" y="14833"/>
                </a:moveTo>
                <a:cubicBezTo>
                  <a:pt x="4553" y="14931"/>
                  <a:pt x="4436" y="15075"/>
                  <a:pt x="4390" y="15180"/>
                </a:cubicBezTo>
                <a:cubicBezTo>
                  <a:pt x="4339" y="15296"/>
                  <a:pt x="4295" y="15449"/>
                  <a:pt x="4217" y="15553"/>
                </a:cubicBezTo>
                <a:cubicBezTo>
                  <a:pt x="4167" y="15620"/>
                  <a:pt x="4114" y="15681"/>
                  <a:pt x="4068" y="15751"/>
                </a:cubicBezTo>
                <a:cubicBezTo>
                  <a:pt x="4031" y="15806"/>
                  <a:pt x="4019" y="15850"/>
                  <a:pt x="3994" y="15900"/>
                </a:cubicBezTo>
                <a:cubicBezTo>
                  <a:pt x="3988" y="15912"/>
                  <a:pt x="3894" y="16012"/>
                  <a:pt x="3969" y="15949"/>
                </a:cubicBezTo>
                <a:cubicBezTo>
                  <a:pt x="3991" y="15927"/>
                  <a:pt x="3996" y="15919"/>
                  <a:pt x="4018" y="15925"/>
                </a:cubicBezTo>
              </a:path>
              <a:path w="1415" h="7690">
                <a:moveTo>
                  <a:pt x="4490" y="15701"/>
                </a:moveTo>
                <a:cubicBezTo>
                  <a:pt x="4550" y="15718"/>
                  <a:pt x="4657" y="15728"/>
                  <a:pt x="4713" y="15751"/>
                </a:cubicBezTo>
                <a:cubicBezTo>
                  <a:pt x="4732" y="15759"/>
                  <a:pt x="4829" y="15789"/>
                  <a:pt x="4837" y="15801"/>
                </a:cubicBezTo>
                <a:cubicBezTo>
                  <a:pt x="4867" y="15845"/>
                  <a:pt x="4842" y="15854"/>
                  <a:pt x="4837" y="15900"/>
                </a:cubicBezTo>
                <a:cubicBezTo>
                  <a:pt x="4829" y="15971"/>
                  <a:pt x="4781" y="16080"/>
                  <a:pt x="4762" y="16148"/>
                </a:cubicBezTo>
                <a:cubicBezTo>
                  <a:pt x="4732" y="16256"/>
                  <a:pt x="4681" y="16359"/>
                  <a:pt x="4663" y="16470"/>
                </a:cubicBezTo>
                <a:cubicBezTo>
                  <a:pt x="4655" y="16517"/>
                  <a:pt x="4663" y="16571"/>
                  <a:pt x="4663" y="166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73720" y="3705120"/>
            <a:ext cx="1768320" cy="144720"/>
          </a:xfrm>
          <a:custGeom>
            <a:avLst/>
            <a:gdLst/>
            <a:ahLst/>
            <a:rect l="l" t="t" r="r" b="b"/>
            <a:pathLst>
              <a:path w="4912" h="398">
                <a:moveTo>
                  <a:pt x="12427" y="10294"/>
                </a:moveTo>
                <a:cubicBezTo>
                  <a:pt x="12491" y="10303"/>
                  <a:pt x="12549" y="10317"/>
                  <a:pt x="12626" y="10319"/>
                </a:cubicBezTo>
                <a:cubicBezTo>
                  <a:pt x="12834" y="10324"/>
                  <a:pt x="13040" y="10333"/>
                  <a:pt x="13246" y="10344"/>
                </a:cubicBezTo>
                <a:cubicBezTo>
                  <a:pt x="13502" y="10357"/>
                  <a:pt x="13759" y="10349"/>
                  <a:pt x="14015" y="10368"/>
                </a:cubicBezTo>
                <a:cubicBezTo>
                  <a:pt x="14338" y="10393"/>
                  <a:pt x="14658" y="10432"/>
                  <a:pt x="14982" y="10443"/>
                </a:cubicBezTo>
                <a:cubicBezTo>
                  <a:pt x="15378" y="10456"/>
                  <a:pt x="15777" y="10462"/>
                  <a:pt x="16173" y="10492"/>
                </a:cubicBezTo>
                <a:cubicBezTo>
                  <a:pt x="16476" y="10515"/>
                  <a:pt x="16792" y="10568"/>
                  <a:pt x="17090" y="10616"/>
                </a:cubicBezTo>
                <a:cubicBezTo>
                  <a:pt x="17159" y="10627"/>
                  <a:pt x="17259" y="10633"/>
                  <a:pt x="17314" y="10666"/>
                </a:cubicBezTo>
                <a:cubicBezTo>
                  <a:pt x="17381" y="10706"/>
                  <a:pt x="17259" y="10644"/>
                  <a:pt x="17314" y="106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Factorial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ctorial of a number N is the product of all positive integers from 1 to 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is 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Evaluate:</a:t>
            </a:r>
            <a:br>
              <a:rPr sz="4000"/>
            </a:b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5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7!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0!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• 3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3120" y="2187720"/>
            <a:ext cx="2643120" cy="1304640"/>
          </a:xfrm>
          <a:custGeom>
            <a:avLst/>
            <a:gdLst/>
            <a:ahLst/>
            <a:rect l="l" t="t" r="r" b="b"/>
            <a:pathLst>
              <a:path w="7343" h="3623">
                <a:moveTo>
                  <a:pt x="7342" y="7888"/>
                </a:moveTo>
                <a:cubicBezTo>
                  <a:pt x="7425" y="7899"/>
                  <a:pt x="7505" y="7911"/>
                  <a:pt x="7590" y="7913"/>
                </a:cubicBezTo>
                <a:cubicBezTo>
                  <a:pt x="8139" y="7926"/>
                  <a:pt x="8680" y="7859"/>
                  <a:pt x="9227" y="7838"/>
                </a:cubicBezTo>
                <a:cubicBezTo>
                  <a:pt x="10199" y="7800"/>
                  <a:pt x="11183" y="7836"/>
                  <a:pt x="12154" y="7863"/>
                </a:cubicBezTo>
                <a:cubicBezTo>
                  <a:pt x="12539" y="7874"/>
                  <a:pt x="12911" y="7909"/>
                  <a:pt x="13295" y="7938"/>
                </a:cubicBezTo>
                <a:cubicBezTo>
                  <a:pt x="13409" y="7947"/>
                  <a:pt x="13510" y="7933"/>
                  <a:pt x="13618" y="7913"/>
                </a:cubicBezTo>
                <a:cubicBezTo>
                  <a:pt x="13561" y="7863"/>
                  <a:pt x="13509" y="7806"/>
                  <a:pt x="13419" y="7764"/>
                </a:cubicBezTo>
                <a:cubicBezTo>
                  <a:pt x="13378" y="7747"/>
                  <a:pt x="13336" y="7731"/>
                  <a:pt x="13295" y="7714"/>
                </a:cubicBezTo>
              </a:path>
              <a:path w="7343" h="3623">
                <a:moveTo>
                  <a:pt x="8905" y="9178"/>
                </a:moveTo>
                <a:cubicBezTo>
                  <a:pt x="9014" y="9048"/>
                  <a:pt x="9114" y="8907"/>
                  <a:pt x="9227" y="8781"/>
                </a:cubicBezTo>
                <a:cubicBezTo>
                  <a:pt x="9377" y="8615"/>
                  <a:pt x="9536" y="8461"/>
                  <a:pt x="9674" y="8285"/>
                </a:cubicBezTo>
                <a:cubicBezTo>
                  <a:pt x="9845" y="8067"/>
                  <a:pt x="10025" y="7864"/>
                  <a:pt x="10220" y="7665"/>
                </a:cubicBezTo>
                <a:cubicBezTo>
                  <a:pt x="10408" y="7473"/>
                  <a:pt x="10584" y="7269"/>
                  <a:pt x="10765" y="7069"/>
                </a:cubicBezTo>
                <a:cubicBezTo>
                  <a:pt x="10965" y="6848"/>
                  <a:pt x="11185" y="6645"/>
                  <a:pt x="11385" y="6424"/>
                </a:cubicBezTo>
                <a:cubicBezTo>
                  <a:pt x="11441" y="6362"/>
                  <a:pt x="11478" y="6289"/>
                  <a:pt x="11534" y="6226"/>
                </a:cubicBezTo>
                <a:cubicBezTo>
                  <a:pt x="11534" y="6201"/>
                  <a:pt x="11534" y="6193"/>
                  <a:pt x="11559" y="6201"/>
                </a:cubicBezTo>
                <a:cubicBezTo>
                  <a:pt x="11522" y="6257"/>
                  <a:pt x="11496" y="6313"/>
                  <a:pt x="11460" y="6375"/>
                </a:cubicBezTo>
              </a:path>
              <a:path w="7343" h="3623">
                <a:moveTo>
                  <a:pt x="9947" y="8930"/>
                </a:moveTo>
                <a:cubicBezTo>
                  <a:pt x="9818" y="9247"/>
                  <a:pt x="9855" y="9127"/>
                  <a:pt x="9823" y="9327"/>
                </a:cubicBezTo>
                <a:cubicBezTo>
                  <a:pt x="9823" y="9335"/>
                  <a:pt x="9823" y="9343"/>
                  <a:pt x="9823" y="9351"/>
                </a:cubicBezTo>
                <a:cubicBezTo>
                  <a:pt x="9846" y="9326"/>
                  <a:pt x="9887" y="9266"/>
                  <a:pt x="9922" y="9227"/>
                </a:cubicBezTo>
                <a:cubicBezTo>
                  <a:pt x="10056" y="9077"/>
                  <a:pt x="10148" y="8893"/>
                  <a:pt x="10269" y="8731"/>
                </a:cubicBezTo>
                <a:cubicBezTo>
                  <a:pt x="10405" y="8550"/>
                  <a:pt x="10537" y="8372"/>
                  <a:pt x="10666" y="8186"/>
                </a:cubicBezTo>
                <a:cubicBezTo>
                  <a:pt x="10848" y="7923"/>
                  <a:pt x="11040" y="7668"/>
                  <a:pt x="11237" y="7417"/>
                </a:cubicBezTo>
                <a:cubicBezTo>
                  <a:pt x="11396" y="7215"/>
                  <a:pt x="11561" y="7037"/>
                  <a:pt x="11757" y="6871"/>
                </a:cubicBezTo>
                <a:cubicBezTo>
                  <a:pt x="11920" y="6732"/>
                  <a:pt x="12073" y="6566"/>
                  <a:pt x="12254" y="6449"/>
                </a:cubicBezTo>
                <a:cubicBezTo>
                  <a:pt x="12361" y="6380"/>
                  <a:pt x="12450" y="6303"/>
                  <a:pt x="12551" y="6226"/>
                </a:cubicBezTo>
                <a:cubicBezTo>
                  <a:pt x="12581" y="6196"/>
                  <a:pt x="12595" y="6185"/>
                  <a:pt x="12626" y="6176"/>
                </a:cubicBezTo>
                <a:cubicBezTo>
                  <a:pt x="12585" y="6258"/>
                  <a:pt x="12558" y="6303"/>
                  <a:pt x="12502" y="6375"/>
                </a:cubicBezTo>
              </a:path>
              <a:path w="7343" h="3623">
                <a:moveTo>
                  <a:pt x="10616" y="9500"/>
                </a:moveTo>
                <a:cubicBezTo>
                  <a:pt x="10671" y="9464"/>
                  <a:pt x="10789" y="9394"/>
                  <a:pt x="10864" y="9302"/>
                </a:cubicBezTo>
                <a:cubicBezTo>
                  <a:pt x="10987" y="9152"/>
                  <a:pt x="11113" y="9005"/>
                  <a:pt x="11237" y="8855"/>
                </a:cubicBezTo>
                <a:cubicBezTo>
                  <a:pt x="11456" y="8589"/>
                  <a:pt x="11677" y="8317"/>
                  <a:pt x="11906" y="8062"/>
                </a:cubicBezTo>
                <a:cubicBezTo>
                  <a:pt x="12105" y="7840"/>
                  <a:pt x="12315" y="7628"/>
                  <a:pt x="12526" y="7417"/>
                </a:cubicBezTo>
                <a:cubicBezTo>
                  <a:pt x="12712" y="7231"/>
                  <a:pt x="12903" y="7048"/>
                  <a:pt x="13097" y="6871"/>
                </a:cubicBezTo>
                <a:cubicBezTo>
                  <a:pt x="13230" y="6750"/>
                  <a:pt x="13353" y="6636"/>
                  <a:pt x="13469" y="6499"/>
                </a:cubicBezTo>
                <a:cubicBezTo>
                  <a:pt x="13529" y="6428"/>
                  <a:pt x="13594" y="6371"/>
                  <a:pt x="13643" y="6300"/>
                </a:cubicBezTo>
                <a:cubicBezTo>
                  <a:pt x="13643" y="6292"/>
                  <a:pt x="13643" y="6284"/>
                  <a:pt x="13643" y="6276"/>
                </a:cubicBezTo>
                <a:cubicBezTo>
                  <a:pt x="13613" y="6343"/>
                  <a:pt x="13581" y="6406"/>
                  <a:pt x="13543" y="6474"/>
                </a:cubicBezTo>
              </a:path>
              <a:path w="7343" h="3623">
                <a:moveTo>
                  <a:pt x="11733" y="9624"/>
                </a:moveTo>
                <a:cubicBezTo>
                  <a:pt x="11716" y="9649"/>
                  <a:pt x="11700" y="9674"/>
                  <a:pt x="11683" y="9699"/>
                </a:cubicBezTo>
                <a:cubicBezTo>
                  <a:pt x="11710" y="9658"/>
                  <a:pt x="11718" y="9597"/>
                  <a:pt x="11757" y="9550"/>
                </a:cubicBezTo>
                <a:cubicBezTo>
                  <a:pt x="11867" y="9418"/>
                  <a:pt x="11955" y="9294"/>
                  <a:pt x="12055" y="9153"/>
                </a:cubicBezTo>
                <a:cubicBezTo>
                  <a:pt x="12191" y="8962"/>
                  <a:pt x="12361" y="8796"/>
                  <a:pt x="12502" y="8607"/>
                </a:cubicBezTo>
                <a:cubicBezTo>
                  <a:pt x="12714" y="8324"/>
                  <a:pt x="12924" y="8039"/>
                  <a:pt x="13146" y="7764"/>
                </a:cubicBezTo>
                <a:cubicBezTo>
                  <a:pt x="13330" y="7536"/>
                  <a:pt x="13547" y="7337"/>
                  <a:pt x="13742" y="7119"/>
                </a:cubicBezTo>
                <a:cubicBezTo>
                  <a:pt x="13890" y="6953"/>
                  <a:pt x="14056" y="6776"/>
                  <a:pt x="14188" y="6598"/>
                </a:cubicBezTo>
                <a:cubicBezTo>
                  <a:pt x="14285" y="6467"/>
                  <a:pt x="14369" y="6385"/>
                  <a:pt x="14486" y="6276"/>
                </a:cubicBezTo>
                <a:cubicBezTo>
                  <a:pt x="14561" y="6207"/>
                  <a:pt x="14771" y="6049"/>
                  <a:pt x="14684" y="6102"/>
                </a:cubicBezTo>
                <a:cubicBezTo>
                  <a:pt x="14621" y="6141"/>
                  <a:pt x="14606" y="6136"/>
                  <a:pt x="14536" y="62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36920" y="2367000"/>
            <a:ext cx="2293920" cy="365040"/>
          </a:xfrm>
          <a:custGeom>
            <a:avLst/>
            <a:gdLst/>
            <a:ahLst/>
            <a:rect l="l" t="t" r="r" b="b"/>
            <a:pathLst>
              <a:path w="6375" h="1018">
                <a:moveTo>
                  <a:pt x="7045" y="6672"/>
                </a:moveTo>
                <a:cubicBezTo>
                  <a:pt x="7229" y="6672"/>
                  <a:pt x="7407" y="6663"/>
                  <a:pt x="7590" y="6648"/>
                </a:cubicBezTo>
                <a:cubicBezTo>
                  <a:pt x="7674" y="6641"/>
                  <a:pt x="7788" y="6629"/>
                  <a:pt x="7863" y="6672"/>
                </a:cubicBezTo>
                <a:cubicBezTo>
                  <a:pt x="7903" y="6695"/>
                  <a:pt x="7888" y="6758"/>
                  <a:pt x="7888" y="6796"/>
                </a:cubicBezTo>
                <a:cubicBezTo>
                  <a:pt x="7888" y="6901"/>
                  <a:pt x="7857" y="7017"/>
                  <a:pt x="7838" y="7119"/>
                </a:cubicBezTo>
                <a:cubicBezTo>
                  <a:pt x="7819" y="7218"/>
                  <a:pt x="7802" y="7318"/>
                  <a:pt x="7789" y="7417"/>
                </a:cubicBezTo>
                <a:cubicBezTo>
                  <a:pt x="7781" y="7477"/>
                  <a:pt x="7783" y="7514"/>
                  <a:pt x="7764" y="7565"/>
                </a:cubicBezTo>
                <a:cubicBezTo>
                  <a:pt x="7753" y="7593"/>
                  <a:pt x="7728" y="7561"/>
                  <a:pt x="7739" y="7516"/>
                </a:cubicBezTo>
                <a:cubicBezTo>
                  <a:pt x="7747" y="7499"/>
                  <a:pt x="7756" y="7483"/>
                  <a:pt x="7764" y="7466"/>
                </a:cubicBezTo>
              </a:path>
              <a:path w="6375" h="1018">
                <a:moveTo>
                  <a:pt x="8161" y="7069"/>
                </a:moveTo>
                <a:cubicBezTo>
                  <a:pt x="8186" y="7069"/>
                  <a:pt x="8194" y="7069"/>
                  <a:pt x="8186" y="7045"/>
                </a:cubicBezTo>
              </a:path>
              <a:path w="6375" h="1018">
                <a:moveTo>
                  <a:pt x="8582" y="6747"/>
                </a:moveTo>
                <a:cubicBezTo>
                  <a:pt x="8543" y="6968"/>
                  <a:pt x="8510" y="7075"/>
                  <a:pt x="8533" y="7268"/>
                </a:cubicBezTo>
                <a:cubicBezTo>
                  <a:pt x="8544" y="7360"/>
                  <a:pt x="8578" y="7418"/>
                  <a:pt x="8682" y="7441"/>
                </a:cubicBezTo>
                <a:cubicBezTo>
                  <a:pt x="8817" y="7470"/>
                  <a:pt x="8867" y="7428"/>
                  <a:pt x="8954" y="7342"/>
                </a:cubicBezTo>
                <a:cubicBezTo>
                  <a:pt x="8997" y="7300"/>
                  <a:pt x="9097" y="7214"/>
                  <a:pt x="9079" y="7144"/>
                </a:cubicBezTo>
                <a:cubicBezTo>
                  <a:pt x="9051" y="7144"/>
                  <a:pt x="9040" y="7142"/>
                  <a:pt x="9029" y="7119"/>
                </a:cubicBezTo>
                <a:cubicBezTo>
                  <a:pt x="8982" y="7166"/>
                  <a:pt x="8938" y="7186"/>
                  <a:pt x="8905" y="7243"/>
                </a:cubicBezTo>
                <a:cubicBezTo>
                  <a:pt x="8868" y="7306"/>
                  <a:pt x="8834" y="7369"/>
                  <a:pt x="8830" y="7441"/>
                </a:cubicBezTo>
                <a:cubicBezTo>
                  <a:pt x="8826" y="7507"/>
                  <a:pt x="8865" y="7534"/>
                  <a:pt x="8905" y="7565"/>
                </a:cubicBezTo>
                <a:cubicBezTo>
                  <a:pt x="8947" y="7598"/>
                  <a:pt x="8942" y="7578"/>
                  <a:pt x="8979" y="7541"/>
                </a:cubicBezTo>
              </a:path>
              <a:path w="6375" h="1018">
                <a:moveTo>
                  <a:pt x="9327" y="7169"/>
                </a:moveTo>
                <a:cubicBezTo>
                  <a:pt x="9327" y="7122"/>
                  <a:pt x="9339" y="7096"/>
                  <a:pt x="9376" y="7069"/>
                </a:cubicBezTo>
              </a:path>
              <a:path w="6375" h="1018">
                <a:moveTo>
                  <a:pt x="9847" y="6697"/>
                </a:moveTo>
                <a:cubicBezTo>
                  <a:pt x="9971" y="6697"/>
                  <a:pt x="10037" y="6701"/>
                  <a:pt x="10145" y="6648"/>
                </a:cubicBezTo>
              </a:path>
              <a:path w="6375" h="1018">
                <a:moveTo>
                  <a:pt x="9798" y="6772"/>
                </a:moveTo>
                <a:cubicBezTo>
                  <a:pt x="9751" y="6858"/>
                  <a:pt x="9651" y="6938"/>
                  <a:pt x="9723" y="7020"/>
                </a:cubicBezTo>
                <a:cubicBezTo>
                  <a:pt x="9757" y="7059"/>
                  <a:pt x="9804" y="7035"/>
                  <a:pt x="9847" y="7020"/>
                </a:cubicBezTo>
                <a:cubicBezTo>
                  <a:pt x="9904" y="7000"/>
                  <a:pt x="9982" y="6952"/>
                  <a:pt x="10046" y="6970"/>
                </a:cubicBezTo>
                <a:cubicBezTo>
                  <a:pt x="10100" y="6985"/>
                  <a:pt x="10166" y="7075"/>
                  <a:pt x="10195" y="7119"/>
                </a:cubicBezTo>
                <a:cubicBezTo>
                  <a:pt x="10247" y="7197"/>
                  <a:pt x="10227" y="7287"/>
                  <a:pt x="10220" y="7367"/>
                </a:cubicBezTo>
                <a:cubicBezTo>
                  <a:pt x="10211" y="7467"/>
                  <a:pt x="10172" y="7483"/>
                  <a:pt x="10096" y="7541"/>
                </a:cubicBezTo>
                <a:cubicBezTo>
                  <a:pt x="10028" y="7592"/>
                  <a:pt x="9923" y="7600"/>
                  <a:pt x="9847" y="7565"/>
                </a:cubicBezTo>
                <a:cubicBezTo>
                  <a:pt x="9825" y="7543"/>
                  <a:pt x="9817" y="7538"/>
                  <a:pt x="9823" y="7516"/>
                </a:cubicBezTo>
              </a:path>
              <a:path w="6375" h="1018">
                <a:moveTo>
                  <a:pt x="10418" y="7218"/>
                </a:moveTo>
                <a:cubicBezTo>
                  <a:pt x="10469" y="7205"/>
                  <a:pt x="10463" y="7195"/>
                  <a:pt x="10492" y="7144"/>
                </a:cubicBezTo>
              </a:path>
              <a:path w="6375" h="1018">
                <a:moveTo>
                  <a:pt x="10914" y="6821"/>
                </a:moveTo>
                <a:cubicBezTo>
                  <a:pt x="10894" y="6974"/>
                  <a:pt x="10845" y="7022"/>
                  <a:pt x="10964" y="7094"/>
                </a:cubicBezTo>
                <a:cubicBezTo>
                  <a:pt x="11050" y="7146"/>
                  <a:pt x="11108" y="7109"/>
                  <a:pt x="11187" y="7069"/>
                </a:cubicBezTo>
              </a:path>
              <a:path w="6375" h="1018">
                <a:moveTo>
                  <a:pt x="11212" y="6623"/>
                </a:moveTo>
                <a:cubicBezTo>
                  <a:pt x="11151" y="6852"/>
                  <a:pt x="11112" y="7013"/>
                  <a:pt x="11112" y="7243"/>
                </a:cubicBezTo>
                <a:cubicBezTo>
                  <a:pt x="11112" y="7334"/>
                  <a:pt x="11130" y="7406"/>
                  <a:pt x="11137" y="7491"/>
                </a:cubicBezTo>
                <a:cubicBezTo>
                  <a:pt x="11138" y="7499"/>
                  <a:pt x="11137" y="7583"/>
                  <a:pt x="11137" y="7516"/>
                </a:cubicBezTo>
                <a:cubicBezTo>
                  <a:pt x="11137" y="7425"/>
                  <a:pt x="11149" y="7423"/>
                  <a:pt x="11187" y="7317"/>
                </a:cubicBezTo>
              </a:path>
              <a:path w="6375" h="1018">
                <a:moveTo>
                  <a:pt x="11435" y="7243"/>
                </a:moveTo>
                <a:cubicBezTo>
                  <a:pt x="11463" y="7243"/>
                  <a:pt x="11481" y="7197"/>
                  <a:pt x="11509" y="7169"/>
                </a:cubicBezTo>
              </a:path>
              <a:path w="6375" h="1018">
                <a:moveTo>
                  <a:pt x="11881" y="6623"/>
                </a:moveTo>
                <a:cubicBezTo>
                  <a:pt x="12002" y="6597"/>
                  <a:pt x="12025" y="6590"/>
                  <a:pt x="12129" y="6648"/>
                </a:cubicBezTo>
                <a:cubicBezTo>
                  <a:pt x="12207" y="6691"/>
                  <a:pt x="12182" y="6753"/>
                  <a:pt x="12129" y="6821"/>
                </a:cubicBezTo>
                <a:cubicBezTo>
                  <a:pt x="12071" y="6897"/>
                  <a:pt x="12004" y="6919"/>
                  <a:pt x="11931" y="6970"/>
                </a:cubicBezTo>
                <a:cubicBezTo>
                  <a:pt x="11890" y="6998"/>
                  <a:pt x="11879" y="7033"/>
                  <a:pt x="11832" y="7045"/>
                </a:cubicBezTo>
                <a:cubicBezTo>
                  <a:pt x="11871" y="7035"/>
                  <a:pt x="11886" y="7020"/>
                  <a:pt x="11931" y="7020"/>
                </a:cubicBezTo>
                <a:cubicBezTo>
                  <a:pt x="12026" y="7020"/>
                  <a:pt x="12071" y="7097"/>
                  <a:pt x="12105" y="7169"/>
                </a:cubicBezTo>
                <a:cubicBezTo>
                  <a:pt x="12143" y="7251"/>
                  <a:pt x="12132" y="7317"/>
                  <a:pt x="12080" y="7392"/>
                </a:cubicBezTo>
                <a:cubicBezTo>
                  <a:pt x="12043" y="7445"/>
                  <a:pt x="11964" y="7462"/>
                  <a:pt x="11906" y="7466"/>
                </a:cubicBezTo>
                <a:cubicBezTo>
                  <a:pt x="11887" y="7467"/>
                  <a:pt x="11786" y="7427"/>
                  <a:pt x="11782" y="7417"/>
                </a:cubicBezTo>
                <a:cubicBezTo>
                  <a:pt x="11782" y="7372"/>
                  <a:pt x="11779" y="7359"/>
                  <a:pt x="11807" y="7342"/>
                </a:cubicBezTo>
              </a:path>
              <a:path w="6375" h="1018">
                <a:moveTo>
                  <a:pt x="12427" y="7119"/>
                </a:moveTo>
                <a:cubicBezTo>
                  <a:pt x="12451" y="7087"/>
                  <a:pt x="12453" y="7076"/>
                  <a:pt x="12477" y="7045"/>
                </a:cubicBezTo>
              </a:path>
              <a:path w="6375" h="1018">
                <a:moveTo>
                  <a:pt x="12874" y="6573"/>
                </a:moveTo>
                <a:cubicBezTo>
                  <a:pt x="12968" y="6595"/>
                  <a:pt x="13062" y="6593"/>
                  <a:pt x="13097" y="6697"/>
                </a:cubicBezTo>
                <a:cubicBezTo>
                  <a:pt x="13115" y="6752"/>
                  <a:pt x="13029" y="6839"/>
                  <a:pt x="12998" y="6871"/>
                </a:cubicBezTo>
                <a:cubicBezTo>
                  <a:pt x="12918" y="6954"/>
                  <a:pt x="12819" y="7049"/>
                  <a:pt x="12750" y="7144"/>
                </a:cubicBezTo>
                <a:cubicBezTo>
                  <a:pt x="12711" y="7197"/>
                  <a:pt x="12715" y="7264"/>
                  <a:pt x="12750" y="7317"/>
                </a:cubicBezTo>
                <a:cubicBezTo>
                  <a:pt x="12784" y="7369"/>
                  <a:pt x="12816" y="7367"/>
                  <a:pt x="12874" y="7367"/>
                </a:cubicBezTo>
                <a:cubicBezTo>
                  <a:pt x="12980" y="7367"/>
                  <a:pt x="12977" y="7348"/>
                  <a:pt x="13047" y="7268"/>
                </a:cubicBezTo>
              </a:path>
              <a:path w="6375" h="1018">
                <a:moveTo>
                  <a:pt x="13345" y="6995"/>
                </a:moveTo>
                <a:cubicBezTo>
                  <a:pt x="13379" y="7029"/>
                  <a:pt x="13376" y="6996"/>
                  <a:pt x="13419" y="69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83120" y="2295360"/>
            <a:ext cx="54000" cy="366840"/>
          </a:xfrm>
          <a:custGeom>
            <a:avLst/>
            <a:gdLst/>
            <a:ahLst/>
            <a:rect l="l" t="t" r="r" b="b"/>
            <a:pathLst>
              <a:path w="150" h="1018">
                <a:moveTo>
                  <a:pt x="13891" y="6375"/>
                </a:moveTo>
                <a:cubicBezTo>
                  <a:pt x="13923" y="6497"/>
                  <a:pt x="13918" y="6597"/>
                  <a:pt x="13891" y="6722"/>
                </a:cubicBezTo>
                <a:cubicBezTo>
                  <a:pt x="13857" y="6878"/>
                  <a:pt x="13857" y="6988"/>
                  <a:pt x="13866" y="7144"/>
                </a:cubicBezTo>
                <a:cubicBezTo>
                  <a:pt x="13870" y="7215"/>
                  <a:pt x="13879" y="7338"/>
                  <a:pt x="13940" y="7392"/>
                </a:cubicBezTo>
                <a:cubicBezTo>
                  <a:pt x="13968" y="7392"/>
                  <a:pt x="13979" y="7390"/>
                  <a:pt x="13990" y="73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3000240"/>
            <a:ext cx="965160" cy="349560"/>
          </a:xfrm>
          <a:custGeom>
            <a:avLst/>
            <a:gdLst/>
            <a:ahLst/>
            <a:rect l="l" t="t" r="r" b="b"/>
            <a:pathLst>
              <a:path w="2680" h="969">
                <a:moveTo>
                  <a:pt x="9327" y="8334"/>
                </a:moveTo>
                <a:cubicBezTo>
                  <a:pt x="9277" y="8462"/>
                  <a:pt x="9215" y="8544"/>
                  <a:pt x="9153" y="8657"/>
                </a:cubicBezTo>
                <a:cubicBezTo>
                  <a:pt x="9127" y="8705"/>
                  <a:pt x="9103" y="8753"/>
                  <a:pt x="9103" y="8806"/>
                </a:cubicBezTo>
                <a:cubicBezTo>
                  <a:pt x="9103" y="8814"/>
                  <a:pt x="9103" y="8822"/>
                  <a:pt x="9103" y="8830"/>
                </a:cubicBezTo>
                <a:cubicBezTo>
                  <a:pt x="9214" y="8830"/>
                  <a:pt x="9319" y="8837"/>
                  <a:pt x="9426" y="8806"/>
                </a:cubicBezTo>
                <a:cubicBezTo>
                  <a:pt x="9508" y="8782"/>
                  <a:pt x="9537" y="8761"/>
                  <a:pt x="9599" y="8706"/>
                </a:cubicBezTo>
              </a:path>
              <a:path w="2680" h="969">
                <a:moveTo>
                  <a:pt x="9649" y="8384"/>
                </a:moveTo>
                <a:cubicBezTo>
                  <a:pt x="9613" y="8607"/>
                  <a:pt x="9575" y="8806"/>
                  <a:pt x="9575" y="9029"/>
                </a:cubicBezTo>
                <a:cubicBezTo>
                  <a:pt x="9575" y="9121"/>
                  <a:pt x="9580" y="9192"/>
                  <a:pt x="9599" y="9277"/>
                </a:cubicBezTo>
                <a:cubicBezTo>
                  <a:pt x="9608" y="9316"/>
                  <a:pt x="9605" y="9271"/>
                  <a:pt x="9624" y="9227"/>
                </a:cubicBezTo>
              </a:path>
              <a:path w="2680" h="969">
                <a:moveTo>
                  <a:pt x="9971" y="8979"/>
                </a:moveTo>
                <a:cubicBezTo>
                  <a:pt x="9971" y="8938"/>
                  <a:pt x="9971" y="8896"/>
                  <a:pt x="9971" y="8855"/>
                </a:cubicBezTo>
              </a:path>
              <a:path w="2680" h="969">
                <a:moveTo>
                  <a:pt x="10195" y="8384"/>
                </a:moveTo>
                <a:cubicBezTo>
                  <a:pt x="10311" y="8345"/>
                  <a:pt x="10374" y="8334"/>
                  <a:pt x="10492" y="8384"/>
                </a:cubicBezTo>
                <a:cubicBezTo>
                  <a:pt x="10561" y="8413"/>
                  <a:pt x="10595" y="8473"/>
                  <a:pt x="10542" y="8533"/>
                </a:cubicBezTo>
                <a:cubicBezTo>
                  <a:pt x="10468" y="8617"/>
                  <a:pt x="10378" y="8660"/>
                  <a:pt x="10294" y="8731"/>
                </a:cubicBezTo>
                <a:cubicBezTo>
                  <a:pt x="10271" y="8754"/>
                  <a:pt x="10263" y="8758"/>
                  <a:pt x="10269" y="8781"/>
                </a:cubicBezTo>
                <a:cubicBezTo>
                  <a:pt x="10356" y="8810"/>
                  <a:pt x="10418" y="8818"/>
                  <a:pt x="10492" y="8880"/>
                </a:cubicBezTo>
                <a:cubicBezTo>
                  <a:pt x="10553" y="8931"/>
                  <a:pt x="10590" y="9022"/>
                  <a:pt x="10567" y="9103"/>
                </a:cubicBezTo>
                <a:cubicBezTo>
                  <a:pt x="10549" y="9168"/>
                  <a:pt x="10459" y="9259"/>
                  <a:pt x="10393" y="9277"/>
                </a:cubicBezTo>
                <a:cubicBezTo>
                  <a:pt x="10347" y="9290"/>
                  <a:pt x="10268" y="9272"/>
                  <a:pt x="10244" y="9227"/>
                </a:cubicBezTo>
                <a:cubicBezTo>
                  <a:pt x="10209" y="9160"/>
                  <a:pt x="10213" y="9132"/>
                  <a:pt x="10244" y="9079"/>
                </a:cubicBezTo>
              </a:path>
              <a:path w="2680" h="969">
                <a:moveTo>
                  <a:pt x="10790" y="8905"/>
                </a:moveTo>
                <a:cubicBezTo>
                  <a:pt x="10798" y="8888"/>
                  <a:pt x="10807" y="8872"/>
                  <a:pt x="10815" y="8855"/>
                </a:cubicBezTo>
              </a:path>
              <a:path w="2680" h="969">
                <a:moveTo>
                  <a:pt x="11212" y="8359"/>
                </a:moveTo>
                <a:cubicBezTo>
                  <a:pt x="11323" y="8378"/>
                  <a:pt x="11472" y="8370"/>
                  <a:pt x="11509" y="8508"/>
                </a:cubicBezTo>
                <a:cubicBezTo>
                  <a:pt x="11537" y="8611"/>
                  <a:pt x="11437" y="8687"/>
                  <a:pt x="11385" y="8756"/>
                </a:cubicBezTo>
                <a:cubicBezTo>
                  <a:pt x="11326" y="8835"/>
                  <a:pt x="11244" y="8900"/>
                  <a:pt x="11187" y="8979"/>
                </a:cubicBezTo>
                <a:cubicBezTo>
                  <a:pt x="11156" y="9022"/>
                  <a:pt x="11119" y="9098"/>
                  <a:pt x="11137" y="9153"/>
                </a:cubicBezTo>
                <a:cubicBezTo>
                  <a:pt x="11158" y="9217"/>
                  <a:pt x="11244" y="9296"/>
                  <a:pt x="11311" y="9302"/>
                </a:cubicBezTo>
                <a:cubicBezTo>
                  <a:pt x="11380" y="9308"/>
                  <a:pt x="11469" y="9193"/>
                  <a:pt x="11509" y="9153"/>
                </a:cubicBezTo>
              </a:path>
              <a:path w="2680" h="969">
                <a:moveTo>
                  <a:pt x="11757" y="8830"/>
                </a:moveTo>
                <a:cubicBezTo>
                  <a:pt x="11757" y="8782"/>
                  <a:pt x="11759" y="8769"/>
                  <a:pt x="11782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02080" y="3017880"/>
            <a:ext cx="36720" cy="339840"/>
          </a:xfrm>
          <a:custGeom>
            <a:avLst/>
            <a:gdLst/>
            <a:ahLst/>
            <a:rect l="l" t="t" r="r" b="b"/>
            <a:pathLst>
              <a:path w="100" h="944">
                <a:moveTo>
                  <a:pt x="12229" y="8384"/>
                </a:moveTo>
                <a:cubicBezTo>
                  <a:pt x="12242" y="8592"/>
                  <a:pt x="12226" y="8843"/>
                  <a:pt x="12254" y="9054"/>
                </a:cubicBezTo>
                <a:cubicBezTo>
                  <a:pt x="12266" y="9144"/>
                  <a:pt x="12297" y="9244"/>
                  <a:pt x="12328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05000" y="4187880"/>
            <a:ext cx="250920" cy="438120"/>
          </a:xfrm>
          <a:custGeom>
            <a:avLst/>
            <a:gdLst/>
            <a:ahLst/>
            <a:rect l="l" t="t" r="r" b="b"/>
            <a:pathLst>
              <a:path w="695" h="1217">
                <a:moveTo>
                  <a:pt x="6127" y="11857"/>
                </a:moveTo>
                <a:cubicBezTo>
                  <a:pt x="6144" y="11823"/>
                  <a:pt x="6155" y="11792"/>
                  <a:pt x="6176" y="11757"/>
                </a:cubicBezTo>
                <a:cubicBezTo>
                  <a:pt x="6190" y="11734"/>
                  <a:pt x="6212" y="11692"/>
                  <a:pt x="6226" y="11683"/>
                </a:cubicBezTo>
                <a:cubicBezTo>
                  <a:pt x="6271" y="11654"/>
                  <a:pt x="6325" y="11636"/>
                  <a:pt x="6375" y="11633"/>
                </a:cubicBezTo>
                <a:cubicBezTo>
                  <a:pt x="6466" y="11628"/>
                  <a:pt x="6522" y="11625"/>
                  <a:pt x="6598" y="11683"/>
                </a:cubicBezTo>
                <a:cubicBezTo>
                  <a:pt x="6729" y="11784"/>
                  <a:pt x="6776" y="11946"/>
                  <a:pt x="6796" y="12105"/>
                </a:cubicBezTo>
                <a:cubicBezTo>
                  <a:pt x="6817" y="12278"/>
                  <a:pt x="6746" y="12404"/>
                  <a:pt x="6672" y="12551"/>
                </a:cubicBezTo>
                <a:cubicBezTo>
                  <a:pt x="6618" y="12658"/>
                  <a:pt x="6585" y="12723"/>
                  <a:pt x="6499" y="12799"/>
                </a:cubicBezTo>
                <a:cubicBezTo>
                  <a:pt x="6466" y="12828"/>
                  <a:pt x="6391" y="12898"/>
                  <a:pt x="6350" y="12824"/>
                </a:cubicBezTo>
                <a:cubicBezTo>
                  <a:pt x="6312" y="12757"/>
                  <a:pt x="6300" y="12700"/>
                  <a:pt x="6325" y="12626"/>
                </a:cubicBezTo>
                <a:cubicBezTo>
                  <a:pt x="6356" y="12533"/>
                  <a:pt x="6398" y="12461"/>
                  <a:pt x="6499" y="12427"/>
                </a:cubicBezTo>
                <a:cubicBezTo>
                  <a:pt x="6601" y="12393"/>
                  <a:pt x="6650" y="12455"/>
                  <a:pt x="6722" y="12502"/>
                </a:cubicBezTo>
                <a:cubicBezTo>
                  <a:pt x="6788" y="12546"/>
                  <a:pt x="6807" y="12567"/>
                  <a:pt x="6821" y="12650"/>
                </a:cubicBezTo>
                <a:cubicBezTo>
                  <a:pt x="6827" y="12684"/>
                  <a:pt x="6833" y="12725"/>
                  <a:pt x="6796" y="12725"/>
                </a:cubicBezTo>
                <a:cubicBezTo>
                  <a:pt x="6763" y="12725"/>
                  <a:pt x="6770" y="12698"/>
                  <a:pt x="6747" y="12675"/>
                </a:cubicBezTo>
                <a:cubicBezTo>
                  <a:pt x="6750" y="12675"/>
                  <a:pt x="6733" y="12649"/>
                  <a:pt x="6772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52840" y="4259160"/>
            <a:ext cx="1625400" cy="447840"/>
          </a:xfrm>
          <a:custGeom>
            <a:avLst/>
            <a:gdLst/>
            <a:ahLst/>
            <a:rect l="l" t="t" r="r" b="b"/>
            <a:pathLst>
              <a:path w="4515" h="1241">
                <a:moveTo>
                  <a:pt x="7466" y="11832"/>
                </a:moveTo>
                <a:cubicBezTo>
                  <a:pt x="7433" y="11955"/>
                  <a:pt x="7403" y="12080"/>
                  <a:pt x="7392" y="12204"/>
                </a:cubicBezTo>
                <a:cubicBezTo>
                  <a:pt x="7377" y="12370"/>
                  <a:pt x="7387" y="12540"/>
                  <a:pt x="7367" y="12700"/>
                </a:cubicBezTo>
                <a:cubicBezTo>
                  <a:pt x="7362" y="12743"/>
                  <a:pt x="7367" y="12804"/>
                  <a:pt x="7367" y="12849"/>
                </a:cubicBezTo>
                <a:cubicBezTo>
                  <a:pt x="7367" y="12898"/>
                  <a:pt x="7384" y="12820"/>
                  <a:pt x="7392" y="12799"/>
                </a:cubicBezTo>
                <a:cubicBezTo>
                  <a:pt x="7408" y="12749"/>
                  <a:pt x="7425" y="12700"/>
                  <a:pt x="7441" y="12650"/>
                </a:cubicBezTo>
              </a:path>
              <a:path w="4515" h="1241">
                <a:moveTo>
                  <a:pt x="7739" y="11906"/>
                </a:moveTo>
                <a:cubicBezTo>
                  <a:pt x="7795" y="11861"/>
                  <a:pt x="7896" y="11827"/>
                  <a:pt x="7962" y="11832"/>
                </a:cubicBezTo>
                <a:cubicBezTo>
                  <a:pt x="8038" y="11838"/>
                  <a:pt x="8106" y="11857"/>
                  <a:pt x="8186" y="11857"/>
                </a:cubicBezTo>
                <a:cubicBezTo>
                  <a:pt x="8216" y="11857"/>
                  <a:pt x="8295" y="11841"/>
                  <a:pt x="8310" y="11881"/>
                </a:cubicBezTo>
                <a:cubicBezTo>
                  <a:pt x="8329" y="11931"/>
                  <a:pt x="8298" y="12012"/>
                  <a:pt x="8285" y="12055"/>
                </a:cubicBezTo>
                <a:cubicBezTo>
                  <a:pt x="8248" y="12174"/>
                  <a:pt x="8197" y="12279"/>
                  <a:pt x="8161" y="12402"/>
                </a:cubicBezTo>
                <a:cubicBezTo>
                  <a:pt x="8127" y="12519"/>
                  <a:pt x="8090" y="12628"/>
                  <a:pt x="8086" y="12750"/>
                </a:cubicBezTo>
                <a:cubicBezTo>
                  <a:pt x="8085" y="12782"/>
                  <a:pt x="8072" y="12971"/>
                  <a:pt x="8111" y="12923"/>
                </a:cubicBezTo>
                <a:cubicBezTo>
                  <a:pt x="8119" y="12898"/>
                  <a:pt x="8128" y="12874"/>
                  <a:pt x="8136" y="12849"/>
                </a:cubicBezTo>
              </a:path>
              <a:path w="4515" h="1241">
                <a:moveTo>
                  <a:pt x="8508" y="12055"/>
                </a:moveTo>
                <a:cubicBezTo>
                  <a:pt x="8618" y="12061"/>
                  <a:pt x="8700" y="12080"/>
                  <a:pt x="8806" y="12080"/>
                </a:cubicBezTo>
                <a:cubicBezTo>
                  <a:pt x="8831" y="12080"/>
                  <a:pt x="8921" y="12082"/>
                  <a:pt x="8930" y="12105"/>
                </a:cubicBezTo>
                <a:cubicBezTo>
                  <a:pt x="8958" y="12180"/>
                  <a:pt x="8903" y="12285"/>
                  <a:pt x="8880" y="12353"/>
                </a:cubicBezTo>
                <a:cubicBezTo>
                  <a:pt x="8847" y="12452"/>
                  <a:pt x="8775" y="12550"/>
                  <a:pt x="8756" y="12650"/>
                </a:cubicBezTo>
                <a:cubicBezTo>
                  <a:pt x="8738" y="12748"/>
                  <a:pt x="8731" y="12846"/>
                  <a:pt x="8731" y="12948"/>
                </a:cubicBezTo>
                <a:cubicBezTo>
                  <a:pt x="8731" y="12962"/>
                  <a:pt x="8731" y="13115"/>
                  <a:pt x="8731" y="13047"/>
                </a:cubicBezTo>
                <a:cubicBezTo>
                  <a:pt x="8731" y="13014"/>
                  <a:pt x="8731" y="12998"/>
                  <a:pt x="8731" y="12973"/>
                </a:cubicBezTo>
              </a:path>
              <a:path w="4515" h="1241">
                <a:moveTo>
                  <a:pt x="9079" y="12154"/>
                </a:moveTo>
                <a:cubicBezTo>
                  <a:pt x="9167" y="12117"/>
                  <a:pt x="9255" y="12070"/>
                  <a:pt x="9351" y="12129"/>
                </a:cubicBezTo>
                <a:cubicBezTo>
                  <a:pt x="9468" y="12201"/>
                  <a:pt x="9472" y="12333"/>
                  <a:pt x="9475" y="12452"/>
                </a:cubicBezTo>
                <a:cubicBezTo>
                  <a:pt x="9478" y="12589"/>
                  <a:pt x="9435" y="12714"/>
                  <a:pt x="9351" y="12824"/>
                </a:cubicBezTo>
                <a:cubicBezTo>
                  <a:pt x="9314" y="12872"/>
                  <a:pt x="9211" y="12994"/>
                  <a:pt x="9153" y="13022"/>
                </a:cubicBezTo>
                <a:cubicBezTo>
                  <a:pt x="9145" y="13022"/>
                  <a:pt x="9136" y="13022"/>
                  <a:pt x="9128" y="13022"/>
                </a:cubicBezTo>
                <a:cubicBezTo>
                  <a:pt x="9128" y="12936"/>
                  <a:pt x="9143" y="12913"/>
                  <a:pt x="9203" y="12849"/>
                </a:cubicBezTo>
                <a:cubicBezTo>
                  <a:pt x="9297" y="12748"/>
                  <a:pt x="9393" y="12709"/>
                  <a:pt x="9500" y="12824"/>
                </a:cubicBezTo>
                <a:cubicBezTo>
                  <a:pt x="9548" y="12875"/>
                  <a:pt x="9573" y="12977"/>
                  <a:pt x="9624" y="13022"/>
                </a:cubicBezTo>
                <a:cubicBezTo>
                  <a:pt x="9675" y="13066"/>
                  <a:pt x="9741" y="12933"/>
                  <a:pt x="9748" y="12923"/>
                </a:cubicBezTo>
              </a:path>
              <a:path w="4515" h="1241">
                <a:moveTo>
                  <a:pt x="10120" y="12129"/>
                </a:moveTo>
                <a:cubicBezTo>
                  <a:pt x="10074" y="12097"/>
                  <a:pt x="10043" y="12067"/>
                  <a:pt x="9996" y="12055"/>
                </a:cubicBezTo>
                <a:cubicBezTo>
                  <a:pt x="9965" y="12097"/>
                  <a:pt x="9977" y="12204"/>
                  <a:pt x="9996" y="12254"/>
                </a:cubicBezTo>
                <a:cubicBezTo>
                  <a:pt x="10043" y="12378"/>
                  <a:pt x="10087" y="12492"/>
                  <a:pt x="10120" y="12626"/>
                </a:cubicBezTo>
                <a:cubicBezTo>
                  <a:pt x="10130" y="12668"/>
                  <a:pt x="10156" y="12837"/>
                  <a:pt x="10096" y="12874"/>
                </a:cubicBezTo>
                <a:cubicBezTo>
                  <a:pt x="10056" y="12899"/>
                  <a:pt x="9989" y="12902"/>
                  <a:pt x="9947" y="12874"/>
                </a:cubicBezTo>
                <a:cubicBezTo>
                  <a:pt x="9886" y="12834"/>
                  <a:pt x="9894" y="12810"/>
                  <a:pt x="9922" y="12750"/>
                </a:cubicBezTo>
                <a:cubicBezTo>
                  <a:pt x="9966" y="12658"/>
                  <a:pt x="10037" y="12628"/>
                  <a:pt x="10120" y="12576"/>
                </a:cubicBezTo>
                <a:cubicBezTo>
                  <a:pt x="10196" y="12529"/>
                  <a:pt x="10320" y="12481"/>
                  <a:pt x="10368" y="12402"/>
                </a:cubicBezTo>
                <a:cubicBezTo>
                  <a:pt x="10400" y="12350"/>
                  <a:pt x="10422" y="12262"/>
                  <a:pt x="10443" y="12204"/>
                </a:cubicBezTo>
              </a:path>
              <a:path w="4515" h="1241">
                <a:moveTo>
                  <a:pt x="10517" y="12229"/>
                </a:moveTo>
                <a:cubicBezTo>
                  <a:pt x="10485" y="12299"/>
                  <a:pt x="10403" y="12419"/>
                  <a:pt x="10418" y="12502"/>
                </a:cubicBezTo>
                <a:cubicBezTo>
                  <a:pt x="10429" y="12565"/>
                  <a:pt x="10509" y="12690"/>
                  <a:pt x="10567" y="12725"/>
                </a:cubicBezTo>
                <a:cubicBezTo>
                  <a:pt x="10649" y="12774"/>
                  <a:pt x="10751" y="12793"/>
                  <a:pt x="10840" y="12750"/>
                </a:cubicBezTo>
                <a:cubicBezTo>
                  <a:pt x="10911" y="12716"/>
                  <a:pt x="11089" y="12552"/>
                  <a:pt x="11112" y="12477"/>
                </a:cubicBezTo>
                <a:cubicBezTo>
                  <a:pt x="11141" y="12381"/>
                  <a:pt x="11084" y="12200"/>
                  <a:pt x="11013" y="12129"/>
                </a:cubicBezTo>
                <a:cubicBezTo>
                  <a:pt x="10929" y="12045"/>
                  <a:pt x="10781" y="11975"/>
                  <a:pt x="10666" y="11956"/>
                </a:cubicBezTo>
                <a:cubicBezTo>
                  <a:pt x="10594" y="11944"/>
                  <a:pt x="10548" y="11969"/>
                  <a:pt x="10492" y="12005"/>
                </a:cubicBezTo>
              </a:path>
              <a:path w="4515" h="1241">
                <a:moveTo>
                  <a:pt x="11286" y="12254"/>
                </a:moveTo>
                <a:cubicBezTo>
                  <a:pt x="11238" y="12363"/>
                  <a:pt x="11162" y="12440"/>
                  <a:pt x="11212" y="12551"/>
                </a:cubicBezTo>
                <a:cubicBezTo>
                  <a:pt x="11249" y="12633"/>
                  <a:pt x="11319" y="12686"/>
                  <a:pt x="11410" y="12700"/>
                </a:cubicBezTo>
                <a:cubicBezTo>
                  <a:pt x="11530" y="12719"/>
                  <a:pt x="11634" y="12655"/>
                  <a:pt x="11733" y="12601"/>
                </a:cubicBezTo>
                <a:cubicBezTo>
                  <a:pt x="11811" y="12558"/>
                  <a:pt x="11868" y="12512"/>
                  <a:pt x="11881" y="12427"/>
                </a:cubicBezTo>
                <a:cubicBezTo>
                  <a:pt x="11893" y="12351"/>
                  <a:pt x="11780" y="12206"/>
                  <a:pt x="11733" y="12154"/>
                </a:cubicBezTo>
                <a:cubicBezTo>
                  <a:pt x="11616" y="12023"/>
                  <a:pt x="11477" y="12022"/>
                  <a:pt x="11311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60960" y="2901960"/>
            <a:ext cx="196920" cy="90360"/>
          </a:xfrm>
          <a:custGeom>
            <a:avLst/>
            <a:gdLst/>
            <a:ahLst/>
            <a:rect l="l" t="t" r="r" b="b"/>
            <a:pathLst>
              <a:path w="547" h="249">
                <a:moveTo>
                  <a:pt x="14337" y="8086"/>
                </a:moveTo>
                <a:cubicBezTo>
                  <a:pt x="14503" y="8086"/>
                  <a:pt x="14682" y="8091"/>
                  <a:pt x="14833" y="8062"/>
                </a:cubicBezTo>
                <a:cubicBezTo>
                  <a:pt x="14850" y="8062"/>
                  <a:pt x="14866" y="8062"/>
                  <a:pt x="14883" y="8062"/>
                </a:cubicBezTo>
              </a:path>
              <a:path w="547" h="249">
                <a:moveTo>
                  <a:pt x="14412" y="8186"/>
                </a:moveTo>
                <a:cubicBezTo>
                  <a:pt x="14523" y="8231"/>
                  <a:pt x="14640" y="8289"/>
                  <a:pt x="14759" y="8310"/>
                </a:cubicBezTo>
                <a:cubicBezTo>
                  <a:pt x="14817" y="8310"/>
                  <a:pt x="14842" y="8310"/>
                  <a:pt x="14883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9720" y="2697120"/>
            <a:ext cx="696960" cy="330120"/>
          </a:xfrm>
          <a:custGeom>
            <a:avLst/>
            <a:gdLst/>
            <a:ahLst/>
            <a:rect l="l" t="t" r="r" b="b"/>
            <a:pathLst>
              <a:path w="1935" h="919">
                <a:moveTo>
                  <a:pt x="15528" y="7590"/>
                </a:moveTo>
                <a:cubicBezTo>
                  <a:pt x="15580" y="7486"/>
                  <a:pt x="15585" y="7491"/>
                  <a:pt x="15701" y="7491"/>
                </a:cubicBezTo>
                <a:cubicBezTo>
                  <a:pt x="15799" y="7491"/>
                  <a:pt x="15885" y="7570"/>
                  <a:pt x="15925" y="7665"/>
                </a:cubicBezTo>
                <a:cubicBezTo>
                  <a:pt x="15969" y="7771"/>
                  <a:pt x="15969" y="7956"/>
                  <a:pt x="15925" y="8062"/>
                </a:cubicBezTo>
                <a:cubicBezTo>
                  <a:pt x="15887" y="8153"/>
                  <a:pt x="15810" y="8238"/>
                  <a:pt x="15726" y="8285"/>
                </a:cubicBezTo>
                <a:cubicBezTo>
                  <a:pt x="15685" y="8308"/>
                  <a:pt x="15629" y="8359"/>
                  <a:pt x="15577" y="8334"/>
                </a:cubicBezTo>
                <a:cubicBezTo>
                  <a:pt x="15503" y="8298"/>
                  <a:pt x="15530" y="8214"/>
                  <a:pt x="15553" y="8161"/>
                </a:cubicBezTo>
                <a:cubicBezTo>
                  <a:pt x="15585" y="8088"/>
                  <a:pt x="15647" y="8046"/>
                  <a:pt x="15726" y="8111"/>
                </a:cubicBezTo>
                <a:cubicBezTo>
                  <a:pt x="15783" y="8157"/>
                  <a:pt x="15808" y="8250"/>
                  <a:pt x="15850" y="8310"/>
                </a:cubicBezTo>
                <a:cubicBezTo>
                  <a:pt x="15867" y="8334"/>
                  <a:pt x="15902" y="8421"/>
                  <a:pt x="15925" y="8409"/>
                </a:cubicBezTo>
                <a:cubicBezTo>
                  <a:pt x="15954" y="8379"/>
                  <a:pt x="15965" y="8364"/>
                  <a:pt x="15974" y="8334"/>
                </a:cubicBezTo>
              </a:path>
              <a:path w="1935" h="919">
                <a:moveTo>
                  <a:pt x="16272" y="7541"/>
                </a:moveTo>
                <a:cubicBezTo>
                  <a:pt x="16295" y="7684"/>
                  <a:pt x="16297" y="7816"/>
                  <a:pt x="16297" y="7962"/>
                </a:cubicBezTo>
                <a:cubicBezTo>
                  <a:pt x="16297" y="8057"/>
                  <a:pt x="16281" y="8198"/>
                  <a:pt x="16321" y="8285"/>
                </a:cubicBezTo>
                <a:cubicBezTo>
                  <a:pt x="16349" y="8346"/>
                  <a:pt x="16339" y="8327"/>
                  <a:pt x="16371" y="8285"/>
                </a:cubicBezTo>
              </a:path>
              <a:path w="1935" h="919">
                <a:moveTo>
                  <a:pt x="16768" y="7615"/>
                </a:moveTo>
                <a:cubicBezTo>
                  <a:pt x="16749" y="7776"/>
                  <a:pt x="16743" y="7924"/>
                  <a:pt x="16743" y="8086"/>
                </a:cubicBezTo>
                <a:cubicBezTo>
                  <a:pt x="16743" y="8154"/>
                  <a:pt x="16787" y="8267"/>
                  <a:pt x="16867" y="8285"/>
                </a:cubicBezTo>
                <a:cubicBezTo>
                  <a:pt x="16960" y="8306"/>
                  <a:pt x="17106" y="8274"/>
                  <a:pt x="17190" y="8235"/>
                </a:cubicBezTo>
                <a:cubicBezTo>
                  <a:pt x="17292" y="8188"/>
                  <a:pt x="17357" y="8055"/>
                  <a:pt x="17413" y="7962"/>
                </a:cubicBezTo>
                <a:cubicBezTo>
                  <a:pt x="17455" y="7892"/>
                  <a:pt x="17483" y="7804"/>
                  <a:pt x="17413" y="7739"/>
                </a:cubicBezTo>
                <a:cubicBezTo>
                  <a:pt x="17317" y="7650"/>
                  <a:pt x="17205" y="7656"/>
                  <a:pt x="17090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Evaluate:</a:t>
            </a:r>
            <a:br>
              <a:rPr sz="4000"/>
            </a:b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7!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4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03200" y="668016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3621" y="18579"/>
                </a:moveTo>
                <a:cubicBezTo>
                  <a:pt x="3621" y="18571"/>
                  <a:pt x="3621" y="18562"/>
                  <a:pt x="3621" y="185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Evaluate:</a:t>
            </a:r>
            <a:br>
              <a:rPr sz="4000"/>
            </a:b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10! 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• 3!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Sigma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igma is the notation used for summation of limi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symbol is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124080" y="1447920"/>
          <a:ext cx="26672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26672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714680" y="2982960"/>
            <a:ext cx="4027320" cy="1000080"/>
          </a:xfrm>
          <a:custGeom>
            <a:avLst/>
            <a:gdLst/>
            <a:ahLst/>
            <a:rect l="l" t="t" r="r" b="b"/>
            <a:pathLst>
              <a:path w="11188" h="2779">
                <a:moveTo>
                  <a:pt x="4762" y="10071"/>
                </a:moveTo>
                <a:cubicBezTo>
                  <a:pt x="4797" y="10139"/>
                  <a:pt x="4846" y="10220"/>
                  <a:pt x="4862" y="10294"/>
                </a:cubicBezTo>
                <a:cubicBezTo>
                  <a:pt x="4878" y="10368"/>
                  <a:pt x="4924" y="10446"/>
                  <a:pt x="4936" y="10517"/>
                </a:cubicBezTo>
                <a:cubicBezTo>
                  <a:pt x="4952" y="10609"/>
                  <a:pt x="4948" y="10601"/>
                  <a:pt x="5011" y="10666"/>
                </a:cubicBezTo>
                <a:cubicBezTo>
                  <a:pt x="5039" y="10695"/>
                  <a:pt x="5093" y="10703"/>
                  <a:pt x="5135" y="10691"/>
                </a:cubicBezTo>
                <a:cubicBezTo>
                  <a:pt x="5235" y="10661"/>
                  <a:pt x="5351" y="10583"/>
                  <a:pt x="5432" y="10517"/>
                </a:cubicBezTo>
                <a:cubicBezTo>
                  <a:pt x="5502" y="10460"/>
                  <a:pt x="5581" y="10445"/>
                  <a:pt x="5655" y="10393"/>
                </a:cubicBezTo>
                <a:cubicBezTo>
                  <a:pt x="5693" y="10367"/>
                  <a:pt x="5721" y="10345"/>
                  <a:pt x="5755" y="10319"/>
                </a:cubicBezTo>
              </a:path>
              <a:path w="11188" h="2779">
                <a:moveTo>
                  <a:pt x="13915" y="8285"/>
                </a:moveTo>
                <a:cubicBezTo>
                  <a:pt x="13920" y="8404"/>
                  <a:pt x="13929" y="8476"/>
                  <a:pt x="13891" y="8607"/>
                </a:cubicBezTo>
                <a:cubicBezTo>
                  <a:pt x="13857" y="8724"/>
                  <a:pt x="13792" y="8881"/>
                  <a:pt x="13717" y="8979"/>
                </a:cubicBezTo>
                <a:cubicBezTo>
                  <a:pt x="13594" y="9142"/>
                  <a:pt x="13449" y="9270"/>
                  <a:pt x="13295" y="9401"/>
                </a:cubicBezTo>
                <a:cubicBezTo>
                  <a:pt x="13006" y="9648"/>
                  <a:pt x="12616" y="9795"/>
                  <a:pt x="12254" y="9897"/>
                </a:cubicBezTo>
                <a:cubicBezTo>
                  <a:pt x="11991" y="9971"/>
                  <a:pt x="11731" y="10014"/>
                  <a:pt x="11460" y="10046"/>
                </a:cubicBezTo>
                <a:cubicBezTo>
                  <a:pt x="11167" y="10081"/>
                  <a:pt x="10887" y="10096"/>
                  <a:pt x="10592" y="10096"/>
                </a:cubicBezTo>
                <a:cubicBezTo>
                  <a:pt x="10293" y="10096"/>
                  <a:pt x="9997" y="10059"/>
                  <a:pt x="9699" y="10046"/>
                </a:cubicBezTo>
                <a:cubicBezTo>
                  <a:pt x="9464" y="10036"/>
                  <a:pt x="9238" y="10005"/>
                  <a:pt x="9004" y="9971"/>
                </a:cubicBezTo>
                <a:cubicBezTo>
                  <a:pt x="8800" y="9941"/>
                  <a:pt x="8584" y="9901"/>
                  <a:pt x="8384" y="9847"/>
                </a:cubicBezTo>
                <a:cubicBezTo>
                  <a:pt x="8244" y="9810"/>
                  <a:pt x="8110" y="9773"/>
                  <a:pt x="7962" y="9773"/>
                </a:cubicBezTo>
                <a:cubicBezTo>
                  <a:pt x="7871" y="9773"/>
                  <a:pt x="7770" y="9806"/>
                  <a:pt x="7689" y="9847"/>
                </a:cubicBezTo>
                <a:cubicBezTo>
                  <a:pt x="7566" y="9910"/>
                  <a:pt x="7603" y="9952"/>
                  <a:pt x="7565" y="10046"/>
                </a:cubicBezTo>
                <a:cubicBezTo>
                  <a:pt x="7531" y="10129"/>
                  <a:pt x="7544" y="10166"/>
                  <a:pt x="7565" y="10244"/>
                </a:cubicBezTo>
                <a:cubicBezTo>
                  <a:pt x="7577" y="10291"/>
                  <a:pt x="7645" y="10330"/>
                  <a:pt x="7615" y="10368"/>
                </a:cubicBezTo>
                <a:cubicBezTo>
                  <a:pt x="7576" y="10418"/>
                  <a:pt x="7621" y="10330"/>
                  <a:pt x="7541" y="10319"/>
                </a:cubicBezTo>
              </a:path>
              <a:path w="11188" h="2779">
                <a:moveTo>
                  <a:pt x="7268" y="10071"/>
                </a:moveTo>
                <a:cubicBezTo>
                  <a:pt x="7303" y="10140"/>
                  <a:pt x="7312" y="10202"/>
                  <a:pt x="7342" y="10269"/>
                </a:cubicBezTo>
                <a:cubicBezTo>
                  <a:pt x="7391" y="10379"/>
                  <a:pt x="7457" y="10481"/>
                  <a:pt x="7541" y="10567"/>
                </a:cubicBezTo>
                <a:cubicBezTo>
                  <a:pt x="7570" y="10597"/>
                  <a:pt x="7645" y="10605"/>
                  <a:pt x="7689" y="10592"/>
                </a:cubicBezTo>
                <a:cubicBezTo>
                  <a:pt x="7751" y="10574"/>
                  <a:pt x="7817" y="10510"/>
                  <a:pt x="7863" y="10468"/>
                </a:cubicBezTo>
                <a:cubicBezTo>
                  <a:pt x="7909" y="10426"/>
                  <a:pt x="7963" y="10404"/>
                  <a:pt x="8012" y="10368"/>
                </a:cubicBezTo>
                <a:cubicBezTo>
                  <a:pt x="8025" y="10359"/>
                  <a:pt x="8098" y="10287"/>
                  <a:pt x="8111" y="10294"/>
                </a:cubicBezTo>
                <a:cubicBezTo>
                  <a:pt x="8111" y="10319"/>
                  <a:pt x="8111" y="10327"/>
                  <a:pt x="8086" y="10319"/>
                </a:cubicBezTo>
              </a:path>
              <a:path w="11188" h="2779">
                <a:moveTo>
                  <a:pt x="13791" y="8533"/>
                </a:moveTo>
                <a:cubicBezTo>
                  <a:pt x="13911" y="8573"/>
                  <a:pt x="13995" y="8555"/>
                  <a:pt x="14039" y="8706"/>
                </a:cubicBezTo>
                <a:cubicBezTo>
                  <a:pt x="14079" y="8845"/>
                  <a:pt x="14039" y="8967"/>
                  <a:pt x="14015" y="9103"/>
                </a:cubicBezTo>
                <a:cubicBezTo>
                  <a:pt x="13980" y="9302"/>
                  <a:pt x="13917" y="9421"/>
                  <a:pt x="13791" y="9575"/>
                </a:cubicBezTo>
                <a:cubicBezTo>
                  <a:pt x="13669" y="9723"/>
                  <a:pt x="13545" y="9876"/>
                  <a:pt x="13370" y="9971"/>
                </a:cubicBezTo>
                <a:cubicBezTo>
                  <a:pt x="13055" y="10143"/>
                  <a:pt x="12678" y="10199"/>
                  <a:pt x="12328" y="10220"/>
                </a:cubicBezTo>
                <a:cubicBezTo>
                  <a:pt x="12102" y="10233"/>
                  <a:pt x="11881" y="10206"/>
                  <a:pt x="11658" y="10195"/>
                </a:cubicBezTo>
                <a:cubicBezTo>
                  <a:pt x="11391" y="10182"/>
                  <a:pt x="11128" y="10206"/>
                  <a:pt x="10864" y="10220"/>
                </a:cubicBezTo>
                <a:cubicBezTo>
                  <a:pt x="10657" y="10231"/>
                  <a:pt x="10450" y="10232"/>
                  <a:pt x="10244" y="10244"/>
                </a:cubicBezTo>
                <a:cubicBezTo>
                  <a:pt x="10035" y="10256"/>
                  <a:pt x="9807" y="10285"/>
                  <a:pt x="9624" y="10393"/>
                </a:cubicBezTo>
                <a:cubicBezTo>
                  <a:pt x="9499" y="10467"/>
                  <a:pt x="9445" y="10604"/>
                  <a:pt x="9451" y="10740"/>
                </a:cubicBezTo>
                <a:cubicBezTo>
                  <a:pt x="9453" y="10784"/>
                  <a:pt x="9468" y="10800"/>
                  <a:pt x="9475" y="10840"/>
                </a:cubicBezTo>
                <a:cubicBezTo>
                  <a:pt x="9459" y="10785"/>
                  <a:pt x="9444" y="10723"/>
                  <a:pt x="9426" y="10666"/>
                </a:cubicBezTo>
              </a:path>
              <a:path w="11188" h="2779">
                <a:moveTo>
                  <a:pt x="9178" y="10418"/>
                </a:moveTo>
                <a:cubicBezTo>
                  <a:pt x="9178" y="10492"/>
                  <a:pt x="9212" y="10524"/>
                  <a:pt x="9227" y="10592"/>
                </a:cubicBezTo>
                <a:cubicBezTo>
                  <a:pt x="9240" y="10650"/>
                  <a:pt x="9255" y="10710"/>
                  <a:pt x="9277" y="10765"/>
                </a:cubicBezTo>
                <a:cubicBezTo>
                  <a:pt x="9296" y="10812"/>
                  <a:pt x="9337" y="10846"/>
                  <a:pt x="9351" y="10889"/>
                </a:cubicBezTo>
                <a:cubicBezTo>
                  <a:pt x="9351" y="10897"/>
                  <a:pt x="9351" y="10906"/>
                  <a:pt x="9351" y="10914"/>
                </a:cubicBezTo>
                <a:cubicBezTo>
                  <a:pt x="9381" y="10904"/>
                  <a:pt x="9392" y="10893"/>
                  <a:pt x="9426" y="10864"/>
                </a:cubicBezTo>
                <a:cubicBezTo>
                  <a:pt x="9491" y="10808"/>
                  <a:pt x="9614" y="10743"/>
                  <a:pt x="9699" y="10716"/>
                </a:cubicBezTo>
                <a:cubicBezTo>
                  <a:pt x="9817" y="10678"/>
                  <a:pt x="9951" y="10654"/>
                  <a:pt x="10071" y="10641"/>
                </a:cubicBezTo>
                <a:cubicBezTo>
                  <a:pt x="10127" y="10635"/>
                  <a:pt x="10228" y="10667"/>
                  <a:pt x="10244" y="10616"/>
                </a:cubicBezTo>
              </a:path>
              <a:path w="11188" h="2779">
                <a:moveTo>
                  <a:pt x="14188" y="8409"/>
                </a:moveTo>
                <a:cubicBezTo>
                  <a:pt x="14335" y="8486"/>
                  <a:pt x="14407" y="8560"/>
                  <a:pt x="14461" y="8731"/>
                </a:cubicBezTo>
                <a:cubicBezTo>
                  <a:pt x="14512" y="8892"/>
                  <a:pt x="14529" y="9085"/>
                  <a:pt x="14511" y="9252"/>
                </a:cubicBezTo>
                <a:cubicBezTo>
                  <a:pt x="14494" y="9416"/>
                  <a:pt x="14446" y="9497"/>
                  <a:pt x="14362" y="9624"/>
                </a:cubicBezTo>
                <a:cubicBezTo>
                  <a:pt x="14291" y="9732"/>
                  <a:pt x="14176" y="9835"/>
                  <a:pt x="14064" y="9897"/>
                </a:cubicBezTo>
                <a:cubicBezTo>
                  <a:pt x="13921" y="9976"/>
                  <a:pt x="13727" y="9993"/>
                  <a:pt x="13568" y="10021"/>
                </a:cubicBezTo>
                <a:cubicBezTo>
                  <a:pt x="13325" y="10064"/>
                  <a:pt x="13091" y="10090"/>
                  <a:pt x="12849" y="10120"/>
                </a:cubicBezTo>
                <a:cubicBezTo>
                  <a:pt x="12667" y="10142"/>
                  <a:pt x="12484" y="10166"/>
                  <a:pt x="12303" y="10195"/>
                </a:cubicBezTo>
                <a:cubicBezTo>
                  <a:pt x="12076" y="10231"/>
                  <a:pt x="11852" y="10277"/>
                  <a:pt x="11633" y="10344"/>
                </a:cubicBezTo>
                <a:cubicBezTo>
                  <a:pt x="11515" y="10380"/>
                  <a:pt x="11485" y="10404"/>
                  <a:pt x="11410" y="10492"/>
                </a:cubicBezTo>
                <a:cubicBezTo>
                  <a:pt x="11358" y="10553"/>
                  <a:pt x="11368" y="10569"/>
                  <a:pt x="11385" y="10641"/>
                </a:cubicBezTo>
                <a:cubicBezTo>
                  <a:pt x="11403" y="10714"/>
                  <a:pt x="11460" y="10731"/>
                  <a:pt x="11460" y="10815"/>
                </a:cubicBezTo>
                <a:cubicBezTo>
                  <a:pt x="11460" y="10938"/>
                  <a:pt x="11495" y="10794"/>
                  <a:pt x="11435" y="10864"/>
                </a:cubicBezTo>
              </a:path>
              <a:path w="11188" h="2779">
                <a:moveTo>
                  <a:pt x="11137" y="10517"/>
                </a:moveTo>
                <a:cubicBezTo>
                  <a:pt x="11118" y="10555"/>
                  <a:pt x="11129" y="10612"/>
                  <a:pt x="11162" y="10666"/>
                </a:cubicBezTo>
                <a:cubicBezTo>
                  <a:pt x="11198" y="10724"/>
                  <a:pt x="11263" y="10746"/>
                  <a:pt x="11286" y="10815"/>
                </a:cubicBezTo>
                <a:cubicBezTo>
                  <a:pt x="11301" y="10862"/>
                  <a:pt x="11307" y="10900"/>
                  <a:pt x="11336" y="10939"/>
                </a:cubicBezTo>
                <a:cubicBezTo>
                  <a:pt x="11347" y="10895"/>
                  <a:pt x="11376" y="10874"/>
                  <a:pt x="11410" y="10840"/>
                </a:cubicBezTo>
                <a:cubicBezTo>
                  <a:pt x="11497" y="10753"/>
                  <a:pt x="11616" y="10745"/>
                  <a:pt x="11733" y="10716"/>
                </a:cubicBezTo>
                <a:cubicBezTo>
                  <a:pt x="11860" y="10684"/>
                  <a:pt x="11919" y="10664"/>
                  <a:pt x="12005" y="10616"/>
                </a:cubicBezTo>
              </a:path>
              <a:path w="11188" h="2779">
                <a:moveTo>
                  <a:pt x="14163" y="8582"/>
                </a:moveTo>
                <a:cubicBezTo>
                  <a:pt x="14263" y="8626"/>
                  <a:pt x="14349" y="8646"/>
                  <a:pt x="14412" y="8756"/>
                </a:cubicBezTo>
                <a:cubicBezTo>
                  <a:pt x="14514" y="8935"/>
                  <a:pt x="14569" y="9078"/>
                  <a:pt x="14585" y="9277"/>
                </a:cubicBezTo>
                <a:cubicBezTo>
                  <a:pt x="14597" y="9422"/>
                  <a:pt x="14537" y="9547"/>
                  <a:pt x="14436" y="9649"/>
                </a:cubicBezTo>
                <a:cubicBezTo>
                  <a:pt x="14344" y="9742"/>
                  <a:pt x="14258" y="9811"/>
                  <a:pt x="14139" y="9872"/>
                </a:cubicBezTo>
                <a:cubicBezTo>
                  <a:pt x="14004" y="9941"/>
                  <a:pt x="13863" y="9971"/>
                  <a:pt x="13742" y="10071"/>
                </a:cubicBezTo>
                <a:cubicBezTo>
                  <a:pt x="13658" y="10140"/>
                  <a:pt x="13504" y="10259"/>
                  <a:pt x="13444" y="10344"/>
                </a:cubicBezTo>
                <a:cubicBezTo>
                  <a:pt x="13401" y="10405"/>
                  <a:pt x="13332" y="10538"/>
                  <a:pt x="13320" y="10616"/>
                </a:cubicBezTo>
                <a:cubicBezTo>
                  <a:pt x="13306" y="10704"/>
                  <a:pt x="13328" y="10781"/>
                  <a:pt x="13345" y="10864"/>
                </a:cubicBezTo>
                <a:cubicBezTo>
                  <a:pt x="13355" y="10913"/>
                  <a:pt x="13400" y="10997"/>
                  <a:pt x="13395" y="11038"/>
                </a:cubicBezTo>
                <a:cubicBezTo>
                  <a:pt x="13389" y="11093"/>
                  <a:pt x="13372" y="11029"/>
                  <a:pt x="13345" y="11013"/>
                </a:cubicBezTo>
              </a:path>
              <a:path w="11188" h="2779">
                <a:moveTo>
                  <a:pt x="13097" y="10691"/>
                </a:moveTo>
                <a:cubicBezTo>
                  <a:pt x="13089" y="10683"/>
                  <a:pt x="13080" y="10674"/>
                  <a:pt x="13072" y="10666"/>
                </a:cubicBezTo>
                <a:cubicBezTo>
                  <a:pt x="13080" y="10689"/>
                  <a:pt x="13146" y="10761"/>
                  <a:pt x="13171" y="10790"/>
                </a:cubicBezTo>
                <a:cubicBezTo>
                  <a:pt x="13216" y="10843"/>
                  <a:pt x="13271" y="10890"/>
                  <a:pt x="13320" y="10939"/>
                </a:cubicBezTo>
                <a:cubicBezTo>
                  <a:pt x="13356" y="10975"/>
                  <a:pt x="13330" y="10975"/>
                  <a:pt x="13370" y="10988"/>
                </a:cubicBezTo>
                <a:cubicBezTo>
                  <a:pt x="13407" y="10928"/>
                  <a:pt x="13402" y="10892"/>
                  <a:pt x="13469" y="10840"/>
                </a:cubicBezTo>
                <a:cubicBezTo>
                  <a:pt x="13564" y="10766"/>
                  <a:pt x="13683" y="10691"/>
                  <a:pt x="13791" y="10641"/>
                </a:cubicBezTo>
                <a:cubicBezTo>
                  <a:pt x="13869" y="10615"/>
                  <a:pt x="13897" y="10605"/>
                  <a:pt x="13940" y="10567"/>
                </a:cubicBezTo>
              </a:path>
              <a:path w="11188" h="2779">
                <a:moveTo>
                  <a:pt x="14883" y="8359"/>
                </a:moveTo>
                <a:cubicBezTo>
                  <a:pt x="14905" y="8337"/>
                  <a:pt x="14914" y="8332"/>
                  <a:pt x="14908" y="8310"/>
                </a:cubicBezTo>
                <a:cubicBezTo>
                  <a:pt x="14940" y="8356"/>
                  <a:pt x="14953" y="8388"/>
                  <a:pt x="14982" y="8458"/>
                </a:cubicBezTo>
                <a:cubicBezTo>
                  <a:pt x="15028" y="8570"/>
                  <a:pt x="15033" y="8667"/>
                  <a:pt x="15056" y="8781"/>
                </a:cubicBezTo>
                <a:cubicBezTo>
                  <a:pt x="15082" y="8911"/>
                  <a:pt x="15149" y="9025"/>
                  <a:pt x="15180" y="9153"/>
                </a:cubicBezTo>
                <a:cubicBezTo>
                  <a:pt x="15218" y="9308"/>
                  <a:pt x="15248" y="9467"/>
                  <a:pt x="15280" y="9624"/>
                </a:cubicBezTo>
                <a:cubicBezTo>
                  <a:pt x="15319" y="9819"/>
                  <a:pt x="15397" y="10004"/>
                  <a:pt x="15453" y="10195"/>
                </a:cubicBezTo>
                <a:cubicBezTo>
                  <a:pt x="15490" y="10321"/>
                  <a:pt x="15537" y="10441"/>
                  <a:pt x="15577" y="10567"/>
                </a:cubicBezTo>
                <a:cubicBezTo>
                  <a:pt x="15595" y="10624"/>
                  <a:pt x="15655" y="10706"/>
                  <a:pt x="15652" y="10765"/>
                </a:cubicBezTo>
                <a:cubicBezTo>
                  <a:pt x="15644" y="10782"/>
                  <a:pt x="15635" y="10798"/>
                  <a:pt x="15627" y="10815"/>
                </a:cubicBezTo>
              </a:path>
              <a:path w="11188" h="2779">
                <a:moveTo>
                  <a:pt x="15230" y="10592"/>
                </a:moveTo>
                <a:cubicBezTo>
                  <a:pt x="15274" y="10635"/>
                  <a:pt x="15312" y="10704"/>
                  <a:pt x="15354" y="10740"/>
                </a:cubicBezTo>
                <a:cubicBezTo>
                  <a:pt x="15419" y="10796"/>
                  <a:pt x="15462" y="10855"/>
                  <a:pt x="15528" y="10914"/>
                </a:cubicBezTo>
                <a:cubicBezTo>
                  <a:pt x="15578" y="10959"/>
                  <a:pt x="15596" y="10984"/>
                  <a:pt x="15677" y="10964"/>
                </a:cubicBezTo>
                <a:cubicBezTo>
                  <a:pt x="15736" y="10949"/>
                  <a:pt x="15773" y="10887"/>
                  <a:pt x="15801" y="10840"/>
                </a:cubicBezTo>
                <a:cubicBezTo>
                  <a:pt x="15846" y="10763"/>
                  <a:pt x="15888" y="10695"/>
                  <a:pt x="15925" y="10616"/>
                </a:cubicBezTo>
                <a:cubicBezTo>
                  <a:pt x="15957" y="10549"/>
                  <a:pt x="15949" y="10492"/>
                  <a:pt x="15949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90760" y="3946680"/>
            <a:ext cx="295200" cy="474480"/>
          </a:xfrm>
          <a:custGeom>
            <a:avLst/>
            <a:gdLst/>
            <a:ahLst/>
            <a:rect l="l" t="t" r="r" b="b"/>
            <a:pathLst>
              <a:path w="820" h="1315">
                <a:moveTo>
                  <a:pt x="4142" y="11137"/>
                </a:moveTo>
                <a:cubicBezTo>
                  <a:pt x="4170" y="11109"/>
                  <a:pt x="4164" y="11116"/>
                  <a:pt x="4192" y="11088"/>
                </a:cubicBezTo>
                <a:cubicBezTo>
                  <a:pt x="4209" y="11071"/>
                  <a:pt x="4234" y="11059"/>
                  <a:pt x="4266" y="11038"/>
                </a:cubicBezTo>
                <a:cubicBezTo>
                  <a:pt x="4303" y="11014"/>
                  <a:pt x="4352" y="11006"/>
                  <a:pt x="4390" y="10988"/>
                </a:cubicBezTo>
                <a:cubicBezTo>
                  <a:pt x="4437" y="10965"/>
                  <a:pt x="4456" y="10967"/>
                  <a:pt x="4514" y="10964"/>
                </a:cubicBezTo>
                <a:cubicBezTo>
                  <a:pt x="4550" y="10962"/>
                  <a:pt x="4610" y="10974"/>
                  <a:pt x="4638" y="10988"/>
                </a:cubicBezTo>
                <a:cubicBezTo>
                  <a:pt x="4679" y="11009"/>
                  <a:pt x="4725" y="11029"/>
                  <a:pt x="4762" y="11063"/>
                </a:cubicBezTo>
                <a:cubicBezTo>
                  <a:pt x="4810" y="11107"/>
                  <a:pt x="4893" y="11178"/>
                  <a:pt x="4911" y="11237"/>
                </a:cubicBezTo>
                <a:cubicBezTo>
                  <a:pt x="4925" y="11283"/>
                  <a:pt x="4934" y="11363"/>
                  <a:pt x="4936" y="11410"/>
                </a:cubicBezTo>
                <a:cubicBezTo>
                  <a:pt x="4939" y="11478"/>
                  <a:pt x="4921" y="11522"/>
                  <a:pt x="4911" y="11584"/>
                </a:cubicBezTo>
                <a:cubicBezTo>
                  <a:pt x="4899" y="11653"/>
                  <a:pt x="4891" y="11717"/>
                  <a:pt x="4862" y="11782"/>
                </a:cubicBezTo>
                <a:cubicBezTo>
                  <a:pt x="4830" y="11853"/>
                  <a:pt x="4793" y="11901"/>
                  <a:pt x="4738" y="11956"/>
                </a:cubicBezTo>
                <a:cubicBezTo>
                  <a:pt x="4698" y="11995"/>
                  <a:pt x="4622" y="12066"/>
                  <a:pt x="4564" y="12080"/>
                </a:cubicBezTo>
                <a:cubicBezTo>
                  <a:pt x="4495" y="12096"/>
                  <a:pt x="4478" y="12105"/>
                  <a:pt x="4415" y="12080"/>
                </a:cubicBezTo>
                <a:cubicBezTo>
                  <a:pt x="4386" y="12068"/>
                  <a:pt x="4299" y="12053"/>
                  <a:pt x="4291" y="12005"/>
                </a:cubicBezTo>
                <a:cubicBezTo>
                  <a:pt x="4283" y="11957"/>
                  <a:pt x="4274" y="11842"/>
                  <a:pt x="4316" y="11807"/>
                </a:cubicBezTo>
                <a:cubicBezTo>
                  <a:pt x="4362" y="11768"/>
                  <a:pt x="4392" y="11761"/>
                  <a:pt x="4465" y="11757"/>
                </a:cubicBezTo>
                <a:cubicBezTo>
                  <a:pt x="4507" y="11755"/>
                  <a:pt x="4580" y="11766"/>
                  <a:pt x="4614" y="11782"/>
                </a:cubicBezTo>
                <a:cubicBezTo>
                  <a:pt x="4638" y="11793"/>
                  <a:pt x="4721" y="11881"/>
                  <a:pt x="4738" y="11906"/>
                </a:cubicBezTo>
                <a:cubicBezTo>
                  <a:pt x="4779" y="11964"/>
                  <a:pt x="4814" y="12027"/>
                  <a:pt x="4862" y="12080"/>
                </a:cubicBezTo>
                <a:cubicBezTo>
                  <a:pt x="4896" y="12118"/>
                  <a:pt x="4895" y="12148"/>
                  <a:pt x="4911" y="12179"/>
                </a:cubicBezTo>
                <a:cubicBezTo>
                  <a:pt x="4912" y="12181"/>
                  <a:pt x="4954" y="12287"/>
                  <a:pt x="4961" y="12278"/>
                </a:cubicBezTo>
                <a:cubicBezTo>
                  <a:pt x="4970" y="12267"/>
                  <a:pt x="4959" y="12218"/>
                  <a:pt x="4961" y="122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09880" y="4010040"/>
            <a:ext cx="330120" cy="295200"/>
          </a:xfrm>
          <a:custGeom>
            <a:avLst/>
            <a:gdLst/>
            <a:ahLst/>
            <a:rect l="l" t="t" r="r" b="b"/>
            <a:pathLst>
              <a:path w="919" h="820">
                <a:moveTo>
                  <a:pt x="6003" y="11137"/>
                </a:moveTo>
                <a:cubicBezTo>
                  <a:pt x="6016" y="11187"/>
                  <a:pt x="6028" y="11201"/>
                  <a:pt x="6028" y="11261"/>
                </a:cubicBezTo>
                <a:cubicBezTo>
                  <a:pt x="6028" y="11326"/>
                  <a:pt x="6007" y="11372"/>
                  <a:pt x="6003" y="11435"/>
                </a:cubicBezTo>
                <a:cubicBezTo>
                  <a:pt x="5995" y="11585"/>
                  <a:pt x="5984" y="11774"/>
                  <a:pt x="6028" y="11906"/>
                </a:cubicBezTo>
                <a:cubicBezTo>
                  <a:pt x="6049" y="11970"/>
                  <a:pt x="6030" y="11941"/>
                  <a:pt x="6003" y="11906"/>
                </a:cubicBezTo>
              </a:path>
              <a:path w="919" h="820">
                <a:moveTo>
                  <a:pt x="5581" y="11460"/>
                </a:moveTo>
                <a:cubicBezTo>
                  <a:pt x="5654" y="11460"/>
                  <a:pt x="5708" y="11477"/>
                  <a:pt x="5779" y="11485"/>
                </a:cubicBezTo>
                <a:cubicBezTo>
                  <a:pt x="5909" y="11500"/>
                  <a:pt x="6047" y="11496"/>
                  <a:pt x="6176" y="11509"/>
                </a:cubicBezTo>
                <a:cubicBezTo>
                  <a:pt x="6251" y="11517"/>
                  <a:pt x="6477" y="11511"/>
                  <a:pt x="6474" y="11509"/>
                </a:cubicBezTo>
                <a:cubicBezTo>
                  <a:pt x="6466" y="11501"/>
                  <a:pt x="6457" y="11493"/>
                  <a:pt x="6449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89120" y="3894120"/>
            <a:ext cx="3305160" cy="660240"/>
          </a:xfrm>
          <a:custGeom>
            <a:avLst/>
            <a:gdLst/>
            <a:ahLst/>
            <a:rect l="l" t="t" r="r" b="b"/>
            <a:pathLst>
              <a:path w="9179" h="1836">
                <a:moveTo>
                  <a:pt x="7342" y="11063"/>
                </a:moveTo>
                <a:cubicBezTo>
                  <a:pt x="7342" y="11121"/>
                  <a:pt x="7334" y="11184"/>
                  <a:pt x="7317" y="11237"/>
                </a:cubicBezTo>
                <a:cubicBezTo>
                  <a:pt x="7295" y="11306"/>
                  <a:pt x="7267" y="11368"/>
                  <a:pt x="7243" y="11435"/>
                </a:cubicBezTo>
                <a:cubicBezTo>
                  <a:pt x="7225" y="11486"/>
                  <a:pt x="7208" y="11540"/>
                  <a:pt x="7193" y="11584"/>
                </a:cubicBezTo>
                <a:cubicBezTo>
                  <a:pt x="7183" y="11615"/>
                  <a:pt x="7199" y="11584"/>
                  <a:pt x="7243" y="11584"/>
                </a:cubicBezTo>
                <a:cubicBezTo>
                  <a:pt x="7298" y="11584"/>
                  <a:pt x="7326" y="11600"/>
                  <a:pt x="7367" y="11609"/>
                </a:cubicBezTo>
                <a:cubicBezTo>
                  <a:pt x="7473" y="11632"/>
                  <a:pt x="7641" y="11621"/>
                  <a:pt x="7739" y="11584"/>
                </a:cubicBezTo>
              </a:path>
              <a:path w="9179" h="1836">
                <a:moveTo>
                  <a:pt x="7838" y="10815"/>
                </a:moveTo>
                <a:cubicBezTo>
                  <a:pt x="7838" y="10877"/>
                  <a:pt x="7819" y="10933"/>
                  <a:pt x="7813" y="10988"/>
                </a:cubicBezTo>
                <a:cubicBezTo>
                  <a:pt x="7788" y="11226"/>
                  <a:pt x="7811" y="11471"/>
                  <a:pt x="7789" y="11708"/>
                </a:cubicBezTo>
                <a:cubicBezTo>
                  <a:pt x="7784" y="11756"/>
                  <a:pt x="7798" y="12333"/>
                  <a:pt x="7813" y="12328"/>
                </a:cubicBezTo>
                <a:cubicBezTo>
                  <a:pt x="7813" y="12300"/>
                  <a:pt x="7815" y="12289"/>
                  <a:pt x="7838" y="12278"/>
                </a:cubicBezTo>
              </a:path>
              <a:path w="9179" h="1836">
                <a:moveTo>
                  <a:pt x="8409" y="11237"/>
                </a:moveTo>
                <a:cubicBezTo>
                  <a:pt x="8441" y="11320"/>
                  <a:pt x="8454" y="11419"/>
                  <a:pt x="8458" y="11509"/>
                </a:cubicBezTo>
                <a:cubicBezTo>
                  <a:pt x="8462" y="11603"/>
                  <a:pt x="8468" y="11691"/>
                  <a:pt x="8483" y="11782"/>
                </a:cubicBezTo>
                <a:cubicBezTo>
                  <a:pt x="8499" y="11878"/>
                  <a:pt x="8512" y="11965"/>
                  <a:pt x="8533" y="12055"/>
                </a:cubicBezTo>
                <a:cubicBezTo>
                  <a:pt x="8533" y="12080"/>
                  <a:pt x="8533" y="12088"/>
                  <a:pt x="8533" y="12105"/>
                </a:cubicBezTo>
              </a:path>
              <a:path w="9179" h="1836">
                <a:moveTo>
                  <a:pt x="8186" y="11633"/>
                </a:moveTo>
                <a:cubicBezTo>
                  <a:pt x="8318" y="11610"/>
                  <a:pt x="8361" y="11627"/>
                  <a:pt x="8483" y="11633"/>
                </a:cubicBezTo>
                <a:cubicBezTo>
                  <a:pt x="8548" y="11636"/>
                  <a:pt x="8644" y="11641"/>
                  <a:pt x="8706" y="11658"/>
                </a:cubicBezTo>
                <a:cubicBezTo>
                  <a:pt x="8748" y="11670"/>
                  <a:pt x="8803" y="11649"/>
                  <a:pt x="8830" y="11683"/>
                </a:cubicBezTo>
                <a:cubicBezTo>
                  <a:pt x="8830" y="11708"/>
                  <a:pt x="8830" y="11716"/>
                  <a:pt x="8830" y="11683"/>
                </a:cubicBezTo>
              </a:path>
              <a:path w="9179" h="1836">
                <a:moveTo>
                  <a:pt x="9401" y="11038"/>
                </a:moveTo>
                <a:cubicBezTo>
                  <a:pt x="9416" y="11097"/>
                  <a:pt x="9416" y="11169"/>
                  <a:pt x="9401" y="11237"/>
                </a:cubicBezTo>
                <a:cubicBezTo>
                  <a:pt x="9381" y="11327"/>
                  <a:pt x="9370" y="11420"/>
                  <a:pt x="9351" y="11509"/>
                </a:cubicBezTo>
                <a:cubicBezTo>
                  <a:pt x="9329" y="11609"/>
                  <a:pt x="9306" y="11704"/>
                  <a:pt x="9302" y="11807"/>
                </a:cubicBezTo>
                <a:cubicBezTo>
                  <a:pt x="9298" y="11913"/>
                  <a:pt x="9287" y="12032"/>
                  <a:pt x="9327" y="12129"/>
                </a:cubicBezTo>
                <a:cubicBezTo>
                  <a:pt x="9354" y="12195"/>
                  <a:pt x="9397" y="12222"/>
                  <a:pt x="9451" y="12254"/>
                </a:cubicBezTo>
                <a:cubicBezTo>
                  <a:pt x="9514" y="12292"/>
                  <a:pt x="9567" y="12284"/>
                  <a:pt x="9624" y="12254"/>
                </a:cubicBezTo>
                <a:cubicBezTo>
                  <a:pt x="9695" y="12217"/>
                  <a:pt x="9736" y="12150"/>
                  <a:pt x="9773" y="12080"/>
                </a:cubicBezTo>
                <a:cubicBezTo>
                  <a:pt x="9807" y="12016"/>
                  <a:pt x="9804" y="11989"/>
                  <a:pt x="9773" y="11931"/>
                </a:cubicBezTo>
                <a:cubicBezTo>
                  <a:pt x="9749" y="11886"/>
                  <a:pt x="9757" y="11884"/>
                  <a:pt x="9699" y="11881"/>
                </a:cubicBezTo>
                <a:cubicBezTo>
                  <a:pt x="9654" y="11878"/>
                  <a:pt x="9625" y="11890"/>
                  <a:pt x="9599" y="11931"/>
                </a:cubicBezTo>
                <a:cubicBezTo>
                  <a:pt x="9564" y="11987"/>
                  <a:pt x="9535" y="12067"/>
                  <a:pt x="9525" y="12129"/>
                </a:cubicBezTo>
                <a:cubicBezTo>
                  <a:pt x="9508" y="12232"/>
                  <a:pt x="9517" y="12304"/>
                  <a:pt x="9575" y="12378"/>
                </a:cubicBezTo>
                <a:cubicBezTo>
                  <a:pt x="9612" y="12425"/>
                  <a:pt x="9576" y="12378"/>
                  <a:pt x="9599" y="12378"/>
                </a:cubicBezTo>
              </a:path>
              <a:path w="9179" h="1836">
                <a:moveTo>
                  <a:pt x="10344" y="11435"/>
                </a:moveTo>
                <a:cubicBezTo>
                  <a:pt x="10344" y="11563"/>
                  <a:pt x="10363" y="11661"/>
                  <a:pt x="10368" y="11782"/>
                </a:cubicBezTo>
                <a:cubicBezTo>
                  <a:pt x="10372" y="11880"/>
                  <a:pt x="10397" y="11964"/>
                  <a:pt x="10418" y="12055"/>
                </a:cubicBezTo>
                <a:cubicBezTo>
                  <a:pt x="10427" y="12095"/>
                  <a:pt x="10425" y="12191"/>
                  <a:pt x="10443" y="12154"/>
                </a:cubicBezTo>
                <a:cubicBezTo>
                  <a:pt x="10443" y="12129"/>
                  <a:pt x="10443" y="12121"/>
                  <a:pt x="10418" y="12129"/>
                </a:cubicBezTo>
              </a:path>
              <a:path w="9179" h="1836">
                <a:moveTo>
                  <a:pt x="10120" y="11733"/>
                </a:moveTo>
                <a:cubicBezTo>
                  <a:pt x="10192" y="11733"/>
                  <a:pt x="10277" y="11738"/>
                  <a:pt x="10344" y="11757"/>
                </a:cubicBezTo>
                <a:cubicBezTo>
                  <a:pt x="10435" y="11783"/>
                  <a:pt x="10518" y="11782"/>
                  <a:pt x="10616" y="11782"/>
                </a:cubicBezTo>
                <a:cubicBezTo>
                  <a:pt x="10633" y="11782"/>
                  <a:pt x="10649" y="11782"/>
                  <a:pt x="10666" y="11782"/>
                </a:cubicBezTo>
              </a:path>
              <a:path w="9179" h="1836">
                <a:moveTo>
                  <a:pt x="11336" y="11237"/>
                </a:moveTo>
                <a:cubicBezTo>
                  <a:pt x="11309" y="11210"/>
                  <a:pt x="11244" y="11158"/>
                  <a:pt x="11212" y="11162"/>
                </a:cubicBezTo>
                <a:cubicBezTo>
                  <a:pt x="11171" y="11168"/>
                  <a:pt x="11120" y="11193"/>
                  <a:pt x="11088" y="11212"/>
                </a:cubicBezTo>
                <a:cubicBezTo>
                  <a:pt x="11029" y="11246"/>
                  <a:pt x="10995" y="11262"/>
                  <a:pt x="10988" y="11336"/>
                </a:cubicBezTo>
                <a:cubicBezTo>
                  <a:pt x="10985" y="11371"/>
                  <a:pt x="11042" y="11454"/>
                  <a:pt x="11063" y="11485"/>
                </a:cubicBezTo>
                <a:cubicBezTo>
                  <a:pt x="11131" y="11586"/>
                  <a:pt x="11197" y="11678"/>
                  <a:pt x="11261" y="11782"/>
                </a:cubicBezTo>
                <a:cubicBezTo>
                  <a:pt x="11311" y="11864"/>
                  <a:pt x="11370" y="11928"/>
                  <a:pt x="11385" y="12030"/>
                </a:cubicBezTo>
                <a:cubicBezTo>
                  <a:pt x="11396" y="12107"/>
                  <a:pt x="11429" y="12182"/>
                  <a:pt x="11385" y="12254"/>
                </a:cubicBezTo>
                <a:cubicBezTo>
                  <a:pt x="11364" y="12288"/>
                  <a:pt x="11322" y="12324"/>
                  <a:pt x="11286" y="12328"/>
                </a:cubicBezTo>
                <a:cubicBezTo>
                  <a:pt x="11242" y="12333"/>
                  <a:pt x="11194" y="12324"/>
                  <a:pt x="11162" y="12303"/>
                </a:cubicBezTo>
                <a:cubicBezTo>
                  <a:pt x="11134" y="12284"/>
                  <a:pt x="11094" y="12209"/>
                  <a:pt x="11088" y="12179"/>
                </a:cubicBezTo>
                <a:cubicBezTo>
                  <a:pt x="11070" y="12093"/>
                  <a:pt x="11099" y="12009"/>
                  <a:pt x="11112" y="11931"/>
                </a:cubicBezTo>
                <a:cubicBezTo>
                  <a:pt x="11125" y="11853"/>
                  <a:pt x="11139" y="11759"/>
                  <a:pt x="11162" y="11683"/>
                </a:cubicBezTo>
                <a:cubicBezTo>
                  <a:pt x="11179" y="11626"/>
                  <a:pt x="11214" y="11535"/>
                  <a:pt x="11237" y="11485"/>
                </a:cubicBezTo>
                <a:cubicBezTo>
                  <a:pt x="11256" y="11443"/>
                  <a:pt x="11294" y="11401"/>
                  <a:pt x="11311" y="11361"/>
                </a:cubicBezTo>
                <a:cubicBezTo>
                  <a:pt x="11319" y="11344"/>
                  <a:pt x="11328" y="11328"/>
                  <a:pt x="11336" y="11311"/>
                </a:cubicBezTo>
              </a:path>
              <a:path w="9179" h="1836">
                <a:moveTo>
                  <a:pt x="11881" y="11311"/>
                </a:moveTo>
                <a:cubicBezTo>
                  <a:pt x="11931" y="11426"/>
                  <a:pt x="11952" y="11506"/>
                  <a:pt x="11956" y="11633"/>
                </a:cubicBezTo>
                <a:cubicBezTo>
                  <a:pt x="11959" y="11729"/>
                  <a:pt x="11970" y="11817"/>
                  <a:pt x="11981" y="11906"/>
                </a:cubicBezTo>
                <a:cubicBezTo>
                  <a:pt x="11989" y="11967"/>
                  <a:pt x="11983" y="12072"/>
                  <a:pt x="12005" y="12129"/>
                </a:cubicBezTo>
                <a:cubicBezTo>
                  <a:pt x="12013" y="12137"/>
                  <a:pt x="12022" y="12146"/>
                  <a:pt x="12030" y="12154"/>
                </a:cubicBezTo>
              </a:path>
              <a:path w="9179" h="1836">
                <a:moveTo>
                  <a:pt x="11757" y="11733"/>
                </a:moveTo>
                <a:cubicBezTo>
                  <a:pt x="11884" y="11750"/>
                  <a:pt x="12006" y="11776"/>
                  <a:pt x="12129" y="11782"/>
                </a:cubicBezTo>
                <a:cubicBezTo>
                  <a:pt x="12192" y="11785"/>
                  <a:pt x="12238" y="11807"/>
                  <a:pt x="12303" y="11807"/>
                </a:cubicBezTo>
                <a:cubicBezTo>
                  <a:pt x="12354" y="11807"/>
                  <a:pt x="12389" y="11823"/>
                  <a:pt x="12402" y="11782"/>
                </a:cubicBezTo>
              </a:path>
              <a:path w="9179" h="1836">
                <a:moveTo>
                  <a:pt x="12898" y="11137"/>
                </a:moveTo>
                <a:cubicBezTo>
                  <a:pt x="12877" y="11237"/>
                  <a:pt x="12853" y="11333"/>
                  <a:pt x="12849" y="11435"/>
                </a:cubicBezTo>
                <a:cubicBezTo>
                  <a:pt x="12845" y="11549"/>
                  <a:pt x="12863" y="11647"/>
                  <a:pt x="12874" y="11757"/>
                </a:cubicBezTo>
                <a:cubicBezTo>
                  <a:pt x="12887" y="11882"/>
                  <a:pt x="12907" y="12006"/>
                  <a:pt x="12923" y="12129"/>
                </a:cubicBezTo>
                <a:cubicBezTo>
                  <a:pt x="12930" y="12185"/>
                  <a:pt x="12893" y="12340"/>
                  <a:pt x="12948" y="12303"/>
                </a:cubicBezTo>
              </a:path>
              <a:path w="9179" h="1836">
                <a:moveTo>
                  <a:pt x="13320" y="11361"/>
                </a:moveTo>
                <a:cubicBezTo>
                  <a:pt x="13313" y="11466"/>
                  <a:pt x="13282" y="11556"/>
                  <a:pt x="13271" y="11658"/>
                </a:cubicBezTo>
                <a:cubicBezTo>
                  <a:pt x="13257" y="11780"/>
                  <a:pt x="13266" y="11914"/>
                  <a:pt x="13295" y="12030"/>
                </a:cubicBezTo>
                <a:cubicBezTo>
                  <a:pt x="13319" y="12127"/>
                  <a:pt x="13356" y="12224"/>
                  <a:pt x="13419" y="12303"/>
                </a:cubicBezTo>
                <a:cubicBezTo>
                  <a:pt x="13461" y="12356"/>
                  <a:pt x="13572" y="12417"/>
                  <a:pt x="13643" y="12402"/>
                </a:cubicBezTo>
                <a:cubicBezTo>
                  <a:pt x="13725" y="12384"/>
                  <a:pt x="13801" y="12268"/>
                  <a:pt x="13841" y="12204"/>
                </a:cubicBezTo>
                <a:cubicBezTo>
                  <a:pt x="13899" y="12110"/>
                  <a:pt x="13912" y="11988"/>
                  <a:pt x="13915" y="11881"/>
                </a:cubicBezTo>
                <a:cubicBezTo>
                  <a:pt x="13920" y="11721"/>
                  <a:pt x="13884" y="11623"/>
                  <a:pt x="13791" y="11485"/>
                </a:cubicBezTo>
                <a:cubicBezTo>
                  <a:pt x="13741" y="11411"/>
                  <a:pt x="13651" y="11389"/>
                  <a:pt x="13568" y="11385"/>
                </a:cubicBezTo>
                <a:cubicBezTo>
                  <a:pt x="13516" y="11382"/>
                  <a:pt x="13428" y="11383"/>
                  <a:pt x="13395" y="11435"/>
                </a:cubicBezTo>
                <a:cubicBezTo>
                  <a:pt x="13351" y="11505"/>
                  <a:pt x="13371" y="11544"/>
                  <a:pt x="13395" y="11609"/>
                </a:cubicBezTo>
              </a:path>
              <a:path w="9179" h="1836">
                <a:moveTo>
                  <a:pt x="14461" y="11609"/>
                </a:moveTo>
                <a:cubicBezTo>
                  <a:pt x="14475" y="11716"/>
                  <a:pt x="14437" y="11824"/>
                  <a:pt x="14461" y="11931"/>
                </a:cubicBezTo>
                <a:cubicBezTo>
                  <a:pt x="14480" y="12013"/>
                  <a:pt x="14511" y="12066"/>
                  <a:pt x="14511" y="12154"/>
                </a:cubicBezTo>
              </a:path>
              <a:path w="9179" h="1836">
                <a:moveTo>
                  <a:pt x="14312" y="11733"/>
                </a:moveTo>
                <a:cubicBezTo>
                  <a:pt x="14418" y="11714"/>
                  <a:pt x="14476" y="11749"/>
                  <a:pt x="14585" y="11757"/>
                </a:cubicBezTo>
                <a:cubicBezTo>
                  <a:pt x="14709" y="11757"/>
                  <a:pt x="14734" y="11757"/>
                  <a:pt x="14808" y="11757"/>
                </a:cubicBezTo>
              </a:path>
              <a:path w="9179" h="1836">
                <a:moveTo>
                  <a:pt x="15180" y="11112"/>
                </a:moveTo>
                <a:cubicBezTo>
                  <a:pt x="15170" y="11175"/>
                  <a:pt x="15170" y="11249"/>
                  <a:pt x="15156" y="11311"/>
                </a:cubicBezTo>
                <a:cubicBezTo>
                  <a:pt x="15132" y="11421"/>
                  <a:pt x="15131" y="11517"/>
                  <a:pt x="15131" y="11633"/>
                </a:cubicBezTo>
                <a:cubicBezTo>
                  <a:pt x="15131" y="11761"/>
                  <a:pt x="15152" y="11878"/>
                  <a:pt x="15156" y="12005"/>
                </a:cubicBezTo>
                <a:cubicBezTo>
                  <a:pt x="15159" y="12118"/>
                  <a:pt x="15189" y="12221"/>
                  <a:pt x="15205" y="12328"/>
                </a:cubicBezTo>
                <a:cubicBezTo>
                  <a:pt x="15215" y="12393"/>
                  <a:pt x="15193" y="12378"/>
                  <a:pt x="15230" y="12427"/>
                </a:cubicBezTo>
              </a:path>
              <a:path w="9179" h="1836">
                <a:moveTo>
                  <a:pt x="15503" y="11385"/>
                </a:moveTo>
                <a:cubicBezTo>
                  <a:pt x="15608" y="11340"/>
                  <a:pt x="15646" y="11316"/>
                  <a:pt x="15751" y="11361"/>
                </a:cubicBezTo>
                <a:cubicBezTo>
                  <a:pt x="15806" y="11385"/>
                  <a:pt x="15876" y="11425"/>
                  <a:pt x="15925" y="11460"/>
                </a:cubicBezTo>
                <a:cubicBezTo>
                  <a:pt x="15963" y="11486"/>
                  <a:pt x="16001" y="11564"/>
                  <a:pt x="15999" y="11609"/>
                </a:cubicBezTo>
                <a:cubicBezTo>
                  <a:pt x="15995" y="11683"/>
                  <a:pt x="15955" y="11762"/>
                  <a:pt x="15925" y="11832"/>
                </a:cubicBezTo>
                <a:cubicBezTo>
                  <a:pt x="15882" y="11933"/>
                  <a:pt x="15846" y="12022"/>
                  <a:pt x="15776" y="12105"/>
                </a:cubicBezTo>
                <a:cubicBezTo>
                  <a:pt x="15724" y="12167"/>
                  <a:pt x="15682" y="12225"/>
                  <a:pt x="15652" y="12303"/>
                </a:cubicBezTo>
                <a:cubicBezTo>
                  <a:pt x="15633" y="12351"/>
                  <a:pt x="15628" y="12405"/>
                  <a:pt x="15652" y="12452"/>
                </a:cubicBezTo>
                <a:cubicBezTo>
                  <a:pt x="15678" y="12504"/>
                  <a:pt x="15753" y="12527"/>
                  <a:pt x="15801" y="12551"/>
                </a:cubicBezTo>
                <a:cubicBezTo>
                  <a:pt x="15883" y="12592"/>
                  <a:pt x="15941" y="12603"/>
                  <a:pt x="16024" y="12626"/>
                </a:cubicBezTo>
                <a:cubicBezTo>
                  <a:pt x="16101" y="12647"/>
                  <a:pt x="16165" y="12650"/>
                  <a:pt x="16247" y="12650"/>
                </a:cubicBezTo>
                <a:cubicBezTo>
                  <a:pt x="16328" y="12650"/>
                  <a:pt x="16335" y="12626"/>
                  <a:pt x="16371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46720" y="1928880"/>
            <a:ext cx="1268280" cy="1089000"/>
          </a:xfrm>
          <a:custGeom>
            <a:avLst/>
            <a:gdLst/>
            <a:ahLst/>
            <a:rect l="l" t="t" r="r" b="b"/>
            <a:pathLst>
              <a:path w="3523" h="3027">
                <a:moveTo>
                  <a:pt x="15553" y="6077"/>
                </a:moveTo>
                <a:cubicBezTo>
                  <a:pt x="15373" y="5884"/>
                  <a:pt x="15222" y="5722"/>
                  <a:pt x="14982" y="5606"/>
                </a:cubicBezTo>
                <a:cubicBezTo>
                  <a:pt x="14753" y="5495"/>
                  <a:pt x="14562" y="5424"/>
                  <a:pt x="14312" y="5383"/>
                </a:cubicBezTo>
                <a:cubicBezTo>
                  <a:pt x="14017" y="5334"/>
                  <a:pt x="13730" y="5373"/>
                  <a:pt x="13444" y="5457"/>
                </a:cubicBezTo>
                <a:cubicBezTo>
                  <a:pt x="13231" y="5520"/>
                  <a:pt x="13048" y="5587"/>
                  <a:pt x="12874" y="5730"/>
                </a:cubicBezTo>
                <a:cubicBezTo>
                  <a:pt x="12742" y="5838"/>
                  <a:pt x="12571" y="5994"/>
                  <a:pt x="12502" y="6152"/>
                </a:cubicBezTo>
                <a:cubicBezTo>
                  <a:pt x="12417" y="6346"/>
                  <a:pt x="12344" y="6558"/>
                  <a:pt x="12353" y="6772"/>
                </a:cubicBezTo>
                <a:cubicBezTo>
                  <a:pt x="12364" y="7044"/>
                  <a:pt x="12394" y="7264"/>
                  <a:pt x="12477" y="7516"/>
                </a:cubicBezTo>
                <a:cubicBezTo>
                  <a:pt x="12562" y="7774"/>
                  <a:pt x="12806" y="7944"/>
                  <a:pt x="12998" y="8111"/>
                </a:cubicBezTo>
                <a:cubicBezTo>
                  <a:pt x="13159" y="8250"/>
                  <a:pt x="13315" y="8279"/>
                  <a:pt x="13519" y="8334"/>
                </a:cubicBezTo>
                <a:cubicBezTo>
                  <a:pt x="13736" y="8392"/>
                  <a:pt x="13962" y="8402"/>
                  <a:pt x="14188" y="8384"/>
                </a:cubicBezTo>
                <a:cubicBezTo>
                  <a:pt x="14428" y="8365"/>
                  <a:pt x="14653" y="8301"/>
                  <a:pt x="14883" y="8235"/>
                </a:cubicBezTo>
                <a:cubicBezTo>
                  <a:pt x="15109" y="8171"/>
                  <a:pt x="15269" y="8057"/>
                  <a:pt x="15453" y="7913"/>
                </a:cubicBezTo>
                <a:cubicBezTo>
                  <a:pt x="15696" y="7722"/>
                  <a:pt x="15847" y="7501"/>
                  <a:pt x="15875" y="7193"/>
                </a:cubicBezTo>
                <a:cubicBezTo>
                  <a:pt x="15888" y="7053"/>
                  <a:pt x="15856" y="6827"/>
                  <a:pt x="15801" y="6697"/>
                </a:cubicBezTo>
                <a:cubicBezTo>
                  <a:pt x="15725" y="6517"/>
                  <a:pt x="15594" y="6378"/>
                  <a:pt x="15429" y="6276"/>
                </a:cubicBezTo>
                <a:cubicBezTo>
                  <a:pt x="15311" y="6203"/>
                  <a:pt x="15174" y="6137"/>
                  <a:pt x="15032" y="6152"/>
                </a:cubicBezTo>
                <a:cubicBezTo>
                  <a:pt x="14999" y="6160"/>
                  <a:pt x="14965" y="6168"/>
                  <a:pt x="14932" y="61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30240" y="3000240"/>
            <a:ext cx="3403800" cy="777960"/>
          </a:xfrm>
          <a:custGeom>
            <a:avLst/>
            <a:gdLst/>
            <a:ahLst/>
            <a:rect l="l" t="t" r="r" b="b"/>
            <a:pathLst>
              <a:path w="9452" h="2159">
                <a:moveTo>
                  <a:pt x="14536" y="8334"/>
                </a:moveTo>
                <a:cubicBezTo>
                  <a:pt x="14449" y="8396"/>
                  <a:pt x="14414" y="8452"/>
                  <a:pt x="14312" y="8508"/>
                </a:cubicBezTo>
                <a:cubicBezTo>
                  <a:pt x="14191" y="8575"/>
                  <a:pt x="14044" y="8608"/>
                  <a:pt x="13915" y="8657"/>
                </a:cubicBezTo>
                <a:cubicBezTo>
                  <a:pt x="13746" y="8721"/>
                  <a:pt x="13586" y="8795"/>
                  <a:pt x="13419" y="8855"/>
                </a:cubicBezTo>
                <a:cubicBezTo>
                  <a:pt x="13155" y="8950"/>
                  <a:pt x="12894" y="9051"/>
                  <a:pt x="12626" y="9128"/>
                </a:cubicBezTo>
                <a:cubicBezTo>
                  <a:pt x="12170" y="9259"/>
                  <a:pt x="11708" y="9394"/>
                  <a:pt x="11237" y="9451"/>
                </a:cubicBezTo>
                <a:cubicBezTo>
                  <a:pt x="10858" y="9497"/>
                  <a:pt x="10476" y="9537"/>
                  <a:pt x="10096" y="9550"/>
                </a:cubicBezTo>
                <a:cubicBezTo>
                  <a:pt x="9701" y="9564"/>
                  <a:pt x="9298" y="9554"/>
                  <a:pt x="8905" y="9525"/>
                </a:cubicBezTo>
                <a:cubicBezTo>
                  <a:pt x="8469" y="9493"/>
                  <a:pt x="7993" y="9478"/>
                  <a:pt x="7565" y="9401"/>
                </a:cubicBezTo>
                <a:cubicBezTo>
                  <a:pt x="7306" y="9354"/>
                  <a:pt x="7059" y="9323"/>
                  <a:pt x="6796" y="9302"/>
                </a:cubicBezTo>
                <a:cubicBezTo>
                  <a:pt x="6542" y="9281"/>
                  <a:pt x="6284" y="9267"/>
                  <a:pt x="6028" y="9277"/>
                </a:cubicBezTo>
                <a:cubicBezTo>
                  <a:pt x="5884" y="9282"/>
                  <a:pt x="5720" y="9282"/>
                  <a:pt x="5581" y="9327"/>
                </a:cubicBezTo>
                <a:cubicBezTo>
                  <a:pt x="5475" y="9361"/>
                  <a:pt x="5384" y="9418"/>
                  <a:pt x="5308" y="9500"/>
                </a:cubicBezTo>
                <a:cubicBezTo>
                  <a:pt x="5247" y="9566"/>
                  <a:pt x="5195" y="9663"/>
                  <a:pt x="5159" y="9748"/>
                </a:cubicBezTo>
                <a:cubicBezTo>
                  <a:pt x="5110" y="9865"/>
                  <a:pt x="5120" y="9974"/>
                  <a:pt x="5110" y="10096"/>
                </a:cubicBezTo>
                <a:cubicBezTo>
                  <a:pt x="5106" y="10147"/>
                  <a:pt x="5146" y="10476"/>
                  <a:pt x="5135" y="10492"/>
                </a:cubicBezTo>
                <a:cubicBezTo>
                  <a:pt x="5124" y="10507"/>
                  <a:pt x="5093" y="10383"/>
                  <a:pt x="5085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78000" y="4786200"/>
            <a:ext cx="277920" cy="295560"/>
          </a:xfrm>
          <a:custGeom>
            <a:avLst/>
            <a:gdLst/>
            <a:ahLst/>
            <a:rect l="l" t="t" r="r" b="b"/>
            <a:pathLst>
              <a:path w="770" h="820">
                <a:moveTo>
                  <a:pt x="6400" y="13295"/>
                </a:moveTo>
                <a:cubicBezTo>
                  <a:pt x="6410" y="13338"/>
                  <a:pt x="6439" y="13366"/>
                  <a:pt x="6424" y="13419"/>
                </a:cubicBezTo>
                <a:cubicBezTo>
                  <a:pt x="6397" y="13513"/>
                  <a:pt x="6339" y="13594"/>
                  <a:pt x="6276" y="13667"/>
                </a:cubicBezTo>
                <a:cubicBezTo>
                  <a:pt x="6223" y="13729"/>
                  <a:pt x="6173" y="13797"/>
                  <a:pt x="6127" y="13866"/>
                </a:cubicBezTo>
                <a:cubicBezTo>
                  <a:pt x="6103" y="13901"/>
                  <a:pt x="6056" y="13951"/>
                  <a:pt x="6052" y="13990"/>
                </a:cubicBezTo>
                <a:cubicBezTo>
                  <a:pt x="6052" y="13998"/>
                  <a:pt x="6052" y="14007"/>
                  <a:pt x="6052" y="14015"/>
                </a:cubicBezTo>
                <a:cubicBezTo>
                  <a:pt x="6091" y="14005"/>
                  <a:pt x="6107" y="13990"/>
                  <a:pt x="6152" y="13990"/>
                </a:cubicBezTo>
                <a:cubicBezTo>
                  <a:pt x="6233" y="13990"/>
                  <a:pt x="6272" y="14029"/>
                  <a:pt x="6350" y="14039"/>
                </a:cubicBezTo>
                <a:cubicBezTo>
                  <a:pt x="6450" y="14052"/>
                  <a:pt x="6525" y="14095"/>
                  <a:pt x="6623" y="14114"/>
                </a:cubicBezTo>
                <a:cubicBezTo>
                  <a:pt x="6714" y="14132"/>
                  <a:pt x="6757" y="14096"/>
                  <a:pt x="6821" y="140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11280" y="4749840"/>
            <a:ext cx="61920" cy="590400"/>
          </a:xfrm>
          <a:custGeom>
            <a:avLst/>
            <a:gdLst/>
            <a:ahLst/>
            <a:rect l="l" t="t" r="r" b="b"/>
            <a:pathLst>
              <a:path w="175" h="1638">
                <a:moveTo>
                  <a:pt x="6871" y="13196"/>
                </a:moveTo>
                <a:cubicBezTo>
                  <a:pt x="6827" y="13269"/>
                  <a:pt x="6839" y="13332"/>
                  <a:pt x="6821" y="13419"/>
                </a:cubicBezTo>
                <a:cubicBezTo>
                  <a:pt x="6793" y="13553"/>
                  <a:pt x="6767" y="13682"/>
                  <a:pt x="6747" y="13816"/>
                </a:cubicBezTo>
                <a:cubicBezTo>
                  <a:pt x="6723" y="13975"/>
                  <a:pt x="6722" y="14126"/>
                  <a:pt x="6722" y="14288"/>
                </a:cubicBezTo>
                <a:cubicBezTo>
                  <a:pt x="6722" y="14423"/>
                  <a:pt x="6697" y="14548"/>
                  <a:pt x="6697" y="14684"/>
                </a:cubicBezTo>
                <a:cubicBezTo>
                  <a:pt x="6697" y="14693"/>
                  <a:pt x="6697" y="14920"/>
                  <a:pt x="6697" y="147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46160" y="4537080"/>
            <a:ext cx="1179720" cy="955800"/>
          </a:xfrm>
          <a:custGeom>
            <a:avLst/>
            <a:gdLst/>
            <a:ahLst/>
            <a:rect l="l" t="t" r="r" b="b"/>
            <a:pathLst>
              <a:path w="3276" h="2655">
                <a:moveTo>
                  <a:pt x="7243" y="13593"/>
                </a:moveTo>
                <a:cubicBezTo>
                  <a:pt x="7310" y="13557"/>
                  <a:pt x="7375" y="13527"/>
                  <a:pt x="7441" y="13494"/>
                </a:cubicBezTo>
                <a:cubicBezTo>
                  <a:pt x="7493" y="13468"/>
                  <a:pt x="7531" y="13454"/>
                  <a:pt x="7590" y="13444"/>
                </a:cubicBezTo>
                <a:cubicBezTo>
                  <a:pt x="7646" y="13434"/>
                  <a:pt x="7703" y="13422"/>
                  <a:pt x="7764" y="13469"/>
                </a:cubicBezTo>
                <a:cubicBezTo>
                  <a:pt x="7840" y="13527"/>
                  <a:pt x="7879" y="13633"/>
                  <a:pt x="7913" y="13717"/>
                </a:cubicBezTo>
                <a:cubicBezTo>
                  <a:pt x="7961" y="13835"/>
                  <a:pt x="7954" y="14037"/>
                  <a:pt x="7938" y="14163"/>
                </a:cubicBezTo>
                <a:cubicBezTo>
                  <a:pt x="7927" y="14248"/>
                  <a:pt x="7872" y="14477"/>
                  <a:pt x="7813" y="14536"/>
                </a:cubicBezTo>
                <a:cubicBezTo>
                  <a:pt x="7668" y="14681"/>
                  <a:pt x="7617" y="14723"/>
                  <a:pt x="7491" y="14610"/>
                </a:cubicBezTo>
                <a:cubicBezTo>
                  <a:pt x="7463" y="14585"/>
                  <a:pt x="7395" y="14427"/>
                  <a:pt x="7392" y="14387"/>
                </a:cubicBezTo>
                <a:cubicBezTo>
                  <a:pt x="7387" y="14323"/>
                  <a:pt x="7422" y="14313"/>
                  <a:pt x="7441" y="14263"/>
                </a:cubicBezTo>
                <a:cubicBezTo>
                  <a:pt x="7522" y="14288"/>
                  <a:pt x="7561" y="14292"/>
                  <a:pt x="7640" y="14337"/>
                </a:cubicBezTo>
                <a:cubicBezTo>
                  <a:pt x="7758" y="14405"/>
                  <a:pt x="7826" y="14512"/>
                  <a:pt x="7913" y="14610"/>
                </a:cubicBezTo>
                <a:cubicBezTo>
                  <a:pt x="7991" y="14698"/>
                  <a:pt x="8100" y="14835"/>
                  <a:pt x="8210" y="14883"/>
                </a:cubicBezTo>
                <a:cubicBezTo>
                  <a:pt x="8284" y="14915"/>
                  <a:pt x="8341" y="14857"/>
                  <a:pt x="8409" y="14808"/>
                </a:cubicBezTo>
                <a:cubicBezTo>
                  <a:pt x="8560" y="14698"/>
                  <a:pt x="8592" y="14535"/>
                  <a:pt x="8632" y="14362"/>
                </a:cubicBezTo>
                <a:cubicBezTo>
                  <a:pt x="8674" y="14179"/>
                  <a:pt x="8667" y="13947"/>
                  <a:pt x="8607" y="13767"/>
                </a:cubicBezTo>
                <a:cubicBezTo>
                  <a:pt x="8529" y="13531"/>
                  <a:pt x="8368" y="13353"/>
                  <a:pt x="8210" y="13171"/>
                </a:cubicBezTo>
                <a:cubicBezTo>
                  <a:pt x="8029" y="12961"/>
                  <a:pt x="7781" y="12818"/>
                  <a:pt x="7516" y="12725"/>
                </a:cubicBezTo>
                <a:cubicBezTo>
                  <a:pt x="7269" y="12638"/>
                  <a:pt x="6984" y="12585"/>
                  <a:pt x="6722" y="12601"/>
                </a:cubicBezTo>
                <a:cubicBezTo>
                  <a:pt x="6502" y="12614"/>
                  <a:pt x="6201" y="12645"/>
                  <a:pt x="6003" y="12750"/>
                </a:cubicBezTo>
                <a:cubicBezTo>
                  <a:pt x="5831" y="12841"/>
                  <a:pt x="5660" y="13013"/>
                  <a:pt x="5556" y="13171"/>
                </a:cubicBezTo>
                <a:cubicBezTo>
                  <a:pt x="5422" y="13374"/>
                  <a:pt x="5361" y="13587"/>
                  <a:pt x="5457" y="13816"/>
                </a:cubicBezTo>
                <a:cubicBezTo>
                  <a:pt x="5569" y="14082"/>
                  <a:pt x="5715" y="14294"/>
                  <a:pt x="5928" y="14486"/>
                </a:cubicBezTo>
                <a:cubicBezTo>
                  <a:pt x="6129" y="14667"/>
                  <a:pt x="6339" y="14798"/>
                  <a:pt x="6573" y="14932"/>
                </a:cubicBezTo>
                <a:cubicBezTo>
                  <a:pt x="6931" y="15137"/>
                  <a:pt x="7369" y="15286"/>
                  <a:pt x="7789" y="15255"/>
                </a:cubicBezTo>
                <a:cubicBezTo>
                  <a:pt x="8002" y="15239"/>
                  <a:pt x="8276" y="15190"/>
                  <a:pt x="8434" y="15032"/>
                </a:cubicBezTo>
                <a:cubicBezTo>
                  <a:pt x="8641" y="14826"/>
                  <a:pt x="8678" y="14590"/>
                  <a:pt x="8682" y="14312"/>
                </a:cubicBezTo>
                <a:cubicBezTo>
                  <a:pt x="8687" y="14025"/>
                  <a:pt x="8567" y="13719"/>
                  <a:pt x="8384" y="13494"/>
                </a:cubicBezTo>
                <a:cubicBezTo>
                  <a:pt x="8226" y="13300"/>
                  <a:pt x="8028" y="13129"/>
                  <a:pt x="7789" y="13047"/>
                </a:cubicBezTo>
                <a:cubicBezTo>
                  <a:pt x="7521" y="12955"/>
                  <a:pt x="7228" y="12910"/>
                  <a:pt x="6945" y="12923"/>
                </a:cubicBezTo>
                <a:cubicBezTo>
                  <a:pt x="6713" y="12946"/>
                  <a:pt x="6647" y="12953"/>
                  <a:pt x="6499" y="129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81280" y="1219320"/>
          <a:ext cx="2133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219320"/>
                    <a:ext cx="2133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347840" y="2714760"/>
            <a:ext cx="6037200" cy="874440"/>
          </a:xfrm>
          <a:custGeom>
            <a:avLst/>
            <a:gdLst/>
            <a:ahLst/>
            <a:rect l="l" t="t" r="r" b="b"/>
            <a:pathLst>
              <a:path w="16768" h="2431">
                <a:moveTo>
                  <a:pt x="4068" y="8632"/>
                </a:moveTo>
                <a:cubicBezTo>
                  <a:pt x="4068" y="8576"/>
                  <a:pt x="4058" y="8527"/>
                  <a:pt x="4093" y="8483"/>
                </a:cubicBezTo>
                <a:cubicBezTo>
                  <a:pt x="4132" y="8434"/>
                  <a:pt x="4132" y="8382"/>
                  <a:pt x="4167" y="8334"/>
                </a:cubicBezTo>
                <a:cubicBezTo>
                  <a:pt x="4225" y="8256"/>
                  <a:pt x="4268" y="8269"/>
                  <a:pt x="4341" y="8235"/>
                </a:cubicBezTo>
                <a:cubicBezTo>
                  <a:pt x="4416" y="8200"/>
                  <a:pt x="4472" y="8239"/>
                  <a:pt x="4514" y="8310"/>
                </a:cubicBezTo>
                <a:cubicBezTo>
                  <a:pt x="4567" y="8400"/>
                  <a:pt x="4564" y="8481"/>
                  <a:pt x="4564" y="8582"/>
                </a:cubicBezTo>
                <a:cubicBezTo>
                  <a:pt x="4564" y="8726"/>
                  <a:pt x="4570" y="8863"/>
                  <a:pt x="4539" y="9004"/>
                </a:cubicBezTo>
                <a:cubicBezTo>
                  <a:pt x="4509" y="9140"/>
                  <a:pt x="4482" y="9279"/>
                  <a:pt x="4415" y="9401"/>
                </a:cubicBezTo>
                <a:cubicBezTo>
                  <a:pt x="4343" y="9532"/>
                  <a:pt x="4278" y="9548"/>
                  <a:pt x="4167" y="9624"/>
                </a:cubicBezTo>
                <a:cubicBezTo>
                  <a:pt x="4099" y="9670"/>
                  <a:pt x="4038" y="9699"/>
                  <a:pt x="3944" y="9674"/>
                </a:cubicBezTo>
                <a:cubicBezTo>
                  <a:pt x="3896" y="9661"/>
                  <a:pt x="3788" y="9589"/>
                  <a:pt x="3770" y="9550"/>
                </a:cubicBezTo>
                <a:cubicBezTo>
                  <a:pt x="3746" y="9500"/>
                  <a:pt x="3736" y="9386"/>
                  <a:pt x="3746" y="9327"/>
                </a:cubicBezTo>
                <a:cubicBezTo>
                  <a:pt x="3763" y="9230"/>
                  <a:pt x="3818" y="9176"/>
                  <a:pt x="3919" y="9153"/>
                </a:cubicBezTo>
                <a:cubicBezTo>
                  <a:pt x="3997" y="9136"/>
                  <a:pt x="4102" y="9156"/>
                  <a:pt x="4167" y="9203"/>
                </a:cubicBezTo>
                <a:cubicBezTo>
                  <a:pt x="4250" y="9264"/>
                  <a:pt x="4294" y="9282"/>
                  <a:pt x="4341" y="9376"/>
                </a:cubicBezTo>
                <a:cubicBezTo>
                  <a:pt x="4373" y="9440"/>
                  <a:pt x="4347" y="9487"/>
                  <a:pt x="4366" y="9550"/>
                </a:cubicBezTo>
                <a:cubicBezTo>
                  <a:pt x="4388" y="9573"/>
                  <a:pt x="4393" y="9581"/>
                  <a:pt x="4415" y="9575"/>
                </a:cubicBezTo>
              </a:path>
              <a:path w="16768" h="2431">
                <a:moveTo>
                  <a:pt x="4961" y="8954"/>
                </a:moveTo>
                <a:cubicBezTo>
                  <a:pt x="4961" y="8962"/>
                  <a:pt x="4961" y="8971"/>
                  <a:pt x="4961" y="8979"/>
                </a:cubicBezTo>
                <a:cubicBezTo>
                  <a:pt x="5004" y="8979"/>
                  <a:pt x="4999" y="8989"/>
                  <a:pt x="5011" y="8954"/>
                </a:cubicBezTo>
                <a:cubicBezTo>
                  <a:pt x="5062" y="8941"/>
                  <a:pt x="5056" y="8930"/>
                  <a:pt x="5085" y="8880"/>
                </a:cubicBezTo>
              </a:path>
              <a:path w="16768" h="2431">
                <a:moveTo>
                  <a:pt x="5383" y="8533"/>
                </a:moveTo>
                <a:cubicBezTo>
                  <a:pt x="5400" y="8550"/>
                  <a:pt x="5389" y="8633"/>
                  <a:pt x="5358" y="8682"/>
                </a:cubicBezTo>
                <a:cubicBezTo>
                  <a:pt x="5330" y="8727"/>
                  <a:pt x="5293" y="8783"/>
                  <a:pt x="5283" y="8830"/>
                </a:cubicBezTo>
                <a:cubicBezTo>
                  <a:pt x="5276" y="8864"/>
                  <a:pt x="5270" y="8960"/>
                  <a:pt x="5308" y="8979"/>
                </a:cubicBezTo>
                <a:cubicBezTo>
                  <a:pt x="5343" y="8996"/>
                  <a:pt x="5449" y="8997"/>
                  <a:pt x="5482" y="9004"/>
                </a:cubicBezTo>
                <a:cubicBezTo>
                  <a:pt x="5564" y="9021"/>
                  <a:pt x="5652" y="9027"/>
                  <a:pt x="5730" y="9004"/>
                </a:cubicBezTo>
                <a:cubicBezTo>
                  <a:pt x="5776" y="8990"/>
                  <a:pt x="5817" y="8958"/>
                  <a:pt x="5854" y="8930"/>
                </a:cubicBezTo>
              </a:path>
              <a:path w="16768" h="2431">
                <a:moveTo>
                  <a:pt x="5854" y="8210"/>
                </a:moveTo>
                <a:cubicBezTo>
                  <a:pt x="5854" y="8493"/>
                  <a:pt x="5850" y="8774"/>
                  <a:pt x="5829" y="9054"/>
                </a:cubicBezTo>
                <a:cubicBezTo>
                  <a:pt x="5810" y="9307"/>
                  <a:pt x="5829" y="9568"/>
                  <a:pt x="5829" y="9823"/>
                </a:cubicBezTo>
                <a:cubicBezTo>
                  <a:pt x="5863" y="9777"/>
                  <a:pt x="5871" y="9734"/>
                  <a:pt x="5879" y="9674"/>
                </a:cubicBezTo>
              </a:path>
              <a:path w="16768" h="2431">
                <a:moveTo>
                  <a:pt x="6077" y="7714"/>
                </a:moveTo>
                <a:cubicBezTo>
                  <a:pt x="6119" y="7645"/>
                  <a:pt x="6117" y="7632"/>
                  <a:pt x="6201" y="7590"/>
                </a:cubicBezTo>
                <a:cubicBezTo>
                  <a:pt x="6274" y="7553"/>
                  <a:pt x="6339" y="7524"/>
                  <a:pt x="6424" y="7541"/>
                </a:cubicBezTo>
                <a:cubicBezTo>
                  <a:pt x="6459" y="7548"/>
                  <a:pt x="6583" y="7597"/>
                  <a:pt x="6598" y="7640"/>
                </a:cubicBezTo>
                <a:cubicBezTo>
                  <a:pt x="6618" y="7695"/>
                  <a:pt x="6577" y="7771"/>
                  <a:pt x="6548" y="7813"/>
                </a:cubicBezTo>
                <a:cubicBezTo>
                  <a:pt x="6497" y="7888"/>
                  <a:pt x="6418" y="7935"/>
                  <a:pt x="6350" y="7987"/>
                </a:cubicBezTo>
                <a:cubicBezTo>
                  <a:pt x="6309" y="8018"/>
                  <a:pt x="6300" y="8038"/>
                  <a:pt x="6300" y="8086"/>
                </a:cubicBezTo>
                <a:cubicBezTo>
                  <a:pt x="6373" y="8086"/>
                  <a:pt x="6487" y="8055"/>
                  <a:pt x="6548" y="8062"/>
                </a:cubicBezTo>
                <a:cubicBezTo>
                  <a:pt x="6594" y="8067"/>
                  <a:pt x="6632" y="8103"/>
                  <a:pt x="6648" y="8111"/>
                </a:cubicBezTo>
                <a:cubicBezTo>
                  <a:pt x="6672" y="8111"/>
                  <a:pt x="6681" y="8111"/>
                  <a:pt x="6697" y="8111"/>
                </a:cubicBezTo>
              </a:path>
              <a:path w="16768" h="2431">
                <a:moveTo>
                  <a:pt x="7615" y="8310"/>
                </a:moveTo>
                <a:cubicBezTo>
                  <a:pt x="7615" y="8568"/>
                  <a:pt x="7620" y="8824"/>
                  <a:pt x="7640" y="9079"/>
                </a:cubicBezTo>
                <a:cubicBezTo>
                  <a:pt x="7649" y="9190"/>
                  <a:pt x="7677" y="9292"/>
                  <a:pt x="7689" y="9401"/>
                </a:cubicBezTo>
                <a:cubicBezTo>
                  <a:pt x="7692" y="9431"/>
                  <a:pt x="7732" y="9544"/>
                  <a:pt x="7714" y="9575"/>
                </a:cubicBezTo>
                <a:cubicBezTo>
                  <a:pt x="7706" y="9583"/>
                  <a:pt x="7697" y="9591"/>
                  <a:pt x="7689" y="9599"/>
                </a:cubicBezTo>
                <a:cubicBezTo>
                  <a:pt x="7633" y="9585"/>
                  <a:pt x="7619" y="9551"/>
                  <a:pt x="7590" y="9500"/>
                </a:cubicBezTo>
              </a:path>
              <a:path w="16768" h="2431">
                <a:moveTo>
                  <a:pt x="6945" y="8979"/>
                </a:moveTo>
                <a:cubicBezTo>
                  <a:pt x="7088" y="8952"/>
                  <a:pt x="7221" y="8954"/>
                  <a:pt x="7367" y="8954"/>
                </a:cubicBezTo>
                <a:cubicBezTo>
                  <a:pt x="7544" y="8954"/>
                  <a:pt x="7714" y="8968"/>
                  <a:pt x="7888" y="8979"/>
                </a:cubicBezTo>
                <a:cubicBezTo>
                  <a:pt x="8014" y="8987"/>
                  <a:pt x="8137" y="8998"/>
                  <a:pt x="8260" y="9004"/>
                </a:cubicBezTo>
                <a:cubicBezTo>
                  <a:pt x="8305" y="9006"/>
                  <a:pt x="8339" y="8914"/>
                  <a:pt x="8359" y="8954"/>
                </a:cubicBezTo>
                <a:cubicBezTo>
                  <a:pt x="8359" y="8979"/>
                  <a:pt x="8359" y="8987"/>
                  <a:pt x="8334" y="8979"/>
                </a:cubicBezTo>
              </a:path>
              <a:path w="16768" h="2431">
                <a:moveTo>
                  <a:pt x="9153" y="8334"/>
                </a:moveTo>
                <a:cubicBezTo>
                  <a:pt x="9170" y="8271"/>
                  <a:pt x="9189" y="8184"/>
                  <a:pt x="9227" y="8136"/>
                </a:cubicBezTo>
                <a:cubicBezTo>
                  <a:pt x="9250" y="8107"/>
                  <a:pt x="9314" y="8084"/>
                  <a:pt x="9351" y="8086"/>
                </a:cubicBezTo>
                <a:cubicBezTo>
                  <a:pt x="9413" y="8089"/>
                  <a:pt x="9480" y="8188"/>
                  <a:pt x="9500" y="8235"/>
                </a:cubicBezTo>
                <a:cubicBezTo>
                  <a:pt x="9544" y="8337"/>
                  <a:pt x="9588" y="8472"/>
                  <a:pt x="9599" y="8582"/>
                </a:cubicBezTo>
                <a:cubicBezTo>
                  <a:pt x="9613" y="8732"/>
                  <a:pt x="9602" y="8911"/>
                  <a:pt x="9550" y="9054"/>
                </a:cubicBezTo>
                <a:cubicBezTo>
                  <a:pt x="9494" y="9210"/>
                  <a:pt x="9417" y="9363"/>
                  <a:pt x="9327" y="9500"/>
                </a:cubicBezTo>
                <a:cubicBezTo>
                  <a:pt x="9260" y="9602"/>
                  <a:pt x="9000" y="9868"/>
                  <a:pt x="8855" y="9723"/>
                </a:cubicBezTo>
                <a:cubicBezTo>
                  <a:pt x="8794" y="9662"/>
                  <a:pt x="8764" y="9607"/>
                  <a:pt x="8756" y="9525"/>
                </a:cubicBezTo>
                <a:cubicBezTo>
                  <a:pt x="8749" y="9455"/>
                  <a:pt x="8755" y="9402"/>
                  <a:pt x="8806" y="9351"/>
                </a:cubicBezTo>
                <a:cubicBezTo>
                  <a:pt x="8879" y="9278"/>
                  <a:pt x="8970" y="9349"/>
                  <a:pt x="9029" y="9376"/>
                </a:cubicBezTo>
                <a:cubicBezTo>
                  <a:pt x="9146" y="9430"/>
                  <a:pt x="9210" y="9483"/>
                  <a:pt x="9302" y="9575"/>
                </a:cubicBezTo>
                <a:cubicBezTo>
                  <a:pt x="9357" y="9630"/>
                  <a:pt x="9431" y="9693"/>
                  <a:pt x="9475" y="9748"/>
                </a:cubicBezTo>
                <a:cubicBezTo>
                  <a:pt x="9497" y="9792"/>
                  <a:pt x="9500" y="9804"/>
                  <a:pt x="9525" y="9823"/>
                </a:cubicBezTo>
              </a:path>
              <a:path w="16768" h="2431">
                <a:moveTo>
                  <a:pt x="10021" y="9079"/>
                </a:moveTo>
                <a:cubicBezTo>
                  <a:pt x="10044" y="9056"/>
                  <a:pt x="10048" y="9048"/>
                  <a:pt x="10071" y="9054"/>
                </a:cubicBezTo>
              </a:path>
              <a:path w="16768" h="2431">
                <a:moveTo>
                  <a:pt x="10517" y="8310"/>
                </a:moveTo>
                <a:cubicBezTo>
                  <a:pt x="10647" y="8266"/>
                  <a:pt x="10752" y="8240"/>
                  <a:pt x="10889" y="8235"/>
                </a:cubicBezTo>
                <a:cubicBezTo>
                  <a:pt x="10923" y="8234"/>
                  <a:pt x="11089" y="8233"/>
                  <a:pt x="11112" y="8210"/>
                </a:cubicBezTo>
                <a:cubicBezTo>
                  <a:pt x="11112" y="8186"/>
                  <a:pt x="11112" y="8177"/>
                  <a:pt x="11112" y="8161"/>
                </a:cubicBezTo>
              </a:path>
              <a:path w="16768" h="2431">
                <a:moveTo>
                  <a:pt x="10666" y="8210"/>
                </a:moveTo>
                <a:cubicBezTo>
                  <a:pt x="10538" y="8293"/>
                  <a:pt x="10481" y="8326"/>
                  <a:pt x="10418" y="8458"/>
                </a:cubicBezTo>
                <a:cubicBezTo>
                  <a:pt x="10377" y="8545"/>
                  <a:pt x="10348" y="8609"/>
                  <a:pt x="10344" y="8706"/>
                </a:cubicBezTo>
                <a:cubicBezTo>
                  <a:pt x="10342" y="8754"/>
                  <a:pt x="10360" y="8797"/>
                  <a:pt x="10393" y="8830"/>
                </a:cubicBezTo>
                <a:cubicBezTo>
                  <a:pt x="10425" y="8862"/>
                  <a:pt x="10498" y="8840"/>
                  <a:pt x="10542" y="8830"/>
                </a:cubicBezTo>
                <a:cubicBezTo>
                  <a:pt x="10607" y="8816"/>
                  <a:pt x="10621" y="8787"/>
                  <a:pt x="10691" y="8781"/>
                </a:cubicBezTo>
                <a:cubicBezTo>
                  <a:pt x="10734" y="8777"/>
                  <a:pt x="10806" y="8772"/>
                  <a:pt x="10840" y="8806"/>
                </a:cubicBezTo>
                <a:cubicBezTo>
                  <a:pt x="10903" y="8869"/>
                  <a:pt x="10923" y="8953"/>
                  <a:pt x="10964" y="9029"/>
                </a:cubicBezTo>
                <a:cubicBezTo>
                  <a:pt x="11021" y="9136"/>
                  <a:pt x="11070" y="9276"/>
                  <a:pt x="11063" y="9401"/>
                </a:cubicBezTo>
                <a:cubicBezTo>
                  <a:pt x="11057" y="9504"/>
                  <a:pt x="11005" y="9625"/>
                  <a:pt x="10939" y="9699"/>
                </a:cubicBezTo>
                <a:cubicBezTo>
                  <a:pt x="10819" y="9832"/>
                  <a:pt x="10660" y="9847"/>
                  <a:pt x="10492" y="9847"/>
                </a:cubicBezTo>
                <a:cubicBezTo>
                  <a:pt x="10369" y="9847"/>
                  <a:pt x="10346" y="9826"/>
                  <a:pt x="10294" y="9723"/>
                </a:cubicBezTo>
                <a:cubicBezTo>
                  <a:pt x="10265" y="9667"/>
                  <a:pt x="10260" y="9643"/>
                  <a:pt x="10294" y="9599"/>
                </a:cubicBezTo>
              </a:path>
              <a:path w="16768" h="2431">
                <a:moveTo>
                  <a:pt x="11137" y="7987"/>
                </a:moveTo>
                <a:cubicBezTo>
                  <a:pt x="11207" y="7924"/>
                  <a:pt x="11286" y="7855"/>
                  <a:pt x="11385" y="7838"/>
                </a:cubicBezTo>
                <a:cubicBezTo>
                  <a:pt x="11491" y="7820"/>
                  <a:pt x="11581" y="7907"/>
                  <a:pt x="11633" y="7987"/>
                </a:cubicBezTo>
                <a:cubicBezTo>
                  <a:pt x="11691" y="8077"/>
                  <a:pt x="11694" y="8162"/>
                  <a:pt x="11658" y="8260"/>
                </a:cubicBezTo>
                <a:cubicBezTo>
                  <a:pt x="11632" y="8331"/>
                  <a:pt x="11596" y="8371"/>
                  <a:pt x="11534" y="8409"/>
                </a:cubicBezTo>
                <a:cubicBezTo>
                  <a:pt x="11494" y="8433"/>
                  <a:pt x="11417" y="8461"/>
                  <a:pt x="11385" y="8409"/>
                </a:cubicBezTo>
                <a:cubicBezTo>
                  <a:pt x="11385" y="8401"/>
                  <a:pt x="11385" y="8392"/>
                  <a:pt x="11385" y="8384"/>
                </a:cubicBezTo>
                <a:cubicBezTo>
                  <a:pt x="11494" y="8384"/>
                  <a:pt x="11605" y="8369"/>
                  <a:pt x="11708" y="8409"/>
                </a:cubicBezTo>
                <a:cubicBezTo>
                  <a:pt x="11778" y="8445"/>
                  <a:pt x="11818" y="8458"/>
                  <a:pt x="11881" y="8458"/>
                </a:cubicBezTo>
              </a:path>
              <a:path w="16768" h="2431">
                <a:moveTo>
                  <a:pt x="12353" y="8508"/>
                </a:moveTo>
                <a:cubicBezTo>
                  <a:pt x="12353" y="8656"/>
                  <a:pt x="12345" y="8790"/>
                  <a:pt x="12353" y="8930"/>
                </a:cubicBezTo>
                <a:cubicBezTo>
                  <a:pt x="12360" y="9057"/>
                  <a:pt x="12362" y="9153"/>
                  <a:pt x="12402" y="9277"/>
                </a:cubicBezTo>
                <a:cubicBezTo>
                  <a:pt x="12407" y="9294"/>
                  <a:pt x="12463" y="9461"/>
                  <a:pt x="12452" y="9475"/>
                </a:cubicBezTo>
                <a:cubicBezTo>
                  <a:pt x="12424" y="9475"/>
                  <a:pt x="12413" y="9473"/>
                  <a:pt x="12402" y="9451"/>
                </a:cubicBezTo>
              </a:path>
              <a:path w="16768" h="2431">
                <a:moveTo>
                  <a:pt x="11981" y="9029"/>
                </a:moveTo>
                <a:cubicBezTo>
                  <a:pt x="12128" y="8964"/>
                  <a:pt x="12239" y="8941"/>
                  <a:pt x="12402" y="8954"/>
                </a:cubicBezTo>
                <a:cubicBezTo>
                  <a:pt x="12547" y="8965"/>
                  <a:pt x="12681" y="9004"/>
                  <a:pt x="12824" y="9004"/>
                </a:cubicBezTo>
              </a:path>
              <a:path w="16768" h="2431">
                <a:moveTo>
                  <a:pt x="13494" y="8359"/>
                </a:moveTo>
                <a:cubicBezTo>
                  <a:pt x="13558" y="8277"/>
                  <a:pt x="13630" y="8174"/>
                  <a:pt x="13717" y="8111"/>
                </a:cubicBezTo>
                <a:cubicBezTo>
                  <a:pt x="13770" y="8073"/>
                  <a:pt x="13878" y="8073"/>
                  <a:pt x="13940" y="8086"/>
                </a:cubicBezTo>
                <a:cubicBezTo>
                  <a:pt x="14059" y="8111"/>
                  <a:pt x="14104" y="8172"/>
                  <a:pt x="14139" y="8285"/>
                </a:cubicBezTo>
                <a:cubicBezTo>
                  <a:pt x="14180" y="8416"/>
                  <a:pt x="14168" y="8599"/>
                  <a:pt x="14139" y="8731"/>
                </a:cubicBezTo>
                <a:cubicBezTo>
                  <a:pt x="14090" y="8952"/>
                  <a:pt x="14006" y="9170"/>
                  <a:pt x="13915" y="9376"/>
                </a:cubicBezTo>
                <a:cubicBezTo>
                  <a:pt x="13861" y="9498"/>
                  <a:pt x="13802" y="9644"/>
                  <a:pt x="13717" y="9748"/>
                </a:cubicBezTo>
                <a:cubicBezTo>
                  <a:pt x="13659" y="9819"/>
                  <a:pt x="13604" y="9884"/>
                  <a:pt x="13519" y="9897"/>
                </a:cubicBezTo>
                <a:cubicBezTo>
                  <a:pt x="13444" y="9909"/>
                  <a:pt x="13465" y="9873"/>
                  <a:pt x="13444" y="9823"/>
                </a:cubicBezTo>
                <a:cubicBezTo>
                  <a:pt x="13413" y="9748"/>
                  <a:pt x="13419" y="9677"/>
                  <a:pt x="13444" y="9599"/>
                </a:cubicBezTo>
                <a:cubicBezTo>
                  <a:pt x="13468" y="9523"/>
                  <a:pt x="13453" y="9455"/>
                  <a:pt x="13543" y="9426"/>
                </a:cubicBezTo>
                <a:cubicBezTo>
                  <a:pt x="13608" y="9405"/>
                  <a:pt x="13671" y="9462"/>
                  <a:pt x="13717" y="9500"/>
                </a:cubicBezTo>
                <a:cubicBezTo>
                  <a:pt x="13802" y="9571"/>
                  <a:pt x="13867" y="9643"/>
                  <a:pt x="13940" y="9723"/>
                </a:cubicBezTo>
                <a:cubicBezTo>
                  <a:pt x="13967" y="9752"/>
                  <a:pt x="13998" y="9798"/>
                  <a:pt x="14039" y="9798"/>
                </a:cubicBezTo>
                <a:cubicBezTo>
                  <a:pt x="14039" y="9790"/>
                  <a:pt x="14039" y="9781"/>
                  <a:pt x="14039" y="9773"/>
                </a:cubicBezTo>
              </a:path>
              <a:path w="16768" h="2431">
                <a:moveTo>
                  <a:pt x="14511" y="9079"/>
                </a:moveTo>
                <a:cubicBezTo>
                  <a:pt x="14525" y="9021"/>
                  <a:pt x="14557" y="8967"/>
                  <a:pt x="14585" y="8905"/>
                </a:cubicBezTo>
              </a:path>
              <a:path w="16768" h="2431">
                <a:moveTo>
                  <a:pt x="15032" y="8210"/>
                </a:moveTo>
                <a:cubicBezTo>
                  <a:pt x="15032" y="8362"/>
                  <a:pt x="15004" y="8440"/>
                  <a:pt x="14957" y="8582"/>
                </a:cubicBezTo>
                <a:cubicBezTo>
                  <a:pt x="14910" y="8723"/>
                  <a:pt x="14887" y="8881"/>
                  <a:pt x="14883" y="9029"/>
                </a:cubicBezTo>
                <a:cubicBezTo>
                  <a:pt x="14880" y="9155"/>
                  <a:pt x="14882" y="9333"/>
                  <a:pt x="14932" y="9451"/>
                </a:cubicBezTo>
                <a:cubicBezTo>
                  <a:pt x="14978" y="9561"/>
                  <a:pt x="15031" y="9674"/>
                  <a:pt x="15156" y="9699"/>
                </a:cubicBezTo>
                <a:cubicBezTo>
                  <a:pt x="15225" y="9713"/>
                  <a:pt x="15314" y="9650"/>
                  <a:pt x="15354" y="9599"/>
                </a:cubicBezTo>
                <a:cubicBezTo>
                  <a:pt x="15418" y="9516"/>
                  <a:pt x="15429" y="9452"/>
                  <a:pt x="15429" y="9351"/>
                </a:cubicBezTo>
                <a:cubicBezTo>
                  <a:pt x="15429" y="9304"/>
                  <a:pt x="15416" y="9270"/>
                  <a:pt x="15404" y="9227"/>
                </a:cubicBezTo>
                <a:cubicBezTo>
                  <a:pt x="15348" y="9233"/>
                  <a:pt x="15298" y="9229"/>
                  <a:pt x="15255" y="9277"/>
                </a:cubicBezTo>
                <a:cubicBezTo>
                  <a:pt x="15183" y="9357"/>
                  <a:pt x="15170" y="9455"/>
                  <a:pt x="15131" y="9550"/>
                </a:cubicBezTo>
                <a:cubicBezTo>
                  <a:pt x="15096" y="9636"/>
                  <a:pt x="15102" y="9694"/>
                  <a:pt x="15156" y="9773"/>
                </a:cubicBezTo>
                <a:cubicBezTo>
                  <a:pt x="15178" y="9796"/>
                  <a:pt x="15183" y="9804"/>
                  <a:pt x="15205" y="9798"/>
                </a:cubicBezTo>
              </a:path>
              <a:path w="16768" h="2431">
                <a:moveTo>
                  <a:pt x="15478" y="7888"/>
                </a:moveTo>
                <a:cubicBezTo>
                  <a:pt x="15557" y="7828"/>
                  <a:pt x="15660" y="7720"/>
                  <a:pt x="15776" y="7739"/>
                </a:cubicBezTo>
                <a:cubicBezTo>
                  <a:pt x="15863" y="7754"/>
                  <a:pt x="15965" y="7810"/>
                  <a:pt x="15949" y="7913"/>
                </a:cubicBezTo>
                <a:cubicBezTo>
                  <a:pt x="15940" y="7971"/>
                  <a:pt x="15825" y="8084"/>
                  <a:pt x="15776" y="8111"/>
                </a:cubicBezTo>
                <a:cubicBezTo>
                  <a:pt x="15713" y="8147"/>
                  <a:pt x="15624" y="8177"/>
                  <a:pt x="15602" y="8260"/>
                </a:cubicBezTo>
                <a:cubicBezTo>
                  <a:pt x="15581" y="8338"/>
                  <a:pt x="15636" y="8381"/>
                  <a:pt x="15701" y="8409"/>
                </a:cubicBezTo>
                <a:cubicBezTo>
                  <a:pt x="15798" y="8451"/>
                  <a:pt x="15921" y="8451"/>
                  <a:pt x="16024" y="8458"/>
                </a:cubicBezTo>
              </a:path>
              <a:path w="16768" h="2431">
                <a:moveTo>
                  <a:pt x="16545" y="8458"/>
                </a:moveTo>
                <a:cubicBezTo>
                  <a:pt x="16545" y="8613"/>
                  <a:pt x="16525" y="8753"/>
                  <a:pt x="16520" y="8905"/>
                </a:cubicBezTo>
                <a:cubicBezTo>
                  <a:pt x="16517" y="8999"/>
                  <a:pt x="16543" y="9115"/>
                  <a:pt x="16570" y="9203"/>
                </a:cubicBezTo>
                <a:cubicBezTo>
                  <a:pt x="16577" y="9226"/>
                  <a:pt x="16594" y="9360"/>
                  <a:pt x="16594" y="9302"/>
                </a:cubicBezTo>
              </a:path>
              <a:path w="16768" h="2431">
                <a:moveTo>
                  <a:pt x="16247" y="8979"/>
                </a:moveTo>
                <a:cubicBezTo>
                  <a:pt x="16386" y="8950"/>
                  <a:pt x="16503" y="8930"/>
                  <a:pt x="16644" y="8930"/>
                </a:cubicBezTo>
                <a:cubicBezTo>
                  <a:pt x="16736" y="8930"/>
                  <a:pt x="16763" y="8932"/>
                  <a:pt x="16818" y="8905"/>
                </a:cubicBezTo>
              </a:path>
              <a:path w="16768" h="2431">
                <a:moveTo>
                  <a:pt x="17264" y="8384"/>
                </a:moveTo>
                <a:cubicBezTo>
                  <a:pt x="17365" y="8328"/>
                  <a:pt x="17486" y="8241"/>
                  <a:pt x="17611" y="8260"/>
                </a:cubicBezTo>
                <a:cubicBezTo>
                  <a:pt x="17714" y="8275"/>
                  <a:pt x="17807" y="8323"/>
                  <a:pt x="17859" y="8409"/>
                </a:cubicBezTo>
                <a:cubicBezTo>
                  <a:pt x="17907" y="8487"/>
                  <a:pt x="17875" y="8622"/>
                  <a:pt x="17859" y="8706"/>
                </a:cubicBezTo>
                <a:cubicBezTo>
                  <a:pt x="17828" y="8865"/>
                  <a:pt x="17724" y="9021"/>
                  <a:pt x="17636" y="9153"/>
                </a:cubicBezTo>
                <a:cubicBezTo>
                  <a:pt x="17527" y="9317"/>
                  <a:pt x="17366" y="9465"/>
                  <a:pt x="17289" y="9649"/>
                </a:cubicBezTo>
                <a:cubicBezTo>
                  <a:pt x="17263" y="9710"/>
                  <a:pt x="17231" y="9762"/>
                  <a:pt x="17214" y="9823"/>
                </a:cubicBezTo>
                <a:cubicBezTo>
                  <a:pt x="17214" y="9831"/>
                  <a:pt x="17214" y="9839"/>
                  <a:pt x="17214" y="9847"/>
                </a:cubicBezTo>
                <a:cubicBezTo>
                  <a:pt x="17278" y="9847"/>
                  <a:pt x="17329" y="9864"/>
                  <a:pt x="17388" y="9872"/>
                </a:cubicBezTo>
                <a:cubicBezTo>
                  <a:pt x="17492" y="9886"/>
                  <a:pt x="17609" y="9888"/>
                  <a:pt x="17711" y="9897"/>
                </a:cubicBezTo>
                <a:cubicBezTo>
                  <a:pt x="17814" y="9906"/>
                  <a:pt x="17912" y="9906"/>
                  <a:pt x="17983" y="9823"/>
                </a:cubicBezTo>
                <a:cubicBezTo>
                  <a:pt x="18047" y="9727"/>
                  <a:pt x="18075" y="9679"/>
                  <a:pt x="18107" y="9599"/>
                </a:cubicBezTo>
              </a:path>
              <a:path w="16768" h="2431">
                <a:moveTo>
                  <a:pt x="18182" y="9079"/>
                </a:moveTo>
                <a:cubicBezTo>
                  <a:pt x="18182" y="9087"/>
                  <a:pt x="18182" y="9095"/>
                  <a:pt x="18182" y="9103"/>
                </a:cubicBezTo>
                <a:cubicBezTo>
                  <a:pt x="18237" y="9103"/>
                  <a:pt x="18224" y="9096"/>
                  <a:pt x="18256" y="9054"/>
                </a:cubicBezTo>
              </a:path>
              <a:path w="16768" h="2431">
                <a:moveTo>
                  <a:pt x="18455" y="8409"/>
                </a:moveTo>
                <a:cubicBezTo>
                  <a:pt x="18531" y="8341"/>
                  <a:pt x="18574" y="8313"/>
                  <a:pt x="18678" y="8310"/>
                </a:cubicBezTo>
                <a:cubicBezTo>
                  <a:pt x="18793" y="8306"/>
                  <a:pt x="18890" y="8330"/>
                  <a:pt x="19000" y="8334"/>
                </a:cubicBezTo>
                <a:cubicBezTo>
                  <a:pt x="19086" y="8337"/>
                  <a:pt x="19145" y="8329"/>
                  <a:pt x="19224" y="8359"/>
                </a:cubicBezTo>
                <a:cubicBezTo>
                  <a:pt x="19212" y="8456"/>
                  <a:pt x="19171" y="8481"/>
                  <a:pt x="19124" y="8582"/>
                </a:cubicBezTo>
                <a:cubicBezTo>
                  <a:pt x="19062" y="8716"/>
                  <a:pt x="19036" y="8885"/>
                  <a:pt x="19025" y="9029"/>
                </a:cubicBezTo>
                <a:cubicBezTo>
                  <a:pt x="19014" y="9182"/>
                  <a:pt x="19026" y="9350"/>
                  <a:pt x="19050" y="9500"/>
                </a:cubicBezTo>
                <a:cubicBezTo>
                  <a:pt x="19070" y="9624"/>
                  <a:pt x="19084" y="9749"/>
                  <a:pt x="19100" y="9872"/>
                </a:cubicBezTo>
                <a:cubicBezTo>
                  <a:pt x="19107" y="9928"/>
                  <a:pt x="19051" y="10017"/>
                  <a:pt x="19100" y="9922"/>
                </a:cubicBezTo>
              </a:path>
              <a:path w="16768" h="2431">
                <a:moveTo>
                  <a:pt x="19323" y="8161"/>
                </a:moveTo>
                <a:cubicBezTo>
                  <a:pt x="19512" y="8028"/>
                  <a:pt x="19622" y="7904"/>
                  <a:pt x="19844" y="8062"/>
                </a:cubicBezTo>
                <a:cubicBezTo>
                  <a:pt x="19992" y="8167"/>
                  <a:pt x="20034" y="8309"/>
                  <a:pt x="20017" y="8483"/>
                </a:cubicBezTo>
                <a:cubicBezTo>
                  <a:pt x="20008" y="8579"/>
                  <a:pt x="19907" y="8643"/>
                  <a:pt x="19844" y="8706"/>
                </a:cubicBezTo>
                <a:cubicBezTo>
                  <a:pt x="19804" y="8746"/>
                  <a:pt x="19754" y="8771"/>
                  <a:pt x="19695" y="8756"/>
                </a:cubicBezTo>
                <a:cubicBezTo>
                  <a:pt x="19661" y="8747"/>
                  <a:pt x="19656" y="8701"/>
                  <a:pt x="19645" y="8682"/>
                </a:cubicBezTo>
                <a:cubicBezTo>
                  <a:pt x="19682" y="8630"/>
                  <a:pt x="19709" y="8593"/>
                  <a:pt x="19794" y="8582"/>
                </a:cubicBezTo>
                <a:cubicBezTo>
                  <a:pt x="19924" y="8565"/>
                  <a:pt x="20043" y="8595"/>
                  <a:pt x="20166" y="8632"/>
                </a:cubicBezTo>
                <a:cubicBezTo>
                  <a:pt x="20257" y="8660"/>
                  <a:pt x="20365" y="8706"/>
                  <a:pt x="20464" y="8682"/>
                </a:cubicBezTo>
                <a:cubicBezTo>
                  <a:pt x="20492" y="8682"/>
                  <a:pt x="20503" y="8680"/>
                  <a:pt x="20513" y="86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60680" y="3795840"/>
            <a:ext cx="804600" cy="482400"/>
          </a:xfrm>
          <a:custGeom>
            <a:avLst/>
            <a:gdLst/>
            <a:ahLst/>
            <a:rect l="l" t="t" r="r" b="b"/>
            <a:pathLst>
              <a:path w="2233" h="1340">
                <a:moveTo>
                  <a:pt x="4638" y="10716"/>
                </a:moveTo>
                <a:cubicBezTo>
                  <a:pt x="4614" y="10666"/>
                  <a:pt x="4643" y="10660"/>
                  <a:pt x="4688" y="10616"/>
                </a:cubicBezTo>
                <a:cubicBezTo>
                  <a:pt x="4731" y="10573"/>
                  <a:pt x="4805" y="10552"/>
                  <a:pt x="4862" y="10542"/>
                </a:cubicBezTo>
                <a:cubicBezTo>
                  <a:pt x="4922" y="10532"/>
                  <a:pt x="5016" y="10545"/>
                  <a:pt x="5060" y="10592"/>
                </a:cubicBezTo>
                <a:cubicBezTo>
                  <a:pt x="5104" y="10639"/>
                  <a:pt x="5124" y="10728"/>
                  <a:pt x="5110" y="10790"/>
                </a:cubicBezTo>
                <a:cubicBezTo>
                  <a:pt x="5088" y="10891"/>
                  <a:pt x="5031" y="10943"/>
                  <a:pt x="4961" y="11013"/>
                </a:cubicBezTo>
                <a:cubicBezTo>
                  <a:pt x="4899" y="11075"/>
                  <a:pt x="4831" y="11088"/>
                  <a:pt x="4762" y="11137"/>
                </a:cubicBezTo>
                <a:cubicBezTo>
                  <a:pt x="4740" y="11160"/>
                  <a:pt x="4735" y="11168"/>
                  <a:pt x="4713" y="11162"/>
                </a:cubicBezTo>
                <a:cubicBezTo>
                  <a:pt x="4758" y="11126"/>
                  <a:pt x="4789" y="11135"/>
                  <a:pt x="4837" y="11112"/>
                </a:cubicBezTo>
                <a:cubicBezTo>
                  <a:pt x="4900" y="11082"/>
                  <a:pt x="4918" y="11083"/>
                  <a:pt x="4986" y="11112"/>
                </a:cubicBezTo>
                <a:cubicBezTo>
                  <a:pt x="5056" y="11141"/>
                  <a:pt x="5100" y="11196"/>
                  <a:pt x="5135" y="11261"/>
                </a:cubicBezTo>
                <a:cubicBezTo>
                  <a:pt x="5185" y="11352"/>
                  <a:pt x="5195" y="11413"/>
                  <a:pt x="5159" y="11509"/>
                </a:cubicBezTo>
                <a:cubicBezTo>
                  <a:pt x="5137" y="11569"/>
                  <a:pt x="5095" y="11653"/>
                  <a:pt x="5035" y="11683"/>
                </a:cubicBezTo>
                <a:cubicBezTo>
                  <a:pt x="4959" y="11721"/>
                  <a:pt x="4895" y="11733"/>
                  <a:pt x="4812" y="11733"/>
                </a:cubicBezTo>
                <a:cubicBezTo>
                  <a:pt x="4721" y="11733"/>
                  <a:pt x="4707" y="11740"/>
                  <a:pt x="4663" y="11658"/>
                </a:cubicBezTo>
                <a:cubicBezTo>
                  <a:pt x="4655" y="11642"/>
                  <a:pt x="4646" y="11625"/>
                  <a:pt x="4638" y="11609"/>
                </a:cubicBezTo>
              </a:path>
              <a:path w="2233" h="1340">
                <a:moveTo>
                  <a:pt x="5482" y="10790"/>
                </a:moveTo>
                <a:cubicBezTo>
                  <a:pt x="5552" y="10759"/>
                  <a:pt x="5646" y="10693"/>
                  <a:pt x="5730" y="10716"/>
                </a:cubicBezTo>
                <a:cubicBezTo>
                  <a:pt x="5803" y="10736"/>
                  <a:pt x="5878" y="10791"/>
                  <a:pt x="5904" y="10864"/>
                </a:cubicBezTo>
                <a:cubicBezTo>
                  <a:pt x="5949" y="10992"/>
                  <a:pt x="5932" y="11132"/>
                  <a:pt x="5904" y="11261"/>
                </a:cubicBezTo>
                <a:cubicBezTo>
                  <a:pt x="5881" y="11371"/>
                  <a:pt x="5826" y="11501"/>
                  <a:pt x="5755" y="11584"/>
                </a:cubicBezTo>
                <a:cubicBezTo>
                  <a:pt x="5696" y="11653"/>
                  <a:pt x="5634" y="11685"/>
                  <a:pt x="5556" y="11708"/>
                </a:cubicBezTo>
                <a:cubicBezTo>
                  <a:pt x="5525" y="11656"/>
                  <a:pt x="5500" y="11615"/>
                  <a:pt x="5531" y="11559"/>
                </a:cubicBezTo>
                <a:cubicBezTo>
                  <a:pt x="5582" y="11465"/>
                  <a:pt x="5588" y="11474"/>
                  <a:pt x="5655" y="11509"/>
                </a:cubicBezTo>
                <a:cubicBezTo>
                  <a:pt x="5715" y="11541"/>
                  <a:pt x="5769" y="11600"/>
                  <a:pt x="5804" y="11658"/>
                </a:cubicBezTo>
                <a:cubicBezTo>
                  <a:pt x="5834" y="11710"/>
                  <a:pt x="5879" y="11797"/>
                  <a:pt x="5928" y="11832"/>
                </a:cubicBezTo>
                <a:cubicBezTo>
                  <a:pt x="5976" y="11866"/>
                  <a:pt x="6000" y="11874"/>
                  <a:pt x="6052" y="11881"/>
                </a:cubicBezTo>
              </a:path>
              <a:path w="2233" h="1340">
                <a:moveTo>
                  <a:pt x="6623" y="10988"/>
                </a:moveTo>
                <a:cubicBezTo>
                  <a:pt x="6591" y="11131"/>
                  <a:pt x="6555" y="11266"/>
                  <a:pt x="6548" y="11410"/>
                </a:cubicBezTo>
                <a:cubicBezTo>
                  <a:pt x="6545" y="11469"/>
                  <a:pt x="6557" y="11575"/>
                  <a:pt x="6573" y="11633"/>
                </a:cubicBezTo>
                <a:cubicBezTo>
                  <a:pt x="6586" y="11681"/>
                  <a:pt x="6598" y="11716"/>
                  <a:pt x="6623" y="11733"/>
                </a:cubicBezTo>
              </a:path>
              <a:path w="2233" h="1340">
                <a:moveTo>
                  <a:pt x="6375" y="11311"/>
                </a:moveTo>
                <a:cubicBezTo>
                  <a:pt x="6450" y="11311"/>
                  <a:pt x="6526" y="11276"/>
                  <a:pt x="6598" y="11286"/>
                </a:cubicBezTo>
                <a:cubicBezTo>
                  <a:pt x="6688" y="11298"/>
                  <a:pt x="6755" y="11311"/>
                  <a:pt x="6846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660760" y="3884760"/>
            <a:ext cx="2884320" cy="571320"/>
          </a:xfrm>
          <a:custGeom>
            <a:avLst/>
            <a:gdLst/>
            <a:ahLst/>
            <a:rect l="l" t="t" r="r" b="b"/>
            <a:pathLst>
              <a:path w="8013" h="1589">
                <a:moveTo>
                  <a:pt x="7541" y="10864"/>
                </a:moveTo>
                <a:cubicBezTo>
                  <a:pt x="7681" y="10824"/>
                  <a:pt x="7779" y="10840"/>
                  <a:pt x="7913" y="10815"/>
                </a:cubicBezTo>
                <a:cubicBezTo>
                  <a:pt x="7973" y="10804"/>
                  <a:pt x="8002" y="10790"/>
                  <a:pt x="8062" y="10790"/>
                </a:cubicBezTo>
              </a:path>
              <a:path w="8013" h="1589">
                <a:moveTo>
                  <a:pt x="7491" y="10939"/>
                </a:moveTo>
                <a:cubicBezTo>
                  <a:pt x="7434" y="11020"/>
                  <a:pt x="7367" y="11081"/>
                  <a:pt x="7392" y="11187"/>
                </a:cubicBezTo>
                <a:cubicBezTo>
                  <a:pt x="7402" y="11231"/>
                  <a:pt x="7456" y="11237"/>
                  <a:pt x="7491" y="11237"/>
                </a:cubicBezTo>
                <a:cubicBezTo>
                  <a:pt x="7519" y="11237"/>
                  <a:pt x="7612" y="11224"/>
                  <a:pt x="7640" y="11212"/>
                </a:cubicBezTo>
                <a:cubicBezTo>
                  <a:pt x="7684" y="11194"/>
                  <a:pt x="7711" y="11187"/>
                  <a:pt x="7764" y="11187"/>
                </a:cubicBezTo>
                <a:cubicBezTo>
                  <a:pt x="7821" y="11187"/>
                  <a:pt x="7841" y="11209"/>
                  <a:pt x="7888" y="11237"/>
                </a:cubicBezTo>
                <a:cubicBezTo>
                  <a:pt x="7966" y="11283"/>
                  <a:pt x="7982" y="11349"/>
                  <a:pt x="8012" y="11435"/>
                </a:cubicBezTo>
                <a:cubicBezTo>
                  <a:pt x="8047" y="11535"/>
                  <a:pt x="8049" y="11633"/>
                  <a:pt x="8012" y="11733"/>
                </a:cubicBezTo>
                <a:cubicBezTo>
                  <a:pt x="7980" y="11821"/>
                  <a:pt x="7922" y="11889"/>
                  <a:pt x="7838" y="11931"/>
                </a:cubicBezTo>
                <a:cubicBezTo>
                  <a:pt x="7753" y="11974"/>
                  <a:pt x="7626" y="11962"/>
                  <a:pt x="7541" y="11931"/>
                </a:cubicBezTo>
                <a:cubicBezTo>
                  <a:pt x="7518" y="11908"/>
                  <a:pt x="7510" y="11904"/>
                  <a:pt x="7516" y="11881"/>
                </a:cubicBezTo>
              </a:path>
              <a:path w="8013" h="1589">
                <a:moveTo>
                  <a:pt x="8533" y="11063"/>
                </a:moveTo>
                <a:cubicBezTo>
                  <a:pt x="8496" y="11223"/>
                  <a:pt x="8406" y="11378"/>
                  <a:pt x="8384" y="11534"/>
                </a:cubicBezTo>
                <a:cubicBezTo>
                  <a:pt x="8367" y="11652"/>
                  <a:pt x="8398" y="11748"/>
                  <a:pt x="8434" y="11857"/>
                </a:cubicBezTo>
                <a:cubicBezTo>
                  <a:pt x="8463" y="11946"/>
                  <a:pt x="8539" y="12044"/>
                  <a:pt x="8632" y="12080"/>
                </a:cubicBezTo>
                <a:cubicBezTo>
                  <a:pt x="8715" y="12112"/>
                  <a:pt x="8821" y="12079"/>
                  <a:pt x="8880" y="12030"/>
                </a:cubicBezTo>
                <a:cubicBezTo>
                  <a:pt x="8971" y="11954"/>
                  <a:pt x="9054" y="11882"/>
                  <a:pt x="9079" y="11757"/>
                </a:cubicBezTo>
                <a:cubicBezTo>
                  <a:pt x="9109" y="11608"/>
                  <a:pt x="9070" y="11470"/>
                  <a:pt x="9029" y="11336"/>
                </a:cubicBezTo>
                <a:cubicBezTo>
                  <a:pt x="8985" y="11193"/>
                  <a:pt x="8934" y="11162"/>
                  <a:pt x="8830" y="11063"/>
                </a:cubicBezTo>
                <a:cubicBezTo>
                  <a:pt x="8791" y="11026"/>
                  <a:pt x="8652" y="11007"/>
                  <a:pt x="8657" y="11013"/>
                </a:cubicBezTo>
                <a:cubicBezTo>
                  <a:pt x="8614" y="11013"/>
                  <a:pt x="8623" y="11019"/>
                  <a:pt x="8706" y="11038"/>
                </a:cubicBezTo>
              </a:path>
              <a:path w="8013" h="1589">
                <a:moveTo>
                  <a:pt x="9699" y="11088"/>
                </a:moveTo>
                <a:cubicBezTo>
                  <a:pt x="9683" y="11257"/>
                  <a:pt x="9652" y="11399"/>
                  <a:pt x="9699" y="11559"/>
                </a:cubicBezTo>
                <a:cubicBezTo>
                  <a:pt x="9718" y="11624"/>
                  <a:pt x="9741" y="11698"/>
                  <a:pt x="9748" y="11757"/>
                </a:cubicBezTo>
                <a:cubicBezTo>
                  <a:pt x="9748" y="11785"/>
                  <a:pt x="9746" y="11791"/>
                  <a:pt x="9723" y="11757"/>
                </a:cubicBezTo>
              </a:path>
              <a:path w="8013" h="1589">
                <a:moveTo>
                  <a:pt x="9475" y="11435"/>
                </a:moveTo>
                <a:cubicBezTo>
                  <a:pt x="9555" y="11435"/>
                  <a:pt x="9623" y="11453"/>
                  <a:pt x="9699" y="11460"/>
                </a:cubicBezTo>
                <a:cubicBezTo>
                  <a:pt x="9796" y="11469"/>
                  <a:pt x="9899" y="11460"/>
                  <a:pt x="9996" y="11460"/>
                </a:cubicBezTo>
              </a:path>
              <a:path w="8013" h="1589">
                <a:moveTo>
                  <a:pt x="10319" y="10939"/>
                </a:moveTo>
                <a:cubicBezTo>
                  <a:pt x="10518" y="10894"/>
                  <a:pt x="10578" y="10891"/>
                  <a:pt x="10765" y="10914"/>
                </a:cubicBezTo>
                <a:cubicBezTo>
                  <a:pt x="10819" y="10921"/>
                  <a:pt x="10934" y="10904"/>
                  <a:pt x="10988" y="10889"/>
                </a:cubicBezTo>
                <a:cubicBezTo>
                  <a:pt x="11041" y="10874"/>
                  <a:pt x="11085" y="10818"/>
                  <a:pt x="11038" y="10864"/>
                </a:cubicBezTo>
                <a:cubicBezTo>
                  <a:pt x="10990" y="10912"/>
                  <a:pt x="10966" y="10984"/>
                  <a:pt x="10939" y="11063"/>
                </a:cubicBezTo>
                <a:cubicBezTo>
                  <a:pt x="10898" y="11185"/>
                  <a:pt x="10874" y="11306"/>
                  <a:pt x="10864" y="11435"/>
                </a:cubicBezTo>
                <a:cubicBezTo>
                  <a:pt x="10852" y="11583"/>
                  <a:pt x="10864" y="11734"/>
                  <a:pt x="10840" y="11881"/>
                </a:cubicBezTo>
                <a:cubicBezTo>
                  <a:pt x="10823" y="11987"/>
                  <a:pt x="10790" y="12120"/>
                  <a:pt x="10815" y="12229"/>
                </a:cubicBezTo>
                <a:cubicBezTo>
                  <a:pt x="10832" y="12301"/>
                  <a:pt x="10847" y="12318"/>
                  <a:pt x="10889" y="12353"/>
                </a:cubicBezTo>
              </a:path>
              <a:path w="8013" h="1589">
                <a:moveTo>
                  <a:pt x="11336" y="11212"/>
                </a:moveTo>
                <a:cubicBezTo>
                  <a:pt x="11474" y="11142"/>
                  <a:pt x="11565" y="11055"/>
                  <a:pt x="11708" y="11162"/>
                </a:cubicBezTo>
                <a:cubicBezTo>
                  <a:pt x="11786" y="11220"/>
                  <a:pt x="11845" y="11340"/>
                  <a:pt x="11857" y="11435"/>
                </a:cubicBezTo>
                <a:cubicBezTo>
                  <a:pt x="11878" y="11603"/>
                  <a:pt x="11857" y="11781"/>
                  <a:pt x="11782" y="11931"/>
                </a:cubicBezTo>
                <a:cubicBezTo>
                  <a:pt x="11730" y="12035"/>
                  <a:pt x="11661" y="12145"/>
                  <a:pt x="11584" y="12229"/>
                </a:cubicBezTo>
                <a:cubicBezTo>
                  <a:pt x="11540" y="12277"/>
                  <a:pt x="11506" y="12322"/>
                  <a:pt x="11435" y="12303"/>
                </a:cubicBezTo>
                <a:cubicBezTo>
                  <a:pt x="11378" y="12288"/>
                  <a:pt x="11374" y="12216"/>
                  <a:pt x="11361" y="12179"/>
                </a:cubicBezTo>
                <a:cubicBezTo>
                  <a:pt x="11337" y="12110"/>
                  <a:pt x="11330" y="12045"/>
                  <a:pt x="11361" y="11981"/>
                </a:cubicBezTo>
                <a:cubicBezTo>
                  <a:pt x="11377" y="11949"/>
                  <a:pt x="11456" y="11945"/>
                  <a:pt x="11485" y="11956"/>
                </a:cubicBezTo>
                <a:cubicBezTo>
                  <a:pt x="11557" y="11984"/>
                  <a:pt x="11606" y="12061"/>
                  <a:pt x="11658" y="12105"/>
                </a:cubicBezTo>
                <a:cubicBezTo>
                  <a:pt x="11768" y="12198"/>
                  <a:pt x="11863" y="12292"/>
                  <a:pt x="12005" y="12328"/>
                </a:cubicBezTo>
                <a:cubicBezTo>
                  <a:pt x="12013" y="12328"/>
                  <a:pt x="12022" y="12328"/>
                  <a:pt x="12030" y="12328"/>
                </a:cubicBezTo>
              </a:path>
              <a:path w="8013" h="1589">
                <a:moveTo>
                  <a:pt x="12650" y="11261"/>
                </a:moveTo>
                <a:cubicBezTo>
                  <a:pt x="12650" y="11431"/>
                  <a:pt x="12622" y="11641"/>
                  <a:pt x="12675" y="11807"/>
                </a:cubicBezTo>
                <a:cubicBezTo>
                  <a:pt x="12697" y="11876"/>
                  <a:pt x="12725" y="11906"/>
                  <a:pt x="12725" y="11981"/>
                </a:cubicBezTo>
              </a:path>
              <a:path w="8013" h="1589">
                <a:moveTo>
                  <a:pt x="12452" y="11534"/>
                </a:moveTo>
                <a:cubicBezTo>
                  <a:pt x="12624" y="11510"/>
                  <a:pt x="12753" y="11530"/>
                  <a:pt x="12923" y="11534"/>
                </a:cubicBezTo>
                <a:cubicBezTo>
                  <a:pt x="13030" y="11534"/>
                  <a:pt x="13072" y="11534"/>
                  <a:pt x="13146" y="11534"/>
                </a:cubicBezTo>
              </a:path>
              <a:path w="8013" h="1589">
                <a:moveTo>
                  <a:pt x="14213" y="11237"/>
                </a:moveTo>
                <a:cubicBezTo>
                  <a:pt x="14156" y="11051"/>
                  <a:pt x="14166" y="10967"/>
                  <a:pt x="13965" y="10939"/>
                </a:cubicBezTo>
                <a:cubicBezTo>
                  <a:pt x="13841" y="10922"/>
                  <a:pt x="13779" y="10954"/>
                  <a:pt x="13692" y="11038"/>
                </a:cubicBezTo>
                <a:cubicBezTo>
                  <a:pt x="13574" y="11151"/>
                  <a:pt x="13604" y="11242"/>
                  <a:pt x="13643" y="11385"/>
                </a:cubicBezTo>
                <a:cubicBezTo>
                  <a:pt x="13667" y="11471"/>
                  <a:pt x="13722" y="11601"/>
                  <a:pt x="13791" y="11658"/>
                </a:cubicBezTo>
                <a:cubicBezTo>
                  <a:pt x="13824" y="11685"/>
                  <a:pt x="13922" y="11698"/>
                  <a:pt x="13965" y="11683"/>
                </a:cubicBezTo>
                <a:cubicBezTo>
                  <a:pt x="14061" y="11649"/>
                  <a:pt x="14076" y="11551"/>
                  <a:pt x="14089" y="11460"/>
                </a:cubicBezTo>
                <a:cubicBezTo>
                  <a:pt x="14098" y="11401"/>
                  <a:pt x="14089" y="11183"/>
                  <a:pt x="14089" y="11212"/>
                </a:cubicBezTo>
                <a:cubicBezTo>
                  <a:pt x="14089" y="11291"/>
                  <a:pt x="14107" y="11360"/>
                  <a:pt x="14114" y="11435"/>
                </a:cubicBezTo>
                <a:cubicBezTo>
                  <a:pt x="14129" y="11588"/>
                  <a:pt x="14150" y="11809"/>
                  <a:pt x="14139" y="11956"/>
                </a:cubicBezTo>
                <a:cubicBezTo>
                  <a:pt x="14133" y="12039"/>
                  <a:pt x="14134" y="12171"/>
                  <a:pt x="14114" y="12254"/>
                </a:cubicBezTo>
                <a:cubicBezTo>
                  <a:pt x="14102" y="12305"/>
                  <a:pt x="14055" y="12312"/>
                  <a:pt x="14139" y="12278"/>
                </a:cubicBezTo>
              </a:path>
              <a:path w="8013" h="1589">
                <a:moveTo>
                  <a:pt x="15007" y="11460"/>
                </a:moveTo>
                <a:cubicBezTo>
                  <a:pt x="15042" y="11394"/>
                  <a:pt x="15113" y="11301"/>
                  <a:pt x="15081" y="11212"/>
                </a:cubicBezTo>
                <a:cubicBezTo>
                  <a:pt x="15061" y="11156"/>
                  <a:pt x="14941" y="11087"/>
                  <a:pt x="14883" y="11088"/>
                </a:cubicBezTo>
                <a:cubicBezTo>
                  <a:pt x="14782" y="11091"/>
                  <a:pt x="14690" y="11111"/>
                  <a:pt x="14684" y="11212"/>
                </a:cubicBezTo>
                <a:cubicBezTo>
                  <a:pt x="14678" y="11307"/>
                  <a:pt x="14735" y="11431"/>
                  <a:pt x="14784" y="11509"/>
                </a:cubicBezTo>
                <a:cubicBezTo>
                  <a:pt x="14891" y="11679"/>
                  <a:pt x="15002" y="11835"/>
                  <a:pt x="15056" y="12030"/>
                </a:cubicBezTo>
                <a:cubicBezTo>
                  <a:pt x="15078" y="12111"/>
                  <a:pt x="15137" y="12242"/>
                  <a:pt x="15106" y="12328"/>
                </a:cubicBezTo>
                <a:cubicBezTo>
                  <a:pt x="15081" y="12353"/>
                  <a:pt x="15073" y="12361"/>
                  <a:pt x="15056" y="12378"/>
                </a:cubicBezTo>
                <a:cubicBezTo>
                  <a:pt x="14994" y="12342"/>
                  <a:pt x="14966" y="12319"/>
                  <a:pt x="14932" y="12254"/>
                </a:cubicBezTo>
                <a:cubicBezTo>
                  <a:pt x="14877" y="12149"/>
                  <a:pt x="14895" y="12117"/>
                  <a:pt x="14908" y="12005"/>
                </a:cubicBezTo>
                <a:cubicBezTo>
                  <a:pt x="14919" y="11911"/>
                  <a:pt x="14935" y="11819"/>
                  <a:pt x="14982" y="11733"/>
                </a:cubicBezTo>
                <a:cubicBezTo>
                  <a:pt x="15045" y="11617"/>
                  <a:pt x="15144" y="11508"/>
                  <a:pt x="15230" y="11410"/>
                </a:cubicBezTo>
                <a:cubicBezTo>
                  <a:pt x="15291" y="11340"/>
                  <a:pt x="15322" y="11261"/>
                  <a:pt x="15379" y="11187"/>
                </a:cubicBezTo>
                <a:cubicBezTo>
                  <a:pt x="15424" y="11129"/>
                  <a:pt x="15397" y="11117"/>
                  <a:pt x="15379" y="110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03240" y="4456080"/>
            <a:ext cx="1536840" cy="1009800"/>
          </a:xfrm>
          <a:custGeom>
            <a:avLst/>
            <a:gdLst/>
            <a:ahLst/>
            <a:rect l="l" t="t" r="r" b="b"/>
            <a:pathLst>
              <a:path w="4267" h="2803">
                <a:moveTo>
                  <a:pt x="6102" y="13221"/>
                </a:moveTo>
                <a:cubicBezTo>
                  <a:pt x="6231" y="13190"/>
                  <a:pt x="6297" y="13158"/>
                  <a:pt x="6424" y="13196"/>
                </a:cubicBezTo>
                <a:cubicBezTo>
                  <a:pt x="6518" y="13224"/>
                  <a:pt x="6642" y="13255"/>
                  <a:pt x="6697" y="13345"/>
                </a:cubicBezTo>
                <a:cubicBezTo>
                  <a:pt x="6764" y="13455"/>
                  <a:pt x="6748" y="13574"/>
                  <a:pt x="6722" y="13692"/>
                </a:cubicBezTo>
                <a:cubicBezTo>
                  <a:pt x="6688" y="13844"/>
                  <a:pt x="6610" y="13962"/>
                  <a:pt x="6524" y="14089"/>
                </a:cubicBezTo>
                <a:cubicBezTo>
                  <a:pt x="6448" y="14201"/>
                  <a:pt x="6362" y="14263"/>
                  <a:pt x="6251" y="14337"/>
                </a:cubicBezTo>
                <a:cubicBezTo>
                  <a:pt x="6201" y="14370"/>
                  <a:pt x="6099" y="14451"/>
                  <a:pt x="6028" y="14412"/>
                </a:cubicBezTo>
                <a:cubicBezTo>
                  <a:pt x="5978" y="14384"/>
                  <a:pt x="5963" y="14330"/>
                  <a:pt x="5978" y="14263"/>
                </a:cubicBezTo>
                <a:cubicBezTo>
                  <a:pt x="6001" y="14156"/>
                  <a:pt x="6048" y="14125"/>
                  <a:pt x="6127" y="14064"/>
                </a:cubicBezTo>
                <a:cubicBezTo>
                  <a:pt x="6169" y="14032"/>
                  <a:pt x="6254" y="14018"/>
                  <a:pt x="6300" y="14064"/>
                </a:cubicBezTo>
                <a:cubicBezTo>
                  <a:pt x="6361" y="14126"/>
                  <a:pt x="6440" y="14196"/>
                  <a:pt x="6499" y="14263"/>
                </a:cubicBezTo>
                <a:cubicBezTo>
                  <a:pt x="6573" y="14348"/>
                  <a:pt x="6644" y="14455"/>
                  <a:pt x="6747" y="14511"/>
                </a:cubicBezTo>
                <a:cubicBezTo>
                  <a:pt x="6837" y="14560"/>
                  <a:pt x="6870" y="14510"/>
                  <a:pt x="6945" y="14461"/>
                </a:cubicBezTo>
              </a:path>
              <a:path w="4267" h="2803">
                <a:moveTo>
                  <a:pt x="7243" y="13345"/>
                </a:moveTo>
                <a:cubicBezTo>
                  <a:pt x="7396" y="13330"/>
                  <a:pt x="7536" y="13320"/>
                  <a:pt x="7689" y="13320"/>
                </a:cubicBezTo>
                <a:cubicBezTo>
                  <a:pt x="7706" y="13320"/>
                  <a:pt x="7722" y="13320"/>
                  <a:pt x="7739" y="13320"/>
                </a:cubicBezTo>
              </a:path>
              <a:path w="4267" h="2803">
                <a:moveTo>
                  <a:pt x="7193" y="13345"/>
                </a:moveTo>
                <a:cubicBezTo>
                  <a:pt x="7149" y="13434"/>
                  <a:pt x="7123" y="13474"/>
                  <a:pt x="7119" y="13568"/>
                </a:cubicBezTo>
                <a:cubicBezTo>
                  <a:pt x="7116" y="13623"/>
                  <a:pt x="7111" y="13651"/>
                  <a:pt x="7144" y="13692"/>
                </a:cubicBezTo>
                <a:cubicBezTo>
                  <a:pt x="7176" y="13732"/>
                  <a:pt x="7222" y="13717"/>
                  <a:pt x="7268" y="13717"/>
                </a:cubicBezTo>
                <a:cubicBezTo>
                  <a:pt x="7323" y="13717"/>
                  <a:pt x="7362" y="13695"/>
                  <a:pt x="7417" y="13692"/>
                </a:cubicBezTo>
                <a:cubicBezTo>
                  <a:pt x="7456" y="13690"/>
                  <a:pt x="7565" y="13696"/>
                  <a:pt x="7590" y="13717"/>
                </a:cubicBezTo>
                <a:cubicBezTo>
                  <a:pt x="7677" y="13791"/>
                  <a:pt x="7723" y="13927"/>
                  <a:pt x="7714" y="14039"/>
                </a:cubicBezTo>
                <a:cubicBezTo>
                  <a:pt x="7699" y="14224"/>
                  <a:pt x="7666" y="14277"/>
                  <a:pt x="7565" y="14412"/>
                </a:cubicBezTo>
                <a:cubicBezTo>
                  <a:pt x="7485" y="14519"/>
                  <a:pt x="7410" y="14523"/>
                  <a:pt x="7293" y="14560"/>
                </a:cubicBezTo>
                <a:cubicBezTo>
                  <a:pt x="7235" y="14579"/>
                  <a:pt x="7132" y="14584"/>
                  <a:pt x="7094" y="14511"/>
                </a:cubicBezTo>
                <a:cubicBezTo>
                  <a:pt x="7072" y="14446"/>
                  <a:pt x="7064" y="14431"/>
                  <a:pt x="7069" y="14387"/>
                </a:cubicBezTo>
              </a:path>
              <a:path w="4267" h="2803">
                <a:moveTo>
                  <a:pt x="8086" y="13320"/>
                </a:moveTo>
                <a:cubicBezTo>
                  <a:pt x="8255" y="13306"/>
                  <a:pt x="8323" y="13289"/>
                  <a:pt x="8458" y="13395"/>
                </a:cubicBezTo>
                <a:cubicBezTo>
                  <a:pt x="8546" y="13464"/>
                  <a:pt x="8592" y="13540"/>
                  <a:pt x="8558" y="13643"/>
                </a:cubicBezTo>
                <a:cubicBezTo>
                  <a:pt x="8526" y="13739"/>
                  <a:pt x="8480" y="13795"/>
                  <a:pt x="8409" y="13866"/>
                </a:cubicBezTo>
                <a:cubicBezTo>
                  <a:pt x="8321" y="13954"/>
                  <a:pt x="8255" y="14035"/>
                  <a:pt x="8186" y="14139"/>
                </a:cubicBezTo>
                <a:cubicBezTo>
                  <a:pt x="8133" y="14218"/>
                  <a:pt x="8053" y="14289"/>
                  <a:pt x="8037" y="14387"/>
                </a:cubicBezTo>
                <a:cubicBezTo>
                  <a:pt x="8023" y="14473"/>
                  <a:pt x="8032" y="14579"/>
                  <a:pt x="8062" y="14660"/>
                </a:cubicBezTo>
                <a:cubicBezTo>
                  <a:pt x="8085" y="14721"/>
                  <a:pt x="8167" y="14773"/>
                  <a:pt x="8235" y="14759"/>
                </a:cubicBezTo>
                <a:cubicBezTo>
                  <a:pt x="8386" y="14715"/>
                  <a:pt x="8423" y="14709"/>
                  <a:pt x="8508" y="14660"/>
                </a:cubicBezTo>
              </a:path>
              <a:path w="4267" h="2803">
                <a:moveTo>
                  <a:pt x="9277" y="14015"/>
                </a:moveTo>
                <a:cubicBezTo>
                  <a:pt x="9250" y="13659"/>
                  <a:pt x="9281" y="13391"/>
                  <a:pt x="9029" y="13122"/>
                </a:cubicBezTo>
                <a:cubicBezTo>
                  <a:pt x="8800" y="12877"/>
                  <a:pt x="8496" y="12714"/>
                  <a:pt x="8186" y="12601"/>
                </a:cubicBezTo>
                <a:cubicBezTo>
                  <a:pt x="7879" y="12489"/>
                  <a:pt x="7567" y="12481"/>
                  <a:pt x="7243" y="12477"/>
                </a:cubicBezTo>
                <a:cubicBezTo>
                  <a:pt x="6923" y="12473"/>
                  <a:pt x="6635" y="12532"/>
                  <a:pt x="6325" y="12601"/>
                </a:cubicBezTo>
                <a:cubicBezTo>
                  <a:pt x="6035" y="12665"/>
                  <a:pt x="5755" y="12751"/>
                  <a:pt x="5507" y="12923"/>
                </a:cubicBezTo>
                <a:cubicBezTo>
                  <a:pt x="5328" y="13047"/>
                  <a:pt x="5160" y="13198"/>
                  <a:pt x="5060" y="13395"/>
                </a:cubicBezTo>
                <a:cubicBezTo>
                  <a:pt x="4989" y="13533"/>
                  <a:pt x="4988" y="13718"/>
                  <a:pt x="5035" y="13866"/>
                </a:cubicBezTo>
                <a:cubicBezTo>
                  <a:pt x="5109" y="14100"/>
                  <a:pt x="5327" y="14284"/>
                  <a:pt x="5507" y="14436"/>
                </a:cubicBezTo>
                <a:cubicBezTo>
                  <a:pt x="5702" y="14600"/>
                  <a:pt x="5964" y="14736"/>
                  <a:pt x="6201" y="14833"/>
                </a:cubicBezTo>
                <a:cubicBezTo>
                  <a:pt x="6484" y="14949"/>
                  <a:pt x="6769" y="15081"/>
                  <a:pt x="7069" y="15131"/>
                </a:cubicBezTo>
                <a:cubicBezTo>
                  <a:pt x="7345" y="15177"/>
                  <a:pt x="7565" y="15148"/>
                  <a:pt x="7838" y="15131"/>
                </a:cubicBezTo>
                <a:cubicBezTo>
                  <a:pt x="8106" y="15114"/>
                  <a:pt x="8280" y="15054"/>
                  <a:pt x="8508" y="14908"/>
                </a:cubicBezTo>
                <a:cubicBezTo>
                  <a:pt x="8721" y="14772"/>
                  <a:pt x="8830" y="14624"/>
                  <a:pt x="8954" y="14412"/>
                </a:cubicBezTo>
                <a:cubicBezTo>
                  <a:pt x="9065" y="14222"/>
                  <a:pt x="9184" y="14038"/>
                  <a:pt x="9227" y="13816"/>
                </a:cubicBezTo>
                <a:cubicBezTo>
                  <a:pt x="9259" y="13649"/>
                  <a:pt x="9211" y="13417"/>
                  <a:pt x="9128" y="13271"/>
                </a:cubicBezTo>
                <a:cubicBezTo>
                  <a:pt x="8918" y="12902"/>
                  <a:pt x="8527" y="12656"/>
                  <a:pt x="8136" y="12526"/>
                </a:cubicBezTo>
                <a:cubicBezTo>
                  <a:pt x="7733" y="12392"/>
                  <a:pt x="7339" y="12385"/>
                  <a:pt x="6921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Extra Practice Examples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regentsprep.org/Regents/math/algtrig/math-algtrig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7d80"/>
                </a:solidFill>
                <a:latin typeface="Arial"/>
              </a:rPr>
              <a:t>Page 625 #1-11,25-27, 29-33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4960" y="1866960"/>
            <a:ext cx="420840" cy="463320"/>
          </a:xfrm>
          <a:custGeom>
            <a:avLst/>
            <a:gdLst/>
            <a:ahLst/>
            <a:rect l="l" t="t" r="r" b="b"/>
            <a:pathLst>
              <a:path w="1167" h="1291">
                <a:moveTo>
                  <a:pt x="2009" y="5581"/>
                </a:moveTo>
                <a:cubicBezTo>
                  <a:pt x="2009" y="5718"/>
                  <a:pt x="2012" y="5848"/>
                  <a:pt x="2034" y="5978"/>
                </a:cubicBezTo>
                <a:cubicBezTo>
                  <a:pt x="2043" y="6033"/>
                  <a:pt x="2034" y="6257"/>
                  <a:pt x="2034" y="6226"/>
                </a:cubicBezTo>
                <a:cubicBezTo>
                  <a:pt x="2034" y="6218"/>
                  <a:pt x="2034" y="6209"/>
                  <a:pt x="2034" y="6201"/>
                </a:cubicBezTo>
              </a:path>
              <a:path w="1167" h="1291">
                <a:moveTo>
                  <a:pt x="2257" y="5209"/>
                </a:moveTo>
                <a:cubicBezTo>
                  <a:pt x="2171" y="5215"/>
                  <a:pt x="2037" y="5214"/>
                  <a:pt x="1960" y="5259"/>
                </a:cubicBezTo>
                <a:cubicBezTo>
                  <a:pt x="1863" y="5316"/>
                  <a:pt x="1810" y="5370"/>
                  <a:pt x="1736" y="5457"/>
                </a:cubicBezTo>
                <a:cubicBezTo>
                  <a:pt x="1665" y="5540"/>
                  <a:pt x="1616" y="5615"/>
                  <a:pt x="1563" y="5705"/>
                </a:cubicBezTo>
                <a:cubicBezTo>
                  <a:pt x="1508" y="5799"/>
                  <a:pt x="1492" y="5892"/>
                  <a:pt x="1488" y="6003"/>
                </a:cubicBezTo>
                <a:cubicBezTo>
                  <a:pt x="1485" y="6096"/>
                  <a:pt x="1516" y="6195"/>
                  <a:pt x="1563" y="6276"/>
                </a:cubicBezTo>
                <a:cubicBezTo>
                  <a:pt x="1608" y="6354"/>
                  <a:pt x="1683" y="6406"/>
                  <a:pt x="1761" y="6449"/>
                </a:cubicBezTo>
                <a:cubicBezTo>
                  <a:pt x="1847" y="6497"/>
                  <a:pt x="1945" y="6476"/>
                  <a:pt x="2034" y="6449"/>
                </a:cubicBezTo>
                <a:cubicBezTo>
                  <a:pt x="2156" y="6413"/>
                  <a:pt x="2239" y="6389"/>
                  <a:pt x="2332" y="6300"/>
                </a:cubicBezTo>
                <a:cubicBezTo>
                  <a:pt x="2453" y="6184"/>
                  <a:pt x="2506" y="6072"/>
                  <a:pt x="2580" y="5928"/>
                </a:cubicBezTo>
                <a:cubicBezTo>
                  <a:pt x="2642" y="5807"/>
                  <a:pt x="2654" y="5745"/>
                  <a:pt x="2654" y="5606"/>
                </a:cubicBezTo>
                <a:cubicBezTo>
                  <a:pt x="2654" y="5524"/>
                  <a:pt x="2664" y="5402"/>
                  <a:pt x="2604" y="5333"/>
                </a:cubicBezTo>
                <a:cubicBezTo>
                  <a:pt x="2565" y="5288"/>
                  <a:pt x="2495" y="5227"/>
                  <a:pt x="2431" y="5209"/>
                </a:cubicBezTo>
                <a:cubicBezTo>
                  <a:pt x="2306" y="5174"/>
                  <a:pt x="2305" y="5185"/>
                  <a:pt x="2208" y="5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89040" y="1901880"/>
            <a:ext cx="438120" cy="473040"/>
          </a:xfrm>
          <a:custGeom>
            <a:avLst/>
            <a:gdLst/>
            <a:ahLst/>
            <a:rect l="l" t="t" r="r" b="b"/>
            <a:pathLst>
              <a:path w="1217" h="1316">
                <a:moveTo>
                  <a:pt x="4415" y="5358"/>
                </a:moveTo>
                <a:cubicBezTo>
                  <a:pt x="4466" y="5352"/>
                  <a:pt x="4513" y="5339"/>
                  <a:pt x="4564" y="5333"/>
                </a:cubicBezTo>
                <a:cubicBezTo>
                  <a:pt x="4632" y="5325"/>
                  <a:pt x="4696" y="5312"/>
                  <a:pt x="4762" y="5308"/>
                </a:cubicBezTo>
                <a:cubicBezTo>
                  <a:pt x="4833" y="5304"/>
                  <a:pt x="4887" y="5283"/>
                  <a:pt x="4961" y="5283"/>
                </a:cubicBezTo>
                <a:cubicBezTo>
                  <a:pt x="5093" y="5283"/>
                  <a:pt x="5226" y="5283"/>
                  <a:pt x="5358" y="5283"/>
                </a:cubicBezTo>
                <a:cubicBezTo>
                  <a:pt x="5351" y="5342"/>
                  <a:pt x="5336" y="5377"/>
                  <a:pt x="5308" y="5432"/>
                </a:cubicBezTo>
                <a:cubicBezTo>
                  <a:pt x="5267" y="5513"/>
                  <a:pt x="5238" y="5594"/>
                  <a:pt x="5209" y="5680"/>
                </a:cubicBezTo>
                <a:cubicBezTo>
                  <a:pt x="5180" y="5766"/>
                  <a:pt x="5143" y="5845"/>
                  <a:pt x="5110" y="5928"/>
                </a:cubicBezTo>
                <a:cubicBezTo>
                  <a:pt x="5077" y="6012"/>
                  <a:pt x="5071" y="6091"/>
                  <a:pt x="5035" y="6176"/>
                </a:cubicBezTo>
                <a:cubicBezTo>
                  <a:pt x="5004" y="6249"/>
                  <a:pt x="4988" y="6325"/>
                  <a:pt x="4961" y="6400"/>
                </a:cubicBezTo>
              </a:path>
              <a:path w="1217" h="1316">
                <a:moveTo>
                  <a:pt x="5631" y="6400"/>
                </a:moveTo>
                <a:cubicBezTo>
                  <a:pt x="5596" y="6464"/>
                  <a:pt x="5556" y="6506"/>
                  <a:pt x="5556" y="6573"/>
                </a:cubicBezTo>
                <a:cubicBezTo>
                  <a:pt x="5556" y="6581"/>
                  <a:pt x="5556" y="6590"/>
                  <a:pt x="5556" y="65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1857240"/>
            <a:ext cx="428760" cy="517680"/>
          </a:xfrm>
          <a:custGeom>
            <a:avLst/>
            <a:gdLst/>
            <a:ahLst/>
            <a:rect l="l" t="t" r="r" b="b"/>
            <a:pathLst>
              <a:path w="1192" h="1440">
                <a:moveTo>
                  <a:pt x="6772" y="5184"/>
                </a:moveTo>
                <a:cubicBezTo>
                  <a:pt x="6724" y="5155"/>
                  <a:pt x="6710" y="5159"/>
                  <a:pt x="6648" y="5159"/>
                </a:cubicBezTo>
                <a:cubicBezTo>
                  <a:pt x="6552" y="5159"/>
                  <a:pt x="6467" y="5224"/>
                  <a:pt x="6424" y="5308"/>
                </a:cubicBezTo>
                <a:cubicBezTo>
                  <a:pt x="6371" y="5411"/>
                  <a:pt x="6349" y="5497"/>
                  <a:pt x="6325" y="5606"/>
                </a:cubicBezTo>
                <a:cubicBezTo>
                  <a:pt x="6304" y="5697"/>
                  <a:pt x="6309" y="5731"/>
                  <a:pt x="6375" y="5804"/>
                </a:cubicBezTo>
                <a:cubicBezTo>
                  <a:pt x="6423" y="5857"/>
                  <a:pt x="6460" y="5851"/>
                  <a:pt x="6524" y="5854"/>
                </a:cubicBezTo>
                <a:cubicBezTo>
                  <a:pt x="6590" y="5858"/>
                  <a:pt x="6668" y="5816"/>
                  <a:pt x="6722" y="5779"/>
                </a:cubicBezTo>
                <a:cubicBezTo>
                  <a:pt x="6778" y="5741"/>
                  <a:pt x="6802" y="5703"/>
                  <a:pt x="6846" y="5655"/>
                </a:cubicBezTo>
                <a:cubicBezTo>
                  <a:pt x="6894" y="5602"/>
                  <a:pt x="6880" y="5597"/>
                  <a:pt x="6896" y="5531"/>
                </a:cubicBezTo>
                <a:cubicBezTo>
                  <a:pt x="6907" y="5488"/>
                  <a:pt x="6917" y="5453"/>
                  <a:pt x="6921" y="5407"/>
                </a:cubicBezTo>
                <a:cubicBezTo>
                  <a:pt x="6921" y="5399"/>
                  <a:pt x="6921" y="5391"/>
                  <a:pt x="6921" y="5383"/>
                </a:cubicBezTo>
                <a:cubicBezTo>
                  <a:pt x="6921" y="5462"/>
                  <a:pt x="6938" y="5526"/>
                  <a:pt x="6945" y="5606"/>
                </a:cubicBezTo>
                <a:cubicBezTo>
                  <a:pt x="6958" y="5750"/>
                  <a:pt x="6928" y="5888"/>
                  <a:pt x="6970" y="6028"/>
                </a:cubicBezTo>
                <a:cubicBezTo>
                  <a:pt x="6994" y="6108"/>
                  <a:pt x="6989" y="6144"/>
                  <a:pt x="7045" y="6201"/>
                </a:cubicBezTo>
                <a:cubicBezTo>
                  <a:pt x="7067" y="6224"/>
                  <a:pt x="7072" y="6232"/>
                  <a:pt x="7094" y="6226"/>
                </a:cubicBezTo>
              </a:path>
              <a:path w="1192" h="1440">
                <a:moveTo>
                  <a:pt x="7491" y="6325"/>
                </a:moveTo>
                <a:cubicBezTo>
                  <a:pt x="7473" y="6392"/>
                  <a:pt x="7468" y="6488"/>
                  <a:pt x="7441" y="6548"/>
                </a:cubicBezTo>
                <a:cubicBezTo>
                  <a:pt x="7419" y="6571"/>
                  <a:pt x="7411" y="6576"/>
                  <a:pt x="7417" y="65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28960" y="1866960"/>
            <a:ext cx="27000" cy="438120"/>
          </a:xfrm>
          <a:custGeom>
            <a:avLst/>
            <a:gdLst/>
            <a:ahLst/>
            <a:rect l="l" t="t" r="r" b="b"/>
            <a:pathLst>
              <a:path w="75" h="1217">
                <a:moveTo>
                  <a:pt x="8161" y="5184"/>
                </a:moveTo>
                <a:cubicBezTo>
                  <a:pt x="8188" y="5220"/>
                  <a:pt x="8197" y="5258"/>
                  <a:pt x="8186" y="5308"/>
                </a:cubicBezTo>
                <a:cubicBezTo>
                  <a:pt x="8157" y="5433"/>
                  <a:pt x="8161" y="5551"/>
                  <a:pt x="8161" y="5680"/>
                </a:cubicBezTo>
                <a:cubicBezTo>
                  <a:pt x="8161" y="5799"/>
                  <a:pt x="8122" y="5907"/>
                  <a:pt x="8136" y="6028"/>
                </a:cubicBezTo>
                <a:cubicBezTo>
                  <a:pt x="8150" y="6143"/>
                  <a:pt x="8161" y="6236"/>
                  <a:pt x="8161" y="6350"/>
                </a:cubicBezTo>
                <a:cubicBezTo>
                  <a:pt x="8161" y="6402"/>
                  <a:pt x="8158" y="6400"/>
                  <a:pt x="8210" y="64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43160" y="1847880"/>
            <a:ext cx="196920" cy="509400"/>
          </a:xfrm>
          <a:custGeom>
            <a:avLst/>
            <a:gdLst/>
            <a:ahLst/>
            <a:rect l="l" t="t" r="r" b="b"/>
            <a:pathLst>
              <a:path w="547" h="1414">
                <a:moveTo>
                  <a:pt x="8731" y="5184"/>
                </a:moveTo>
                <a:cubicBezTo>
                  <a:pt x="8753" y="5162"/>
                  <a:pt x="8762" y="5157"/>
                  <a:pt x="8756" y="5135"/>
                </a:cubicBezTo>
                <a:cubicBezTo>
                  <a:pt x="8782" y="5143"/>
                  <a:pt x="8804" y="5153"/>
                  <a:pt x="8806" y="5184"/>
                </a:cubicBezTo>
                <a:cubicBezTo>
                  <a:pt x="8810" y="5247"/>
                  <a:pt x="8796" y="5369"/>
                  <a:pt x="8781" y="5432"/>
                </a:cubicBezTo>
                <a:cubicBezTo>
                  <a:pt x="8761" y="5514"/>
                  <a:pt x="8736" y="5615"/>
                  <a:pt x="8756" y="5705"/>
                </a:cubicBezTo>
                <a:cubicBezTo>
                  <a:pt x="8774" y="5786"/>
                  <a:pt x="8802" y="5867"/>
                  <a:pt x="8806" y="5953"/>
                </a:cubicBezTo>
                <a:cubicBezTo>
                  <a:pt x="8810" y="6038"/>
                  <a:pt x="8830" y="6116"/>
                  <a:pt x="8830" y="6201"/>
                </a:cubicBezTo>
              </a:path>
              <a:path w="547" h="1414">
                <a:moveTo>
                  <a:pt x="9277" y="6226"/>
                </a:moveTo>
                <a:cubicBezTo>
                  <a:pt x="9277" y="6304"/>
                  <a:pt x="9280" y="6355"/>
                  <a:pt x="9252" y="6424"/>
                </a:cubicBezTo>
                <a:cubicBezTo>
                  <a:pt x="9233" y="6470"/>
                  <a:pt x="9206" y="6512"/>
                  <a:pt x="9178" y="65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2200" y="1874880"/>
            <a:ext cx="430200" cy="411120"/>
          </a:xfrm>
          <a:custGeom>
            <a:avLst/>
            <a:gdLst/>
            <a:ahLst/>
            <a:rect l="l" t="t" r="r" b="b"/>
            <a:pathLst>
              <a:path w="1192" h="1142">
                <a:moveTo>
                  <a:pt x="9922" y="5234"/>
                </a:moveTo>
                <a:cubicBezTo>
                  <a:pt x="9922" y="5378"/>
                  <a:pt x="9909" y="5514"/>
                  <a:pt x="9897" y="5655"/>
                </a:cubicBezTo>
                <a:cubicBezTo>
                  <a:pt x="9883" y="5822"/>
                  <a:pt x="9901" y="5990"/>
                  <a:pt x="9922" y="6152"/>
                </a:cubicBezTo>
                <a:cubicBezTo>
                  <a:pt x="9929" y="6204"/>
                  <a:pt x="9947" y="6224"/>
                  <a:pt x="9947" y="6276"/>
                </a:cubicBezTo>
              </a:path>
              <a:path w="1192" h="1142">
                <a:moveTo>
                  <a:pt x="10195" y="5333"/>
                </a:moveTo>
                <a:cubicBezTo>
                  <a:pt x="10226" y="5291"/>
                  <a:pt x="10222" y="5279"/>
                  <a:pt x="10269" y="5259"/>
                </a:cubicBezTo>
                <a:cubicBezTo>
                  <a:pt x="10318" y="5238"/>
                  <a:pt x="10373" y="5222"/>
                  <a:pt x="10418" y="5209"/>
                </a:cubicBezTo>
                <a:cubicBezTo>
                  <a:pt x="10437" y="5203"/>
                  <a:pt x="10525" y="5248"/>
                  <a:pt x="10542" y="5259"/>
                </a:cubicBezTo>
                <a:cubicBezTo>
                  <a:pt x="10589" y="5290"/>
                  <a:pt x="10613" y="5352"/>
                  <a:pt x="10592" y="5407"/>
                </a:cubicBezTo>
                <a:cubicBezTo>
                  <a:pt x="10574" y="5454"/>
                  <a:pt x="10486" y="5481"/>
                  <a:pt x="10468" y="5507"/>
                </a:cubicBezTo>
                <a:cubicBezTo>
                  <a:pt x="10468" y="5515"/>
                  <a:pt x="10468" y="5523"/>
                  <a:pt x="10468" y="5531"/>
                </a:cubicBezTo>
                <a:cubicBezTo>
                  <a:pt x="10517" y="5544"/>
                  <a:pt x="10562" y="5568"/>
                  <a:pt x="10616" y="5581"/>
                </a:cubicBezTo>
                <a:cubicBezTo>
                  <a:pt x="10685" y="5597"/>
                  <a:pt x="10738" y="5628"/>
                  <a:pt x="10765" y="5705"/>
                </a:cubicBezTo>
                <a:cubicBezTo>
                  <a:pt x="10792" y="5784"/>
                  <a:pt x="10740" y="5799"/>
                  <a:pt x="10716" y="5854"/>
                </a:cubicBezTo>
                <a:cubicBezTo>
                  <a:pt x="10691" y="5912"/>
                  <a:pt x="10694" y="5886"/>
                  <a:pt x="10641" y="5904"/>
                </a:cubicBezTo>
                <a:cubicBezTo>
                  <a:pt x="10611" y="5914"/>
                  <a:pt x="10549" y="5940"/>
                  <a:pt x="10542" y="5953"/>
                </a:cubicBezTo>
                <a:cubicBezTo>
                  <a:pt x="10542" y="5961"/>
                  <a:pt x="10542" y="5970"/>
                  <a:pt x="10542" y="5978"/>
                </a:cubicBezTo>
              </a:path>
              <a:path w="1192" h="1142">
                <a:moveTo>
                  <a:pt x="11088" y="6003"/>
                </a:moveTo>
                <a:cubicBezTo>
                  <a:pt x="11041" y="6092"/>
                  <a:pt x="10990" y="6216"/>
                  <a:pt x="10939" y="6300"/>
                </a:cubicBezTo>
                <a:cubicBezTo>
                  <a:pt x="10916" y="6323"/>
                  <a:pt x="10908" y="6327"/>
                  <a:pt x="10914" y="63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60880" y="1866960"/>
            <a:ext cx="384120" cy="295200"/>
          </a:xfrm>
          <a:custGeom>
            <a:avLst/>
            <a:gdLst/>
            <a:ahLst/>
            <a:rect l="l" t="t" r="r" b="b"/>
            <a:pathLst>
              <a:path w="1068" h="820">
                <a:moveTo>
                  <a:pt x="11584" y="5308"/>
                </a:moveTo>
                <a:cubicBezTo>
                  <a:pt x="11656" y="5344"/>
                  <a:pt x="11612" y="5364"/>
                  <a:pt x="11609" y="5432"/>
                </a:cubicBezTo>
                <a:cubicBezTo>
                  <a:pt x="11604" y="5535"/>
                  <a:pt x="11570" y="5629"/>
                  <a:pt x="11559" y="5730"/>
                </a:cubicBezTo>
                <a:cubicBezTo>
                  <a:pt x="11549" y="5818"/>
                  <a:pt x="11559" y="5914"/>
                  <a:pt x="11559" y="6003"/>
                </a:cubicBezTo>
              </a:path>
              <a:path w="1068" h="820">
                <a:moveTo>
                  <a:pt x="12055" y="5308"/>
                </a:moveTo>
                <a:cubicBezTo>
                  <a:pt x="12055" y="5356"/>
                  <a:pt x="12044" y="5414"/>
                  <a:pt x="12030" y="5457"/>
                </a:cubicBezTo>
                <a:cubicBezTo>
                  <a:pt x="12002" y="5514"/>
                  <a:pt x="11991" y="5537"/>
                  <a:pt x="11981" y="5581"/>
                </a:cubicBezTo>
              </a:path>
              <a:path w="1068" h="820">
                <a:moveTo>
                  <a:pt x="11981" y="5655"/>
                </a:moveTo>
                <a:cubicBezTo>
                  <a:pt x="11992" y="5679"/>
                  <a:pt x="12020" y="5654"/>
                  <a:pt x="12055" y="5631"/>
                </a:cubicBezTo>
                <a:cubicBezTo>
                  <a:pt x="12086" y="5610"/>
                  <a:pt x="12134" y="5587"/>
                  <a:pt x="12179" y="5606"/>
                </a:cubicBezTo>
                <a:cubicBezTo>
                  <a:pt x="12238" y="5631"/>
                  <a:pt x="12277" y="5654"/>
                  <a:pt x="12328" y="5705"/>
                </a:cubicBezTo>
                <a:cubicBezTo>
                  <a:pt x="12374" y="5751"/>
                  <a:pt x="12422" y="5785"/>
                  <a:pt x="12427" y="5854"/>
                </a:cubicBezTo>
                <a:cubicBezTo>
                  <a:pt x="12432" y="5930"/>
                  <a:pt x="12398" y="5923"/>
                  <a:pt x="12353" y="5953"/>
                </a:cubicBezTo>
                <a:cubicBezTo>
                  <a:pt x="12309" y="5983"/>
                  <a:pt x="12287" y="5978"/>
                  <a:pt x="12229" y="5978"/>
                </a:cubicBezTo>
                <a:cubicBezTo>
                  <a:pt x="12204" y="5978"/>
                  <a:pt x="12179" y="5978"/>
                  <a:pt x="12154" y="5978"/>
                </a:cubicBezTo>
              </a:path>
              <a:path w="1068" h="820">
                <a:moveTo>
                  <a:pt x="12030" y="5259"/>
                </a:moveTo>
                <a:cubicBezTo>
                  <a:pt x="12106" y="5247"/>
                  <a:pt x="12251" y="5254"/>
                  <a:pt x="12328" y="5234"/>
                </a:cubicBezTo>
                <a:cubicBezTo>
                  <a:pt x="12390" y="5218"/>
                  <a:pt x="12468" y="5229"/>
                  <a:pt x="12526" y="5209"/>
                </a:cubicBezTo>
                <a:cubicBezTo>
                  <a:pt x="12574" y="5185"/>
                  <a:pt x="12589" y="5177"/>
                  <a:pt x="12626" y="51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05240" y="1857240"/>
            <a:ext cx="1224000" cy="571680"/>
          </a:xfrm>
          <a:custGeom>
            <a:avLst/>
            <a:gdLst/>
            <a:ahLst/>
            <a:rect l="l" t="t" r="r" b="b"/>
            <a:pathLst>
              <a:path w="3399" h="1589">
                <a:moveTo>
                  <a:pt x="14808" y="5283"/>
                </a:moveTo>
                <a:cubicBezTo>
                  <a:pt x="14753" y="5283"/>
                  <a:pt x="14708" y="5275"/>
                  <a:pt x="14660" y="5308"/>
                </a:cubicBezTo>
                <a:cubicBezTo>
                  <a:pt x="14611" y="5341"/>
                  <a:pt x="14564" y="5344"/>
                  <a:pt x="14511" y="5383"/>
                </a:cubicBezTo>
                <a:cubicBezTo>
                  <a:pt x="14485" y="5402"/>
                  <a:pt x="14440" y="5443"/>
                  <a:pt x="14461" y="5482"/>
                </a:cubicBezTo>
                <a:cubicBezTo>
                  <a:pt x="14492" y="5538"/>
                  <a:pt x="14564" y="5569"/>
                  <a:pt x="14610" y="5606"/>
                </a:cubicBezTo>
                <a:cubicBezTo>
                  <a:pt x="14698" y="5678"/>
                  <a:pt x="14778" y="5774"/>
                  <a:pt x="14858" y="5854"/>
                </a:cubicBezTo>
                <a:cubicBezTo>
                  <a:pt x="14879" y="5875"/>
                  <a:pt x="14945" y="5947"/>
                  <a:pt x="14932" y="5978"/>
                </a:cubicBezTo>
                <a:cubicBezTo>
                  <a:pt x="14907" y="6037"/>
                  <a:pt x="14853" y="6036"/>
                  <a:pt x="14808" y="6052"/>
                </a:cubicBezTo>
                <a:cubicBezTo>
                  <a:pt x="14740" y="6076"/>
                  <a:pt x="14678" y="6076"/>
                  <a:pt x="14610" y="6102"/>
                </a:cubicBezTo>
              </a:path>
              <a:path w="3399" h="1589">
                <a:moveTo>
                  <a:pt x="15081" y="5159"/>
                </a:moveTo>
                <a:cubicBezTo>
                  <a:pt x="15130" y="5256"/>
                  <a:pt x="15165" y="5368"/>
                  <a:pt x="15180" y="5482"/>
                </a:cubicBezTo>
                <a:cubicBezTo>
                  <a:pt x="15194" y="5587"/>
                  <a:pt x="15222" y="5700"/>
                  <a:pt x="15230" y="5804"/>
                </a:cubicBezTo>
                <a:cubicBezTo>
                  <a:pt x="15236" y="5874"/>
                  <a:pt x="15311" y="6040"/>
                  <a:pt x="15280" y="5978"/>
                </a:cubicBezTo>
                <a:cubicBezTo>
                  <a:pt x="15257" y="5955"/>
                  <a:pt x="15249" y="5951"/>
                  <a:pt x="15255" y="5928"/>
                </a:cubicBezTo>
              </a:path>
              <a:path w="3399" h="1589">
                <a:moveTo>
                  <a:pt x="15007" y="5680"/>
                </a:moveTo>
                <a:cubicBezTo>
                  <a:pt x="15086" y="5663"/>
                  <a:pt x="15181" y="5656"/>
                  <a:pt x="15255" y="5631"/>
                </a:cubicBezTo>
                <a:cubicBezTo>
                  <a:pt x="15304" y="5606"/>
                  <a:pt x="15321" y="5597"/>
                  <a:pt x="15354" y="5581"/>
                </a:cubicBezTo>
              </a:path>
              <a:path w="3399" h="1589">
                <a:moveTo>
                  <a:pt x="15429" y="5854"/>
                </a:moveTo>
                <a:cubicBezTo>
                  <a:pt x="15493" y="5878"/>
                  <a:pt x="15549" y="5891"/>
                  <a:pt x="15602" y="5829"/>
                </a:cubicBezTo>
                <a:cubicBezTo>
                  <a:pt x="15644" y="5779"/>
                  <a:pt x="15691" y="5738"/>
                  <a:pt x="15726" y="5680"/>
                </a:cubicBezTo>
                <a:cubicBezTo>
                  <a:pt x="15750" y="5640"/>
                  <a:pt x="15767" y="5600"/>
                  <a:pt x="15776" y="5556"/>
                </a:cubicBezTo>
                <a:cubicBezTo>
                  <a:pt x="15698" y="5525"/>
                  <a:pt x="15684" y="5564"/>
                  <a:pt x="15627" y="5606"/>
                </a:cubicBezTo>
                <a:cubicBezTo>
                  <a:pt x="15564" y="5652"/>
                  <a:pt x="15491" y="5706"/>
                  <a:pt x="15453" y="5779"/>
                </a:cubicBezTo>
                <a:cubicBezTo>
                  <a:pt x="15423" y="5837"/>
                  <a:pt x="15385" y="5935"/>
                  <a:pt x="15404" y="6003"/>
                </a:cubicBezTo>
                <a:cubicBezTo>
                  <a:pt x="15429" y="6091"/>
                  <a:pt x="15539" y="6052"/>
                  <a:pt x="15602" y="6028"/>
                </a:cubicBezTo>
                <a:cubicBezTo>
                  <a:pt x="15659" y="6007"/>
                  <a:pt x="15700" y="5960"/>
                  <a:pt x="15751" y="5928"/>
                </a:cubicBezTo>
              </a:path>
              <a:path w="3399" h="1589">
                <a:moveTo>
                  <a:pt x="15875" y="5655"/>
                </a:moveTo>
                <a:cubicBezTo>
                  <a:pt x="15899" y="5739"/>
                  <a:pt x="15915" y="5813"/>
                  <a:pt x="15974" y="5879"/>
                </a:cubicBezTo>
                <a:cubicBezTo>
                  <a:pt x="15992" y="5900"/>
                  <a:pt x="16043" y="5921"/>
                  <a:pt x="16073" y="5904"/>
                </a:cubicBezTo>
                <a:cubicBezTo>
                  <a:pt x="16132" y="5871"/>
                  <a:pt x="16123" y="5761"/>
                  <a:pt x="16148" y="5705"/>
                </a:cubicBezTo>
                <a:cubicBezTo>
                  <a:pt x="16165" y="5667"/>
                  <a:pt x="16215" y="5620"/>
                  <a:pt x="16222" y="5606"/>
                </a:cubicBezTo>
                <a:cubicBezTo>
                  <a:pt x="16240" y="5570"/>
                  <a:pt x="16227" y="5567"/>
                  <a:pt x="16272" y="5556"/>
                </a:cubicBezTo>
              </a:path>
              <a:path w="3399" h="1589">
                <a:moveTo>
                  <a:pt x="16371" y="5705"/>
                </a:moveTo>
                <a:cubicBezTo>
                  <a:pt x="16484" y="5696"/>
                  <a:pt x="16473" y="5702"/>
                  <a:pt x="16545" y="5631"/>
                </a:cubicBezTo>
                <a:cubicBezTo>
                  <a:pt x="16572" y="5604"/>
                  <a:pt x="16598" y="5521"/>
                  <a:pt x="16619" y="5507"/>
                </a:cubicBezTo>
                <a:cubicBezTo>
                  <a:pt x="16627" y="5507"/>
                  <a:pt x="16636" y="5507"/>
                  <a:pt x="16644" y="5507"/>
                </a:cubicBezTo>
                <a:cubicBezTo>
                  <a:pt x="16611" y="5496"/>
                  <a:pt x="16601" y="5479"/>
                  <a:pt x="16545" y="5507"/>
                </a:cubicBezTo>
                <a:cubicBezTo>
                  <a:pt x="16478" y="5540"/>
                  <a:pt x="16446" y="5601"/>
                  <a:pt x="16396" y="5655"/>
                </a:cubicBezTo>
                <a:cubicBezTo>
                  <a:pt x="16364" y="5690"/>
                  <a:pt x="16320" y="5752"/>
                  <a:pt x="16346" y="5804"/>
                </a:cubicBezTo>
                <a:cubicBezTo>
                  <a:pt x="16371" y="5854"/>
                  <a:pt x="16422" y="5877"/>
                  <a:pt x="16470" y="5879"/>
                </a:cubicBezTo>
                <a:cubicBezTo>
                  <a:pt x="16532" y="5879"/>
                  <a:pt x="16547" y="5888"/>
                  <a:pt x="16570" y="5854"/>
                </a:cubicBezTo>
              </a:path>
              <a:path w="3399" h="1589">
                <a:moveTo>
                  <a:pt x="16743" y="5581"/>
                </a:moveTo>
                <a:cubicBezTo>
                  <a:pt x="16724" y="5683"/>
                  <a:pt x="16714" y="5742"/>
                  <a:pt x="16743" y="5829"/>
                </a:cubicBezTo>
                <a:cubicBezTo>
                  <a:pt x="16743" y="5837"/>
                  <a:pt x="16743" y="5846"/>
                  <a:pt x="16743" y="5854"/>
                </a:cubicBezTo>
                <a:cubicBezTo>
                  <a:pt x="16776" y="5810"/>
                  <a:pt x="16770" y="5776"/>
                  <a:pt x="16793" y="5730"/>
                </a:cubicBezTo>
                <a:cubicBezTo>
                  <a:pt x="16819" y="5678"/>
                  <a:pt x="16825" y="5638"/>
                  <a:pt x="16867" y="5606"/>
                </a:cubicBezTo>
                <a:cubicBezTo>
                  <a:pt x="16906" y="5576"/>
                  <a:pt x="16926" y="5579"/>
                  <a:pt x="16966" y="5606"/>
                </a:cubicBezTo>
                <a:cubicBezTo>
                  <a:pt x="17012" y="5637"/>
                  <a:pt x="17021" y="5708"/>
                  <a:pt x="17041" y="5755"/>
                </a:cubicBezTo>
              </a:path>
              <a:path w="3399" h="1589">
                <a:moveTo>
                  <a:pt x="15974" y="6226"/>
                </a:moveTo>
                <a:cubicBezTo>
                  <a:pt x="15921" y="6301"/>
                  <a:pt x="15822" y="6422"/>
                  <a:pt x="15825" y="6524"/>
                </a:cubicBezTo>
                <a:cubicBezTo>
                  <a:pt x="15827" y="6615"/>
                  <a:pt x="15856" y="6716"/>
                  <a:pt x="15949" y="6747"/>
                </a:cubicBezTo>
                <a:cubicBezTo>
                  <a:pt x="16006" y="6766"/>
                  <a:pt x="16099" y="6750"/>
                  <a:pt x="16148" y="6722"/>
                </a:cubicBezTo>
                <a:cubicBezTo>
                  <a:pt x="16222" y="6679"/>
                  <a:pt x="16275" y="6622"/>
                  <a:pt x="16321" y="6548"/>
                </a:cubicBezTo>
                <a:cubicBezTo>
                  <a:pt x="16369" y="6470"/>
                  <a:pt x="16386" y="6360"/>
                  <a:pt x="16396" y="6276"/>
                </a:cubicBezTo>
                <a:cubicBezTo>
                  <a:pt x="16401" y="6238"/>
                  <a:pt x="16388" y="6148"/>
                  <a:pt x="16346" y="6127"/>
                </a:cubicBezTo>
                <a:cubicBezTo>
                  <a:pt x="16251" y="6079"/>
                  <a:pt x="16187" y="6137"/>
                  <a:pt x="16098" y="6152"/>
                </a:cubicBezTo>
                <a:cubicBezTo>
                  <a:pt x="16052" y="6160"/>
                  <a:pt x="15998" y="6173"/>
                  <a:pt x="15974" y="6226"/>
                </a:cubicBezTo>
                <a:cubicBezTo>
                  <a:pt x="15967" y="6242"/>
                  <a:pt x="15974" y="6282"/>
                  <a:pt x="15974" y="6300"/>
                </a:cubicBezTo>
              </a:path>
              <a:path w="3399" h="1589">
                <a:moveTo>
                  <a:pt x="16570" y="6300"/>
                </a:moveTo>
                <a:cubicBezTo>
                  <a:pt x="16511" y="6359"/>
                  <a:pt x="16492" y="6407"/>
                  <a:pt x="16446" y="6474"/>
                </a:cubicBezTo>
                <a:cubicBezTo>
                  <a:pt x="16422" y="6510"/>
                  <a:pt x="16405" y="6529"/>
                  <a:pt x="16396" y="6573"/>
                </a:cubicBezTo>
              </a:path>
              <a:path w="3399" h="1589">
                <a:moveTo>
                  <a:pt x="16396" y="6623"/>
                </a:moveTo>
                <a:cubicBezTo>
                  <a:pt x="16544" y="6611"/>
                  <a:pt x="16495" y="6608"/>
                  <a:pt x="16570" y="6499"/>
                </a:cubicBezTo>
                <a:cubicBezTo>
                  <a:pt x="16612" y="6437"/>
                  <a:pt x="16635" y="6349"/>
                  <a:pt x="16644" y="6276"/>
                </a:cubicBezTo>
                <a:cubicBezTo>
                  <a:pt x="16654" y="6198"/>
                  <a:pt x="16638" y="6140"/>
                  <a:pt x="16619" y="6077"/>
                </a:cubicBezTo>
                <a:cubicBezTo>
                  <a:pt x="16606" y="6034"/>
                  <a:pt x="16639" y="6042"/>
                  <a:pt x="16594" y="6028"/>
                </a:cubicBezTo>
                <a:cubicBezTo>
                  <a:pt x="16594" y="6107"/>
                  <a:pt x="16587" y="6148"/>
                  <a:pt x="16594" y="6226"/>
                </a:cubicBezTo>
                <a:cubicBezTo>
                  <a:pt x="16603" y="6325"/>
                  <a:pt x="16634" y="6393"/>
                  <a:pt x="16694" y="6474"/>
                </a:cubicBezTo>
                <a:cubicBezTo>
                  <a:pt x="16714" y="6501"/>
                  <a:pt x="16744" y="6525"/>
                  <a:pt x="16768" y="6548"/>
                </a:cubicBezTo>
              </a:path>
              <a:path w="3399" h="1589">
                <a:moveTo>
                  <a:pt x="16818" y="6077"/>
                </a:moveTo>
                <a:cubicBezTo>
                  <a:pt x="16818" y="6206"/>
                  <a:pt x="16826" y="6324"/>
                  <a:pt x="16842" y="6449"/>
                </a:cubicBezTo>
                <a:cubicBezTo>
                  <a:pt x="16849" y="6503"/>
                  <a:pt x="16865" y="6577"/>
                  <a:pt x="16892" y="6623"/>
                </a:cubicBezTo>
                <a:cubicBezTo>
                  <a:pt x="16913" y="6658"/>
                  <a:pt x="16913" y="6663"/>
                  <a:pt x="16942" y="6672"/>
                </a:cubicBezTo>
              </a:path>
              <a:path w="3399" h="1589">
                <a:moveTo>
                  <a:pt x="17041" y="6424"/>
                </a:moveTo>
                <a:cubicBezTo>
                  <a:pt x="17041" y="6509"/>
                  <a:pt x="17034" y="6529"/>
                  <a:pt x="17066" y="6573"/>
                </a:cubicBezTo>
                <a:cubicBezTo>
                  <a:pt x="17103" y="6535"/>
                  <a:pt x="17138" y="6494"/>
                  <a:pt x="17165" y="6449"/>
                </a:cubicBezTo>
                <a:cubicBezTo>
                  <a:pt x="17202" y="6389"/>
                  <a:pt x="17199" y="6400"/>
                  <a:pt x="17264" y="6400"/>
                </a:cubicBezTo>
                <a:cubicBezTo>
                  <a:pt x="17264" y="6461"/>
                  <a:pt x="17272" y="6499"/>
                  <a:pt x="17289" y="6548"/>
                </a:cubicBezTo>
                <a:cubicBezTo>
                  <a:pt x="17289" y="6556"/>
                  <a:pt x="17289" y="6565"/>
                  <a:pt x="17289" y="6573"/>
                </a:cubicBezTo>
              </a:path>
              <a:path w="3399" h="1589">
                <a:moveTo>
                  <a:pt x="17462" y="6325"/>
                </a:moveTo>
                <a:cubicBezTo>
                  <a:pt x="17462" y="6375"/>
                  <a:pt x="17462" y="6424"/>
                  <a:pt x="17462" y="6474"/>
                </a:cubicBezTo>
              </a:path>
              <a:path w="3399" h="1589">
                <a:moveTo>
                  <a:pt x="17462" y="6325"/>
                </a:moveTo>
                <a:cubicBezTo>
                  <a:pt x="17495" y="6333"/>
                  <a:pt x="17529" y="6342"/>
                  <a:pt x="17562" y="6350"/>
                </a:cubicBezTo>
              </a:path>
              <a:path w="3399" h="1589">
                <a:moveTo>
                  <a:pt x="17562" y="6350"/>
                </a:moveTo>
                <a:cubicBezTo>
                  <a:pt x="17584" y="6299"/>
                  <a:pt x="17576" y="6288"/>
                  <a:pt x="17611" y="6276"/>
                </a:cubicBezTo>
                <a:cubicBezTo>
                  <a:pt x="17611" y="6310"/>
                  <a:pt x="17598" y="6356"/>
                  <a:pt x="17636" y="6375"/>
                </a:cubicBezTo>
                <a:cubicBezTo>
                  <a:pt x="17676" y="6395"/>
                  <a:pt x="17758" y="6305"/>
                  <a:pt x="17810" y="6300"/>
                </a:cubicBezTo>
                <a:cubicBezTo>
                  <a:pt x="17873" y="6294"/>
                  <a:pt x="17859" y="6359"/>
                  <a:pt x="17859" y="6400"/>
                </a:cubicBezTo>
                <a:cubicBezTo>
                  <a:pt x="17859" y="6424"/>
                  <a:pt x="17859" y="6433"/>
                  <a:pt x="17859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1040" y="2946240"/>
            <a:ext cx="527040" cy="482760"/>
          </a:xfrm>
          <a:custGeom>
            <a:avLst/>
            <a:gdLst/>
            <a:ahLst/>
            <a:rect l="l" t="t" r="r" b="b"/>
            <a:pathLst>
              <a:path w="1465" h="1340">
                <a:moveTo>
                  <a:pt x="1935" y="8756"/>
                </a:moveTo>
                <a:cubicBezTo>
                  <a:pt x="1946" y="8723"/>
                  <a:pt x="1974" y="8726"/>
                  <a:pt x="1984" y="8706"/>
                </a:cubicBezTo>
                <a:cubicBezTo>
                  <a:pt x="2000" y="8673"/>
                  <a:pt x="2043" y="8675"/>
                  <a:pt x="2084" y="8657"/>
                </a:cubicBezTo>
                <a:cubicBezTo>
                  <a:pt x="2147" y="8629"/>
                  <a:pt x="2186" y="8632"/>
                  <a:pt x="2257" y="8632"/>
                </a:cubicBezTo>
                <a:cubicBezTo>
                  <a:pt x="2281" y="8632"/>
                  <a:pt x="2344" y="8658"/>
                  <a:pt x="2356" y="8682"/>
                </a:cubicBezTo>
                <a:cubicBezTo>
                  <a:pt x="2377" y="8724"/>
                  <a:pt x="2331" y="8757"/>
                  <a:pt x="2307" y="8781"/>
                </a:cubicBezTo>
                <a:cubicBezTo>
                  <a:pt x="2287" y="8801"/>
                  <a:pt x="2218" y="8815"/>
                  <a:pt x="2208" y="8830"/>
                </a:cubicBezTo>
                <a:cubicBezTo>
                  <a:pt x="2192" y="8855"/>
                  <a:pt x="2230" y="8845"/>
                  <a:pt x="2257" y="8830"/>
                </a:cubicBezTo>
                <a:cubicBezTo>
                  <a:pt x="2291" y="8812"/>
                  <a:pt x="2335" y="8787"/>
                  <a:pt x="2381" y="8806"/>
                </a:cubicBezTo>
                <a:cubicBezTo>
                  <a:pt x="2418" y="8821"/>
                  <a:pt x="2476" y="8878"/>
                  <a:pt x="2505" y="8905"/>
                </a:cubicBezTo>
                <a:cubicBezTo>
                  <a:pt x="2586" y="8978"/>
                  <a:pt x="2576" y="8995"/>
                  <a:pt x="2555" y="9079"/>
                </a:cubicBezTo>
                <a:cubicBezTo>
                  <a:pt x="2536" y="9154"/>
                  <a:pt x="2522" y="9151"/>
                  <a:pt x="2456" y="9178"/>
                </a:cubicBezTo>
                <a:cubicBezTo>
                  <a:pt x="2392" y="9204"/>
                  <a:pt x="2350" y="9203"/>
                  <a:pt x="2282" y="9203"/>
                </a:cubicBezTo>
                <a:cubicBezTo>
                  <a:pt x="2221" y="9203"/>
                  <a:pt x="2185" y="9164"/>
                  <a:pt x="2133" y="9153"/>
                </a:cubicBezTo>
                <a:cubicBezTo>
                  <a:pt x="2072" y="9141"/>
                  <a:pt x="2078" y="9147"/>
                  <a:pt x="2034" y="9103"/>
                </a:cubicBezTo>
              </a:path>
              <a:path w="1465" h="1340">
                <a:moveTo>
                  <a:pt x="2629" y="8260"/>
                </a:moveTo>
                <a:cubicBezTo>
                  <a:pt x="2490" y="8202"/>
                  <a:pt x="2431" y="8186"/>
                  <a:pt x="2282" y="8186"/>
                </a:cubicBezTo>
                <a:cubicBezTo>
                  <a:pt x="2184" y="8186"/>
                  <a:pt x="2049" y="8218"/>
                  <a:pt x="1960" y="8260"/>
                </a:cubicBezTo>
                <a:cubicBezTo>
                  <a:pt x="1892" y="8292"/>
                  <a:pt x="1751" y="8394"/>
                  <a:pt x="1712" y="8458"/>
                </a:cubicBezTo>
                <a:cubicBezTo>
                  <a:pt x="1662" y="8540"/>
                  <a:pt x="1657" y="8644"/>
                  <a:pt x="1637" y="8731"/>
                </a:cubicBezTo>
                <a:cubicBezTo>
                  <a:pt x="1613" y="8833"/>
                  <a:pt x="1629" y="8928"/>
                  <a:pt x="1662" y="9029"/>
                </a:cubicBezTo>
                <a:cubicBezTo>
                  <a:pt x="1711" y="9180"/>
                  <a:pt x="1757" y="9283"/>
                  <a:pt x="1885" y="9376"/>
                </a:cubicBezTo>
                <a:cubicBezTo>
                  <a:pt x="1993" y="9455"/>
                  <a:pt x="2088" y="9472"/>
                  <a:pt x="2208" y="9500"/>
                </a:cubicBezTo>
                <a:cubicBezTo>
                  <a:pt x="2313" y="9524"/>
                  <a:pt x="2449" y="9514"/>
                  <a:pt x="2555" y="9475"/>
                </a:cubicBezTo>
                <a:cubicBezTo>
                  <a:pt x="2688" y="9426"/>
                  <a:pt x="2782" y="9375"/>
                  <a:pt x="2877" y="9277"/>
                </a:cubicBezTo>
                <a:cubicBezTo>
                  <a:pt x="2972" y="9179"/>
                  <a:pt x="3008" y="9133"/>
                  <a:pt x="3051" y="9004"/>
                </a:cubicBezTo>
                <a:cubicBezTo>
                  <a:pt x="3079" y="8919"/>
                  <a:pt x="3066" y="8791"/>
                  <a:pt x="3026" y="8706"/>
                </a:cubicBezTo>
                <a:cubicBezTo>
                  <a:pt x="2989" y="8629"/>
                  <a:pt x="2879" y="8517"/>
                  <a:pt x="2803" y="8483"/>
                </a:cubicBezTo>
                <a:cubicBezTo>
                  <a:pt x="2707" y="8440"/>
                  <a:pt x="2583" y="8418"/>
                  <a:pt x="2480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38200" y="2840040"/>
            <a:ext cx="2678040" cy="687240"/>
          </a:xfrm>
          <a:custGeom>
            <a:avLst/>
            <a:gdLst/>
            <a:ahLst/>
            <a:rect l="l" t="t" r="r" b="b"/>
            <a:pathLst>
              <a:path w="7442" h="1911">
                <a:moveTo>
                  <a:pt x="4018" y="8458"/>
                </a:moveTo>
                <a:cubicBezTo>
                  <a:pt x="4038" y="8419"/>
                  <a:pt x="4068" y="8376"/>
                  <a:pt x="4093" y="8334"/>
                </a:cubicBezTo>
                <a:cubicBezTo>
                  <a:pt x="4130" y="8273"/>
                  <a:pt x="4178" y="8244"/>
                  <a:pt x="4242" y="8210"/>
                </a:cubicBezTo>
                <a:cubicBezTo>
                  <a:pt x="4318" y="8170"/>
                  <a:pt x="4324" y="8195"/>
                  <a:pt x="4390" y="8235"/>
                </a:cubicBezTo>
                <a:cubicBezTo>
                  <a:pt x="4473" y="8285"/>
                  <a:pt x="4494" y="8294"/>
                  <a:pt x="4539" y="8384"/>
                </a:cubicBezTo>
                <a:cubicBezTo>
                  <a:pt x="4588" y="8482"/>
                  <a:pt x="4624" y="8594"/>
                  <a:pt x="4614" y="8706"/>
                </a:cubicBezTo>
                <a:cubicBezTo>
                  <a:pt x="4598" y="8877"/>
                  <a:pt x="4555" y="9001"/>
                  <a:pt x="4440" y="9128"/>
                </a:cubicBezTo>
                <a:cubicBezTo>
                  <a:pt x="4388" y="9185"/>
                  <a:pt x="4322" y="9259"/>
                  <a:pt x="4242" y="9277"/>
                </a:cubicBezTo>
                <a:cubicBezTo>
                  <a:pt x="4187" y="9289"/>
                  <a:pt x="4109" y="9285"/>
                  <a:pt x="4068" y="9252"/>
                </a:cubicBezTo>
                <a:cubicBezTo>
                  <a:pt x="4020" y="9213"/>
                  <a:pt x="3997" y="9189"/>
                  <a:pt x="3994" y="9128"/>
                </a:cubicBezTo>
                <a:cubicBezTo>
                  <a:pt x="3992" y="9078"/>
                  <a:pt x="3997" y="9022"/>
                  <a:pt x="4018" y="8979"/>
                </a:cubicBezTo>
                <a:cubicBezTo>
                  <a:pt x="4040" y="8935"/>
                  <a:pt x="4100" y="8892"/>
                  <a:pt x="4142" y="8880"/>
                </a:cubicBezTo>
                <a:cubicBezTo>
                  <a:pt x="4201" y="8864"/>
                  <a:pt x="4270" y="8899"/>
                  <a:pt x="4316" y="8930"/>
                </a:cubicBezTo>
                <a:cubicBezTo>
                  <a:pt x="4367" y="8965"/>
                  <a:pt x="4429" y="9001"/>
                  <a:pt x="4465" y="9054"/>
                </a:cubicBezTo>
                <a:cubicBezTo>
                  <a:pt x="4525" y="9144"/>
                  <a:pt x="4559" y="9264"/>
                  <a:pt x="4614" y="9351"/>
                </a:cubicBezTo>
                <a:cubicBezTo>
                  <a:pt x="4638" y="9376"/>
                  <a:pt x="4646" y="9385"/>
                  <a:pt x="4663" y="9401"/>
                </a:cubicBezTo>
              </a:path>
              <a:path w="7442" h="1911">
                <a:moveTo>
                  <a:pt x="4986" y="9153"/>
                </a:moveTo>
                <a:cubicBezTo>
                  <a:pt x="5010" y="9218"/>
                  <a:pt x="5031" y="9281"/>
                  <a:pt x="5035" y="9351"/>
                </a:cubicBezTo>
                <a:cubicBezTo>
                  <a:pt x="5039" y="9430"/>
                  <a:pt x="5033" y="9525"/>
                  <a:pt x="5011" y="9599"/>
                </a:cubicBezTo>
                <a:cubicBezTo>
                  <a:pt x="4995" y="9654"/>
                  <a:pt x="4974" y="9698"/>
                  <a:pt x="4961" y="9748"/>
                </a:cubicBezTo>
                <a:cubicBezTo>
                  <a:pt x="4996" y="9736"/>
                  <a:pt x="4986" y="9741"/>
                  <a:pt x="4986" y="9699"/>
                </a:cubicBezTo>
              </a:path>
              <a:path w="7442" h="1911">
                <a:moveTo>
                  <a:pt x="5333" y="8434"/>
                </a:moveTo>
                <a:cubicBezTo>
                  <a:pt x="5327" y="8488"/>
                  <a:pt x="5327" y="8503"/>
                  <a:pt x="5308" y="8558"/>
                </a:cubicBezTo>
                <a:cubicBezTo>
                  <a:pt x="5286" y="8619"/>
                  <a:pt x="5247" y="8692"/>
                  <a:pt x="5234" y="8756"/>
                </a:cubicBezTo>
                <a:cubicBezTo>
                  <a:pt x="5222" y="8815"/>
                  <a:pt x="5229" y="8907"/>
                  <a:pt x="5259" y="8930"/>
                </a:cubicBezTo>
                <a:cubicBezTo>
                  <a:pt x="5285" y="8950"/>
                  <a:pt x="5345" y="8962"/>
                  <a:pt x="5383" y="8954"/>
                </a:cubicBezTo>
                <a:cubicBezTo>
                  <a:pt x="5455" y="8938"/>
                  <a:pt x="5534" y="8917"/>
                  <a:pt x="5606" y="8905"/>
                </a:cubicBezTo>
                <a:cubicBezTo>
                  <a:pt x="5707" y="8888"/>
                  <a:pt x="5825" y="8905"/>
                  <a:pt x="5928" y="8905"/>
                </a:cubicBezTo>
                <a:cubicBezTo>
                  <a:pt x="5922" y="8864"/>
                  <a:pt x="5917" y="8843"/>
                  <a:pt x="5904" y="8806"/>
                </a:cubicBezTo>
                <a:cubicBezTo>
                  <a:pt x="5888" y="8758"/>
                  <a:pt x="5859" y="8682"/>
                  <a:pt x="5854" y="8632"/>
                </a:cubicBezTo>
                <a:cubicBezTo>
                  <a:pt x="5844" y="8540"/>
                  <a:pt x="5818" y="8471"/>
                  <a:pt x="5804" y="8384"/>
                </a:cubicBezTo>
                <a:cubicBezTo>
                  <a:pt x="5795" y="8328"/>
                  <a:pt x="5794" y="8264"/>
                  <a:pt x="5779" y="8210"/>
                </a:cubicBezTo>
                <a:cubicBezTo>
                  <a:pt x="5771" y="8183"/>
                  <a:pt x="5764" y="8162"/>
                  <a:pt x="5755" y="8136"/>
                </a:cubicBezTo>
                <a:cubicBezTo>
                  <a:pt x="5773" y="8187"/>
                  <a:pt x="5779" y="8224"/>
                  <a:pt x="5779" y="8285"/>
                </a:cubicBezTo>
                <a:cubicBezTo>
                  <a:pt x="5779" y="8495"/>
                  <a:pt x="5783" y="8699"/>
                  <a:pt x="5804" y="8905"/>
                </a:cubicBezTo>
                <a:cubicBezTo>
                  <a:pt x="5818" y="9046"/>
                  <a:pt x="5811" y="9188"/>
                  <a:pt x="5829" y="9327"/>
                </a:cubicBezTo>
                <a:cubicBezTo>
                  <a:pt x="5838" y="9396"/>
                  <a:pt x="5814" y="9483"/>
                  <a:pt x="5829" y="9475"/>
                </a:cubicBezTo>
                <a:cubicBezTo>
                  <a:pt x="5852" y="9453"/>
                  <a:pt x="5860" y="9448"/>
                  <a:pt x="5854" y="9426"/>
                </a:cubicBezTo>
              </a:path>
              <a:path w="7442" h="1911">
                <a:moveTo>
                  <a:pt x="6424" y="9327"/>
                </a:moveTo>
                <a:cubicBezTo>
                  <a:pt x="6424" y="9395"/>
                  <a:pt x="6433" y="9412"/>
                  <a:pt x="6449" y="9475"/>
                </a:cubicBezTo>
                <a:cubicBezTo>
                  <a:pt x="6458" y="9510"/>
                  <a:pt x="6424" y="9580"/>
                  <a:pt x="6424" y="9624"/>
                </a:cubicBezTo>
                <a:cubicBezTo>
                  <a:pt x="6424" y="9679"/>
                  <a:pt x="6400" y="9694"/>
                  <a:pt x="6400" y="9748"/>
                </a:cubicBezTo>
                <a:cubicBezTo>
                  <a:pt x="6400" y="9793"/>
                  <a:pt x="6382" y="9802"/>
                  <a:pt x="6424" y="9773"/>
                </a:cubicBezTo>
              </a:path>
              <a:path w="7442" h="1911">
                <a:moveTo>
                  <a:pt x="7069" y="8657"/>
                </a:moveTo>
                <a:cubicBezTo>
                  <a:pt x="7080" y="8646"/>
                  <a:pt x="7169" y="8559"/>
                  <a:pt x="7169" y="8558"/>
                </a:cubicBezTo>
                <a:cubicBezTo>
                  <a:pt x="7177" y="8529"/>
                  <a:pt x="7198" y="8435"/>
                  <a:pt x="7193" y="8409"/>
                </a:cubicBezTo>
                <a:cubicBezTo>
                  <a:pt x="7183" y="8351"/>
                  <a:pt x="7160" y="8326"/>
                  <a:pt x="7119" y="8285"/>
                </a:cubicBezTo>
                <a:cubicBezTo>
                  <a:pt x="7068" y="8234"/>
                  <a:pt x="7058" y="8254"/>
                  <a:pt x="6995" y="8235"/>
                </a:cubicBezTo>
                <a:cubicBezTo>
                  <a:pt x="6911" y="8210"/>
                  <a:pt x="6829" y="8223"/>
                  <a:pt x="6747" y="8260"/>
                </a:cubicBezTo>
                <a:cubicBezTo>
                  <a:pt x="6729" y="8268"/>
                  <a:pt x="6621" y="8329"/>
                  <a:pt x="6623" y="8359"/>
                </a:cubicBezTo>
                <a:cubicBezTo>
                  <a:pt x="6627" y="8432"/>
                  <a:pt x="6662" y="8452"/>
                  <a:pt x="6697" y="8508"/>
                </a:cubicBezTo>
                <a:cubicBezTo>
                  <a:pt x="6746" y="8586"/>
                  <a:pt x="6815" y="8634"/>
                  <a:pt x="6871" y="8706"/>
                </a:cubicBezTo>
                <a:cubicBezTo>
                  <a:pt x="6932" y="8783"/>
                  <a:pt x="7004" y="8889"/>
                  <a:pt x="7045" y="8979"/>
                </a:cubicBezTo>
                <a:cubicBezTo>
                  <a:pt x="7082" y="9061"/>
                  <a:pt x="7115" y="9139"/>
                  <a:pt x="7119" y="9227"/>
                </a:cubicBezTo>
                <a:cubicBezTo>
                  <a:pt x="7122" y="9297"/>
                  <a:pt x="7137" y="9398"/>
                  <a:pt x="7094" y="9451"/>
                </a:cubicBezTo>
                <a:cubicBezTo>
                  <a:pt x="7043" y="9514"/>
                  <a:pt x="6997" y="9430"/>
                  <a:pt x="6970" y="9401"/>
                </a:cubicBezTo>
                <a:cubicBezTo>
                  <a:pt x="6939" y="9367"/>
                  <a:pt x="6913" y="9276"/>
                  <a:pt x="6921" y="9227"/>
                </a:cubicBezTo>
                <a:cubicBezTo>
                  <a:pt x="6935" y="9147"/>
                  <a:pt x="6939" y="9053"/>
                  <a:pt x="6970" y="8979"/>
                </a:cubicBezTo>
                <a:cubicBezTo>
                  <a:pt x="7002" y="8905"/>
                  <a:pt x="7035" y="8829"/>
                  <a:pt x="7069" y="8756"/>
                </a:cubicBezTo>
                <a:cubicBezTo>
                  <a:pt x="7110" y="8668"/>
                  <a:pt x="7202" y="8580"/>
                  <a:pt x="7268" y="8508"/>
                </a:cubicBezTo>
                <a:cubicBezTo>
                  <a:pt x="7308" y="8465"/>
                  <a:pt x="7347" y="8434"/>
                  <a:pt x="7392" y="8409"/>
                </a:cubicBezTo>
              </a:path>
              <a:path w="7442" h="1911">
                <a:moveTo>
                  <a:pt x="7491" y="9302"/>
                </a:moveTo>
                <a:cubicBezTo>
                  <a:pt x="7552" y="9317"/>
                  <a:pt x="7525" y="9329"/>
                  <a:pt x="7541" y="9376"/>
                </a:cubicBezTo>
                <a:cubicBezTo>
                  <a:pt x="7562" y="9438"/>
                  <a:pt x="7565" y="9458"/>
                  <a:pt x="7565" y="9525"/>
                </a:cubicBezTo>
                <a:cubicBezTo>
                  <a:pt x="7565" y="9586"/>
                  <a:pt x="7557" y="9624"/>
                  <a:pt x="7541" y="9674"/>
                </a:cubicBezTo>
                <a:cubicBezTo>
                  <a:pt x="7529" y="9713"/>
                  <a:pt x="7501" y="9733"/>
                  <a:pt x="7491" y="9773"/>
                </a:cubicBezTo>
              </a:path>
              <a:path w="7442" h="1911">
                <a:moveTo>
                  <a:pt x="7938" y="8210"/>
                </a:moveTo>
                <a:cubicBezTo>
                  <a:pt x="7938" y="8272"/>
                  <a:pt x="7959" y="8301"/>
                  <a:pt x="7962" y="8359"/>
                </a:cubicBezTo>
                <a:cubicBezTo>
                  <a:pt x="7966" y="8423"/>
                  <a:pt x="7972" y="8519"/>
                  <a:pt x="7987" y="8582"/>
                </a:cubicBezTo>
                <a:cubicBezTo>
                  <a:pt x="8007" y="8664"/>
                  <a:pt x="7995" y="8748"/>
                  <a:pt x="8012" y="8830"/>
                </a:cubicBezTo>
                <a:cubicBezTo>
                  <a:pt x="8028" y="8909"/>
                  <a:pt x="8039" y="9004"/>
                  <a:pt x="8062" y="9079"/>
                </a:cubicBezTo>
                <a:cubicBezTo>
                  <a:pt x="8081" y="9141"/>
                  <a:pt x="8100" y="9213"/>
                  <a:pt x="8111" y="9277"/>
                </a:cubicBezTo>
                <a:cubicBezTo>
                  <a:pt x="8122" y="9336"/>
                  <a:pt x="8094" y="9375"/>
                  <a:pt x="8161" y="9327"/>
                </a:cubicBezTo>
              </a:path>
              <a:path w="7442" h="1911">
                <a:moveTo>
                  <a:pt x="8458" y="8161"/>
                </a:moveTo>
                <a:cubicBezTo>
                  <a:pt x="8445" y="8263"/>
                  <a:pt x="8434" y="8356"/>
                  <a:pt x="8434" y="8458"/>
                </a:cubicBezTo>
                <a:cubicBezTo>
                  <a:pt x="8434" y="8555"/>
                  <a:pt x="8425" y="8685"/>
                  <a:pt x="8409" y="8781"/>
                </a:cubicBezTo>
                <a:cubicBezTo>
                  <a:pt x="8393" y="8878"/>
                  <a:pt x="8397" y="8956"/>
                  <a:pt x="8434" y="9054"/>
                </a:cubicBezTo>
                <a:cubicBezTo>
                  <a:pt x="8459" y="9120"/>
                  <a:pt x="8498" y="9187"/>
                  <a:pt x="8558" y="9227"/>
                </a:cubicBezTo>
                <a:cubicBezTo>
                  <a:pt x="8599" y="9254"/>
                  <a:pt x="8681" y="9265"/>
                  <a:pt x="8731" y="9252"/>
                </a:cubicBezTo>
                <a:cubicBezTo>
                  <a:pt x="8811" y="9231"/>
                  <a:pt x="8874" y="9159"/>
                  <a:pt x="8930" y="9103"/>
                </a:cubicBezTo>
                <a:cubicBezTo>
                  <a:pt x="8978" y="9055"/>
                  <a:pt x="9041" y="8951"/>
                  <a:pt x="9054" y="8880"/>
                </a:cubicBezTo>
                <a:cubicBezTo>
                  <a:pt x="9064" y="8826"/>
                  <a:pt x="9081" y="8647"/>
                  <a:pt x="9029" y="8607"/>
                </a:cubicBezTo>
                <a:cubicBezTo>
                  <a:pt x="8991" y="8578"/>
                  <a:pt x="8967" y="8581"/>
                  <a:pt x="8930" y="8607"/>
                </a:cubicBezTo>
                <a:cubicBezTo>
                  <a:pt x="8880" y="8642"/>
                  <a:pt x="8794" y="8724"/>
                  <a:pt x="8781" y="8781"/>
                </a:cubicBezTo>
                <a:cubicBezTo>
                  <a:pt x="8766" y="8848"/>
                  <a:pt x="8739" y="8958"/>
                  <a:pt x="8756" y="9029"/>
                </a:cubicBezTo>
                <a:cubicBezTo>
                  <a:pt x="8771" y="9092"/>
                  <a:pt x="8791" y="9171"/>
                  <a:pt x="8830" y="9227"/>
                </a:cubicBezTo>
                <a:cubicBezTo>
                  <a:pt x="8843" y="9246"/>
                  <a:pt x="8864" y="9355"/>
                  <a:pt x="8905" y="9351"/>
                </a:cubicBezTo>
                <a:cubicBezTo>
                  <a:pt x="8913" y="9343"/>
                  <a:pt x="8922" y="9335"/>
                  <a:pt x="8930" y="9327"/>
                </a:cubicBezTo>
              </a:path>
              <a:path w="7442" h="1911">
                <a:moveTo>
                  <a:pt x="9376" y="8954"/>
                </a:moveTo>
                <a:cubicBezTo>
                  <a:pt x="9419" y="9069"/>
                  <a:pt x="9398" y="9103"/>
                  <a:pt x="9426" y="9203"/>
                </a:cubicBezTo>
                <a:cubicBezTo>
                  <a:pt x="9446" y="9274"/>
                  <a:pt x="9451" y="9322"/>
                  <a:pt x="9451" y="9401"/>
                </a:cubicBezTo>
                <a:cubicBezTo>
                  <a:pt x="9451" y="9439"/>
                  <a:pt x="9493" y="9483"/>
                  <a:pt x="9500" y="9426"/>
                </a:cubicBezTo>
                <a:cubicBezTo>
                  <a:pt x="9500" y="9418"/>
                  <a:pt x="9500" y="9409"/>
                  <a:pt x="9500" y="9401"/>
                </a:cubicBezTo>
              </a:path>
              <a:path w="7442" h="1911">
                <a:moveTo>
                  <a:pt x="9649" y="8483"/>
                </a:moveTo>
                <a:cubicBezTo>
                  <a:pt x="9649" y="8409"/>
                  <a:pt x="9633" y="8353"/>
                  <a:pt x="9624" y="8285"/>
                </a:cubicBezTo>
                <a:cubicBezTo>
                  <a:pt x="9614" y="8209"/>
                  <a:pt x="9648" y="8154"/>
                  <a:pt x="9674" y="8086"/>
                </a:cubicBezTo>
                <a:cubicBezTo>
                  <a:pt x="9697" y="8025"/>
                  <a:pt x="9713" y="7998"/>
                  <a:pt x="9773" y="7962"/>
                </a:cubicBezTo>
                <a:cubicBezTo>
                  <a:pt x="9826" y="7931"/>
                  <a:pt x="9863" y="7941"/>
                  <a:pt x="9922" y="7938"/>
                </a:cubicBezTo>
                <a:cubicBezTo>
                  <a:pt x="10022" y="7934"/>
                  <a:pt x="10013" y="7989"/>
                  <a:pt x="10021" y="8062"/>
                </a:cubicBezTo>
                <a:cubicBezTo>
                  <a:pt x="10029" y="8135"/>
                  <a:pt x="10008" y="8201"/>
                  <a:pt x="9996" y="8260"/>
                </a:cubicBezTo>
                <a:cubicBezTo>
                  <a:pt x="9983" y="8324"/>
                  <a:pt x="9970" y="8350"/>
                  <a:pt x="9947" y="8409"/>
                </a:cubicBezTo>
                <a:cubicBezTo>
                  <a:pt x="9947" y="8417"/>
                  <a:pt x="9947" y="8426"/>
                  <a:pt x="9947" y="8434"/>
                </a:cubicBezTo>
                <a:cubicBezTo>
                  <a:pt x="10000" y="8434"/>
                  <a:pt x="10030" y="8417"/>
                  <a:pt x="10071" y="8409"/>
                </a:cubicBezTo>
                <a:cubicBezTo>
                  <a:pt x="10137" y="8396"/>
                  <a:pt x="10193" y="8424"/>
                  <a:pt x="10244" y="8434"/>
                </a:cubicBezTo>
                <a:cubicBezTo>
                  <a:pt x="10318" y="8449"/>
                  <a:pt x="10354" y="8469"/>
                  <a:pt x="10418" y="8508"/>
                </a:cubicBezTo>
                <a:cubicBezTo>
                  <a:pt x="10473" y="8541"/>
                  <a:pt x="10510" y="8598"/>
                  <a:pt x="10517" y="8657"/>
                </a:cubicBezTo>
                <a:cubicBezTo>
                  <a:pt x="10528" y="8751"/>
                  <a:pt x="10495" y="8846"/>
                  <a:pt x="10418" y="8905"/>
                </a:cubicBezTo>
                <a:cubicBezTo>
                  <a:pt x="10347" y="8959"/>
                  <a:pt x="10276" y="8990"/>
                  <a:pt x="10195" y="9029"/>
                </a:cubicBezTo>
                <a:cubicBezTo>
                  <a:pt x="10144" y="9053"/>
                  <a:pt x="10079" y="9068"/>
                  <a:pt x="10021" y="9054"/>
                </a:cubicBezTo>
                <a:cubicBezTo>
                  <a:pt x="9966" y="9041"/>
                  <a:pt x="9973" y="9014"/>
                  <a:pt x="9947" y="8979"/>
                </a:cubicBezTo>
                <a:cubicBezTo>
                  <a:pt x="9922" y="8954"/>
                  <a:pt x="9914" y="8946"/>
                  <a:pt x="9947" y="8930"/>
                </a:cubicBezTo>
              </a:path>
              <a:path w="7442" h="1911">
                <a:moveTo>
                  <a:pt x="10691" y="8161"/>
                </a:moveTo>
                <a:cubicBezTo>
                  <a:pt x="10708" y="8126"/>
                  <a:pt x="10712" y="8094"/>
                  <a:pt x="10740" y="8062"/>
                </a:cubicBezTo>
                <a:cubicBezTo>
                  <a:pt x="10768" y="8031"/>
                  <a:pt x="10769" y="7992"/>
                  <a:pt x="10790" y="7962"/>
                </a:cubicBezTo>
                <a:cubicBezTo>
                  <a:pt x="10816" y="7925"/>
                  <a:pt x="10871" y="7896"/>
                  <a:pt x="10914" y="7888"/>
                </a:cubicBezTo>
                <a:cubicBezTo>
                  <a:pt x="10977" y="7877"/>
                  <a:pt x="11018" y="7898"/>
                  <a:pt x="11063" y="7938"/>
                </a:cubicBezTo>
                <a:cubicBezTo>
                  <a:pt x="11118" y="7986"/>
                  <a:pt x="11112" y="8014"/>
                  <a:pt x="11112" y="8086"/>
                </a:cubicBezTo>
                <a:cubicBezTo>
                  <a:pt x="11112" y="8156"/>
                  <a:pt x="11127" y="8247"/>
                  <a:pt x="11088" y="8310"/>
                </a:cubicBezTo>
                <a:cubicBezTo>
                  <a:pt x="11035" y="8395"/>
                  <a:pt x="10969" y="8469"/>
                  <a:pt x="10914" y="8558"/>
                </a:cubicBezTo>
                <a:cubicBezTo>
                  <a:pt x="10863" y="8640"/>
                  <a:pt x="10828" y="8719"/>
                  <a:pt x="10790" y="8806"/>
                </a:cubicBezTo>
                <a:cubicBezTo>
                  <a:pt x="10765" y="8864"/>
                  <a:pt x="10744" y="8919"/>
                  <a:pt x="10740" y="8979"/>
                </a:cubicBezTo>
                <a:cubicBezTo>
                  <a:pt x="10740" y="9004"/>
                  <a:pt x="10740" y="9012"/>
                  <a:pt x="10740" y="9029"/>
                </a:cubicBezTo>
                <a:cubicBezTo>
                  <a:pt x="10789" y="9011"/>
                  <a:pt x="10836" y="9003"/>
                  <a:pt x="10889" y="8979"/>
                </a:cubicBezTo>
                <a:cubicBezTo>
                  <a:pt x="10960" y="8947"/>
                  <a:pt x="11039" y="8953"/>
                  <a:pt x="11112" y="8930"/>
                </a:cubicBezTo>
                <a:cubicBezTo>
                  <a:pt x="11180" y="8909"/>
                  <a:pt x="11239" y="8884"/>
                  <a:pt x="11311" y="8880"/>
                </a:cubicBezTo>
                <a:cubicBezTo>
                  <a:pt x="11374" y="8877"/>
                  <a:pt x="11403" y="8874"/>
                  <a:pt x="11435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83080" y="2786040"/>
            <a:ext cx="2035080" cy="785880"/>
          </a:xfrm>
          <a:custGeom>
            <a:avLst/>
            <a:gdLst/>
            <a:ahLst/>
            <a:rect l="l" t="t" r="r" b="b"/>
            <a:pathLst>
              <a:path w="5656" h="2184">
                <a:moveTo>
                  <a:pt x="12452" y="8483"/>
                </a:moveTo>
                <a:cubicBezTo>
                  <a:pt x="12489" y="8467"/>
                  <a:pt x="12538" y="8460"/>
                  <a:pt x="12576" y="8434"/>
                </a:cubicBezTo>
                <a:cubicBezTo>
                  <a:pt x="12621" y="8403"/>
                  <a:pt x="12714" y="8370"/>
                  <a:pt x="12774" y="8359"/>
                </a:cubicBezTo>
                <a:cubicBezTo>
                  <a:pt x="12841" y="8346"/>
                  <a:pt x="12903" y="8337"/>
                  <a:pt x="12973" y="8310"/>
                </a:cubicBezTo>
                <a:cubicBezTo>
                  <a:pt x="13016" y="8294"/>
                  <a:pt x="13025" y="8282"/>
                  <a:pt x="13047" y="8260"/>
                </a:cubicBezTo>
                <a:cubicBezTo>
                  <a:pt x="13055" y="8252"/>
                  <a:pt x="13064" y="8243"/>
                  <a:pt x="13072" y="8235"/>
                </a:cubicBezTo>
                <a:cubicBezTo>
                  <a:pt x="13037" y="8200"/>
                  <a:pt x="13007" y="8191"/>
                  <a:pt x="12973" y="8161"/>
                </a:cubicBezTo>
                <a:cubicBezTo>
                  <a:pt x="12938" y="8130"/>
                  <a:pt x="12872" y="8118"/>
                  <a:pt x="12824" y="8111"/>
                </a:cubicBezTo>
                <a:cubicBezTo>
                  <a:pt x="12755" y="8101"/>
                  <a:pt x="12710" y="8131"/>
                  <a:pt x="12650" y="8161"/>
                </a:cubicBezTo>
                <a:cubicBezTo>
                  <a:pt x="12562" y="8206"/>
                  <a:pt x="12524" y="8283"/>
                  <a:pt x="12502" y="8384"/>
                </a:cubicBezTo>
                <a:cubicBezTo>
                  <a:pt x="12483" y="8473"/>
                  <a:pt x="12475" y="8681"/>
                  <a:pt x="12526" y="8756"/>
                </a:cubicBezTo>
                <a:cubicBezTo>
                  <a:pt x="12566" y="8815"/>
                  <a:pt x="12636" y="8897"/>
                  <a:pt x="12700" y="8930"/>
                </a:cubicBezTo>
                <a:cubicBezTo>
                  <a:pt x="12776" y="8970"/>
                  <a:pt x="12808" y="9024"/>
                  <a:pt x="12898" y="9029"/>
                </a:cubicBezTo>
                <a:cubicBezTo>
                  <a:pt x="12982" y="9034"/>
                  <a:pt x="12989" y="8971"/>
                  <a:pt x="13022" y="8905"/>
                </a:cubicBezTo>
                <a:cubicBezTo>
                  <a:pt x="13091" y="8767"/>
                  <a:pt x="13098" y="8630"/>
                  <a:pt x="13122" y="8483"/>
                </a:cubicBezTo>
                <a:cubicBezTo>
                  <a:pt x="13142" y="8360"/>
                  <a:pt x="13171" y="8261"/>
                  <a:pt x="13171" y="8136"/>
                </a:cubicBezTo>
                <a:cubicBezTo>
                  <a:pt x="13171" y="8090"/>
                  <a:pt x="13173" y="8100"/>
                  <a:pt x="13196" y="8062"/>
                </a:cubicBezTo>
                <a:cubicBezTo>
                  <a:pt x="13196" y="8153"/>
                  <a:pt x="13202" y="8247"/>
                  <a:pt x="13221" y="8334"/>
                </a:cubicBezTo>
                <a:cubicBezTo>
                  <a:pt x="13243" y="8431"/>
                  <a:pt x="13281" y="8533"/>
                  <a:pt x="13295" y="8632"/>
                </a:cubicBezTo>
                <a:cubicBezTo>
                  <a:pt x="13306" y="8710"/>
                  <a:pt x="13317" y="8775"/>
                  <a:pt x="13320" y="8855"/>
                </a:cubicBezTo>
                <a:cubicBezTo>
                  <a:pt x="13321" y="8888"/>
                  <a:pt x="13320" y="8921"/>
                  <a:pt x="13320" y="8954"/>
                </a:cubicBezTo>
                <a:cubicBezTo>
                  <a:pt x="13314" y="8905"/>
                  <a:pt x="13310" y="8852"/>
                  <a:pt x="13295" y="8806"/>
                </a:cubicBezTo>
                <a:cubicBezTo>
                  <a:pt x="13264" y="8710"/>
                  <a:pt x="13264" y="8608"/>
                  <a:pt x="13246" y="8508"/>
                </a:cubicBezTo>
                <a:cubicBezTo>
                  <a:pt x="13231" y="8424"/>
                  <a:pt x="13200" y="8339"/>
                  <a:pt x="13246" y="8260"/>
                </a:cubicBezTo>
                <a:cubicBezTo>
                  <a:pt x="13301" y="8166"/>
                  <a:pt x="13376" y="8108"/>
                  <a:pt x="13469" y="8062"/>
                </a:cubicBezTo>
                <a:cubicBezTo>
                  <a:pt x="13530" y="8032"/>
                  <a:pt x="13576" y="8037"/>
                  <a:pt x="13643" y="8037"/>
                </a:cubicBezTo>
              </a:path>
              <a:path w="5656" h="2184">
                <a:moveTo>
                  <a:pt x="13816" y="8111"/>
                </a:moveTo>
                <a:cubicBezTo>
                  <a:pt x="13823" y="8211"/>
                  <a:pt x="13844" y="8311"/>
                  <a:pt x="13866" y="8409"/>
                </a:cubicBezTo>
                <a:cubicBezTo>
                  <a:pt x="13890" y="8516"/>
                  <a:pt x="13928" y="8623"/>
                  <a:pt x="13940" y="8731"/>
                </a:cubicBezTo>
                <a:cubicBezTo>
                  <a:pt x="13948" y="8803"/>
                  <a:pt x="13950" y="8844"/>
                  <a:pt x="13965" y="8905"/>
                </a:cubicBezTo>
                <a:cubicBezTo>
                  <a:pt x="13965" y="8855"/>
                  <a:pt x="13949" y="8830"/>
                  <a:pt x="13940" y="8781"/>
                </a:cubicBezTo>
                <a:cubicBezTo>
                  <a:pt x="13932" y="8740"/>
                  <a:pt x="13923" y="8698"/>
                  <a:pt x="13915" y="8657"/>
                </a:cubicBezTo>
              </a:path>
              <a:path w="5656" h="2184">
                <a:moveTo>
                  <a:pt x="13915" y="7739"/>
                </a:moveTo>
                <a:cubicBezTo>
                  <a:pt x="13947" y="7739"/>
                  <a:pt x="13944" y="7760"/>
                  <a:pt x="13965" y="7789"/>
                </a:cubicBezTo>
              </a:path>
              <a:path w="5656" h="2184">
                <a:moveTo>
                  <a:pt x="14511" y="8235"/>
                </a:moveTo>
                <a:cubicBezTo>
                  <a:pt x="14539" y="8171"/>
                  <a:pt x="14539" y="8103"/>
                  <a:pt x="14511" y="8037"/>
                </a:cubicBezTo>
                <a:cubicBezTo>
                  <a:pt x="14490" y="7989"/>
                  <a:pt x="14404" y="7964"/>
                  <a:pt x="14362" y="7962"/>
                </a:cubicBezTo>
                <a:cubicBezTo>
                  <a:pt x="14286" y="7958"/>
                  <a:pt x="14238" y="7973"/>
                  <a:pt x="14188" y="8037"/>
                </a:cubicBezTo>
                <a:cubicBezTo>
                  <a:pt x="14129" y="8114"/>
                  <a:pt x="14111" y="8225"/>
                  <a:pt x="14089" y="8310"/>
                </a:cubicBezTo>
                <a:cubicBezTo>
                  <a:pt x="14065" y="8403"/>
                  <a:pt x="14079" y="8490"/>
                  <a:pt x="14114" y="8582"/>
                </a:cubicBezTo>
                <a:cubicBezTo>
                  <a:pt x="14139" y="8647"/>
                  <a:pt x="14222" y="8686"/>
                  <a:pt x="14288" y="8706"/>
                </a:cubicBezTo>
                <a:cubicBezTo>
                  <a:pt x="14362" y="8728"/>
                  <a:pt x="14444" y="8693"/>
                  <a:pt x="14511" y="8682"/>
                </a:cubicBezTo>
                <a:cubicBezTo>
                  <a:pt x="14579" y="8682"/>
                  <a:pt x="14609" y="8669"/>
                  <a:pt x="14635" y="8607"/>
                </a:cubicBezTo>
              </a:path>
              <a:path w="5656" h="2184">
                <a:moveTo>
                  <a:pt x="15056" y="7888"/>
                </a:moveTo>
                <a:cubicBezTo>
                  <a:pt x="14982" y="7841"/>
                  <a:pt x="14942" y="7849"/>
                  <a:pt x="14858" y="7913"/>
                </a:cubicBezTo>
                <a:cubicBezTo>
                  <a:pt x="14770" y="7981"/>
                  <a:pt x="14719" y="8083"/>
                  <a:pt x="14684" y="8186"/>
                </a:cubicBezTo>
                <a:cubicBezTo>
                  <a:pt x="14654" y="8274"/>
                  <a:pt x="14607" y="8413"/>
                  <a:pt x="14635" y="8508"/>
                </a:cubicBezTo>
                <a:cubicBezTo>
                  <a:pt x="14647" y="8549"/>
                  <a:pt x="14718" y="8621"/>
                  <a:pt x="14759" y="8632"/>
                </a:cubicBezTo>
                <a:cubicBezTo>
                  <a:pt x="14813" y="8647"/>
                  <a:pt x="14892" y="8590"/>
                  <a:pt x="14932" y="8558"/>
                </a:cubicBezTo>
                <a:cubicBezTo>
                  <a:pt x="14981" y="8518"/>
                  <a:pt x="15065" y="8394"/>
                  <a:pt x="15081" y="8334"/>
                </a:cubicBezTo>
                <a:cubicBezTo>
                  <a:pt x="15102" y="8255"/>
                  <a:pt x="15128" y="8145"/>
                  <a:pt x="15131" y="8062"/>
                </a:cubicBezTo>
                <a:cubicBezTo>
                  <a:pt x="15131" y="7994"/>
                  <a:pt x="15134" y="7975"/>
                  <a:pt x="15106" y="7938"/>
                </a:cubicBezTo>
                <a:cubicBezTo>
                  <a:pt x="15099" y="7959"/>
                  <a:pt x="15081" y="8007"/>
                  <a:pt x="15081" y="8062"/>
                </a:cubicBezTo>
                <a:cubicBezTo>
                  <a:pt x="15081" y="8149"/>
                  <a:pt x="15103" y="8261"/>
                  <a:pt x="15156" y="8334"/>
                </a:cubicBezTo>
                <a:cubicBezTo>
                  <a:pt x="15207" y="8403"/>
                  <a:pt x="15253" y="8466"/>
                  <a:pt x="15329" y="8508"/>
                </a:cubicBezTo>
                <a:cubicBezTo>
                  <a:pt x="15464" y="8583"/>
                  <a:pt x="15553" y="8498"/>
                  <a:pt x="15677" y="8434"/>
                </a:cubicBezTo>
                <a:cubicBezTo>
                  <a:pt x="15693" y="8426"/>
                  <a:pt x="15710" y="8417"/>
                  <a:pt x="15726" y="8409"/>
                </a:cubicBezTo>
              </a:path>
              <a:path w="5656" h="2184">
                <a:moveTo>
                  <a:pt x="14015" y="9227"/>
                </a:moveTo>
                <a:cubicBezTo>
                  <a:pt x="13995" y="9187"/>
                  <a:pt x="13986" y="9181"/>
                  <a:pt x="13990" y="9153"/>
                </a:cubicBezTo>
                <a:cubicBezTo>
                  <a:pt x="14035" y="9213"/>
                  <a:pt x="14023" y="9278"/>
                  <a:pt x="14039" y="9351"/>
                </a:cubicBezTo>
                <a:cubicBezTo>
                  <a:pt x="14067" y="9476"/>
                  <a:pt x="14086" y="9597"/>
                  <a:pt x="14114" y="9723"/>
                </a:cubicBezTo>
                <a:cubicBezTo>
                  <a:pt x="14118" y="9742"/>
                  <a:pt x="14126" y="9904"/>
                  <a:pt x="14139" y="9922"/>
                </a:cubicBezTo>
                <a:cubicBezTo>
                  <a:pt x="14147" y="9922"/>
                  <a:pt x="14155" y="9922"/>
                  <a:pt x="14163" y="9922"/>
                </a:cubicBezTo>
              </a:path>
              <a:path w="5656" h="2184">
                <a:moveTo>
                  <a:pt x="14312" y="9054"/>
                </a:moveTo>
                <a:cubicBezTo>
                  <a:pt x="14355" y="9138"/>
                  <a:pt x="14403" y="9214"/>
                  <a:pt x="14436" y="9302"/>
                </a:cubicBezTo>
                <a:cubicBezTo>
                  <a:pt x="14473" y="9403"/>
                  <a:pt x="14519" y="9499"/>
                  <a:pt x="14560" y="9599"/>
                </a:cubicBezTo>
                <a:cubicBezTo>
                  <a:pt x="14584" y="9658"/>
                  <a:pt x="14604" y="9747"/>
                  <a:pt x="14635" y="9798"/>
                </a:cubicBezTo>
                <a:cubicBezTo>
                  <a:pt x="14656" y="9833"/>
                  <a:pt x="14668" y="9871"/>
                  <a:pt x="14684" y="9823"/>
                </a:cubicBezTo>
              </a:path>
              <a:path w="5656" h="2184">
                <a:moveTo>
                  <a:pt x="14114" y="9624"/>
                </a:moveTo>
                <a:cubicBezTo>
                  <a:pt x="14163" y="9585"/>
                  <a:pt x="14178" y="9595"/>
                  <a:pt x="14238" y="9575"/>
                </a:cubicBezTo>
                <a:cubicBezTo>
                  <a:pt x="14317" y="9549"/>
                  <a:pt x="14383" y="9542"/>
                  <a:pt x="14461" y="9525"/>
                </a:cubicBezTo>
                <a:cubicBezTo>
                  <a:pt x="14554" y="9505"/>
                  <a:pt x="14644" y="9495"/>
                  <a:pt x="14734" y="9475"/>
                </a:cubicBezTo>
                <a:cubicBezTo>
                  <a:pt x="14813" y="9457"/>
                  <a:pt x="14885" y="9412"/>
                  <a:pt x="14957" y="9376"/>
                </a:cubicBezTo>
                <a:cubicBezTo>
                  <a:pt x="15050" y="9329"/>
                  <a:pt x="15107" y="9241"/>
                  <a:pt x="15156" y="9153"/>
                </a:cubicBezTo>
                <a:cubicBezTo>
                  <a:pt x="15185" y="9102"/>
                  <a:pt x="15180" y="9060"/>
                  <a:pt x="15180" y="9004"/>
                </a:cubicBezTo>
                <a:cubicBezTo>
                  <a:pt x="15180" y="8996"/>
                  <a:pt x="15180" y="8987"/>
                  <a:pt x="15180" y="8979"/>
                </a:cubicBezTo>
                <a:cubicBezTo>
                  <a:pt x="15128" y="8966"/>
                  <a:pt x="15093" y="8958"/>
                  <a:pt x="15032" y="8979"/>
                </a:cubicBezTo>
                <a:cubicBezTo>
                  <a:pt x="14944" y="9009"/>
                  <a:pt x="14883" y="9106"/>
                  <a:pt x="14833" y="9178"/>
                </a:cubicBezTo>
                <a:cubicBezTo>
                  <a:pt x="14773" y="9265"/>
                  <a:pt x="14728" y="9394"/>
                  <a:pt x="14709" y="9500"/>
                </a:cubicBezTo>
                <a:cubicBezTo>
                  <a:pt x="14698" y="9562"/>
                  <a:pt x="14738" y="9613"/>
                  <a:pt x="14784" y="9649"/>
                </a:cubicBezTo>
                <a:cubicBezTo>
                  <a:pt x="14848" y="9699"/>
                  <a:pt x="14936" y="9675"/>
                  <a:pt x="15007" y="9624"/>
                </a:cubicBezTo>
                <a:cubicBezTo>
                  <a:pt x="15063" y="9584"/>
                  <a:pt x="15123" y="9345"/>
                  <a:pt x="15131" y="9302"/>
                </a:cubicBezTo>
                <a:cubicBezTo>
                  <a:pt x="15143" y="9241"/>
                  <a:pt x="15131" y="9165"/>
                  <a:pt x="15131" y="9103"/>
                </a:cubicBezTo>
                <a:cubicBezTo>
                  <a:pt x="15131" y="9160"/>
                  <a:pt x="15119" y="9171"/>
                  <a:pt x="15131" y="9227"/>
                </a:cubicBezTo>
                <a:cubicBezTo>
                  <a:pt x="15150" y="9314"/>
                  <a:pt x="15154" y="9416"/>
                  <a:pt x="15180" y="9500"/>
                </a:cubicBezTo>
                <a:cubicBezTo>
                  <a:pt x="15201" y="9568"/>
                  <a:pt x="15238" y="9568"/>
                  <a:pt x="15280" y="9599"/>
                </a:cubicBezTo>
                <a:cubicBezTo>
                  <a:pt x="15332" y="9554"/>
                  <a:pt x="15326" y="9572"/>
                  <a:pt x="15354" y="9500"/>
                </a:cubicBezTo>
                <a:cubicBezTo>
                  <a:pt x="15388" y="9415"/>
                  <a:pt x="15416" y="9344"/>
                  <a:pt x="15429" y="9252"/>
                </a:cubicBezTo>
                <a:cubicBezTo>
                  <a:pt x="15441" y="9164"/>
                  <a:pt x="15423" y="9085"/>
                  <a:pt x="15404" y="9004"/>
                </a:cubicBezTo>
                <a:cubicBezTo>
                  <a:pt x="15404" y="8996"/>
                  <a:pt x="15404" y="8987"/>
                  <a:pt x="15404" y="8979"/>
                </a:cubicBezTo>
                <a:cubicBezTo>
                  <a:pt x="15391" y="9012"/>
                  <a:pt x="15397" y="8992"/>
                  <a:pt x="15404" y="9054"/>
                </a:cubicBezTo>
                <a:cubicBezTo>
                  <a:pt x="15412" y="9124"/>
                  <a:pt x="15430" y="9185"/>
                  <a:pt x="15453" y="9252"/>
                </a:cubicBezTo>
                <a:cubicBezTo>
                  <a:pt x="15478" y="9324"/>
                  <a:pt x="15537" y="9402"/>
                  <a:pt x="15553" y="9475"/>
                </a:cubicBezTo>
                <a:cubicBezTo>
                  <a:pt x="15571" y="9555"/>
                  <a:pt x="15571" y="9527"/>
                  <a:pt x="15627" y="9575"/>
                </a:cubicBezTo>
                <a:cubicBezTo>
                  <a:pt x="15651" y="9535"/>
                  <a:pt x="15633" y="9535"/>
                  <a:pt x="15627" y="9475"/>
                </a:cubicBezTo>
                <a:cubicBezTo>
                  <a:pt x="15620" y="9405"/>
                  <a:pt x="15596" y="9319"/>
                  <a:pt x="15577" y="9252"/>
                </a:cubicBezTo>
                <a:cubicBezTo>
                  <a:pt x="15554" y="9169"/>
                  <a:pt x="15492" y="9089"/>
                  <a:pt x="15478" y="9004"/>
                </a:cubicBezTo>
                <a:cubicBezTo>
                  <a:pt x="15466" y="8931"/>
                  <a:pt x="15500" y="8900"/>
                  <a:pt x="15553" y="8855"/>
                </a:cubicBezTo>
                <a:cubicBezTo>
                  <a:pt x="15597" y="8818"/>
                  <a:pt x="15591" y="8838"/>
                  <a:pt x="15652" y="8830"/>
                </a:cubicBezTo>
              </a:path>
              <a:path w="5656" h="2184">
                <a:moveTo>
                  <a:pt x="16247" y="8930"/>
                </a:moveTo>
                <a:cubicBezTo>
                  <a:pt x="16240" y="8884"/>
                  <a:pt x="16226" y="8829"/>
                  <a:pt x="16173" y="8806"/>
                </a:cubicBezTo>
                <a:cubicBezTo>
                  <a:pt x="16125" y="8785"/>
                  <a:pt x="16081" y="8788"/>
                  <a:pt x="16024" y="8806"/>
                </a:cubicBezTo>
                <a:cubicBezTo>
                  <a:pt x="15943" y="8832"/>
                  <a:pt x="15893" y="8912"/>
                  <a:pt x="15850" y="8979"/>
                </a:cubicBezTo>
                <a:cubicBezTo>
                  <a:pt x="15805" y="9049"/>
                  <a:pt x="15778" y="9140"/>
                  <a:pt x="15801" y="9227"/>
                </a:cubicBezTo>
                <a:cubicBezTo>
                  <a:pt x="15822" y="9305"/>
                  <a:pt x="15920" y="9383"/>
                  <a:pt x="15999" y="9401"/>
                </a:cubicBezTo>
                <a:cubicBezTo>
                  <a:pt x="16075" y="9418"/>
                  <a:pt x="16129" y="9390"/>
                  <a:pt x="16173" y="9327"/>
                </a:cubicBezTo>
                <a:cubicBezTo>
                  <a:pt x="16233" y="9241"/>
                  <a:pt x="16227" y="9174"/>
                  <a:pt x="16247" y="9079"/>
                </a:cubicBezTo>
                <a:cubicBezTo>
                  <a:pt x="16270" y="8969"/>
                  <a:pt x="16272" y="8870"/>
                  <a:pt x="16272" y="8756"/>
                </a:cubicBezTo>
                <a:cubicBezTo>
                  <a:pt x="16272" y="8683"/>
                  <a:pt x="16257" y="8615"/>
                  <a:pt x="16222" y="8558"/>
                </a:cubicBezTo>
                <a:cubicBezTo>
                  <a:pt x="16222" y="8631"/>
                  <a:pt x="16239" y="8686"/>
                  <a:pt x="16247" y="8756"/>
                </a:cubicBezTo>
                <a:cubicBezTo>
                  <a:pt x="16264" y="8897"/>
                  <a:pt x="16281" y="9040"/>
                  <a:pt x="16321" y="9178"/>
                </a:cubicBezTo>
                <a:cubicBezTo>
                  <a:pt x="16322" y="9182"/>
                  <a:pt x="16349" y="9358"/>
                  <a:pt x="16371" y="9351"/>
                </a:cubicBezTo>
                <a:cubicBezTo>
                  <a:pt x="16403" y="9341"/>
                  <a:pt x="16371" y="9285"/>
                  <a:pt x="16371" y="9252"/>
                </a:cubicBezTo>
              </a:path>
              <a:path w="5656" h="2184">
                <a:moveTo>
                  <a:pt x="16495" y="8657"/>
                </a:moveTo>
                <a:cubicBezTo>
                  <a:pt x="16538" y="8801"/>
                  <a:pt x="16563" y="8936"/>
                  <a:pt x="16594" y="9079"/>
                </a:cubicBezTo>
                <a:cubicBezTo>
                  <a:pt x="16596" y="9088"/>
                  <a:pt x="16641" y="9277"/>
                  <a:pt x="16644" y="9277"/>
                </a:cubicBezTo>
                <a:cubicBezTo>
                  <a:pt x="16646" y="9277"/>
                  <a:pt x="16669" y="9104"/>
                  <a:pt x="16669" y="9103"/>
                </a:cubicBezTo>
              </a:path>
              <a:path w="5656" h="2184">
                <a:moveTo>
                  <a:pt x="16570" y="8359"/>
                </a:moveTo>
                <a:cubicBezTo>
                  <a:pt x="16561" y="8324"/>
                  <a:pt x="16550" y="8276"/>
                  <a:pt x="16570" y="8334"/>
                </a:cubicBezTo>
              </a:path>
              <a:path w="5656" h="2184">
                <a:moveTo>
                  <a:pt x="16743" y="8582"/>
                </a:moveTo>
                <a:cubicBezTo>
                  <a:pt x="16805" y="8740"/>
                  <a:pt x="16829" y="8864"/>
                  <a:pt x="16867" y="9029"/>
                </a:cubicBezTo>
                <a:cubicBezTo>
                  <a:pt x="16886" y="9113"/>
                  <a:pt x="16919" y="9211"/>
                  <a:pt x="16966" y="9277"/>
                </a:cubicBezTo>
                <a:cubicBezTo>
                  <a:pt x="17003" y="9265"/>
                  <a:pt x="17001" y="9204"/>
                  <a:pt x="16991" y="9153"/>
                </a:cubicBezTo>
                <a:cubicBezTo>
                  <a:pt x="16968" y="9039"/>
                  <a:pt x="16901" y="8940"/>
                  <a:pt x="16867" y="8830"/>
                </a:cubicBezTo>
                <a:cubicBezTo>
                  <a:pt x="16855" y="8791"/>
                  <a:pt x="16778" y="8574"/>
                  <a:pt x="16793" y="8508"/>
                </a:cubicBezTo>
                <a:cubicBezTo>
                  <a:pt x="16802" y="8468"/>
                  <a:pt x="16855" y="8415"/>
                  <a:pt x="16892" y="8409"/>
                </a:cubicBezTo>
                <a:cubicBezTo>
                  <a:pt x="16977" y="8395"/>
                  <a:pt x="17085" y="8445"/>
                  <a:pt x="17140" y="8508"/>
                </a:cubicBezTo>
                <a:cubicBezTo>
                  <a:pt x="17228" y="8609"/>
                  <a:pt x="17232" y="8690"/>
                  <a:pt x="17264" y="8806"/>
                </a:cubicBezTo>
                <a:cubicBezTo>
                  <a:pt x="17285" y="8883"/>
                  <a:pt x="17340" y="8953"/>
                  <a:pt x="17363" y="9029"/>
                </a:cubicBezTo>
                <a:cubicBezTo>
                  <a:pt x="17375" y="9069"/>
                  <a:pt x="17390" y="9100"/>
                  <a:pt x="17438" y="9103"/>
                </a:cubicBezTo>
                <a:cubicBezTo>
                  <a:pt x="17462" y="9103"/>
                  <a:pt x="17471" y="9103"/>
                  <a:pt x="17487" y="9103"/>
                </a:cubicBezTo>
              </a:path>
              <a:path w="5656" h="2184">
                <a:moveTo>
                  <a:pt x="17785" y="8235"/>
                </a:moveTo>
                <a:cubicBezTo>
                  <a:pt x="17573" y="8217"/>
                  <a:pt x="17527" y="8215"/>
                  <a:pt x="17388" y="8384"/>
                </a:cubicBezTo>
                <a:cubicBezTo>
                  <a:pt x="17311" y="8478"/>
                  <a:pt x="17269" y="8535"/>
                  <a:pt x="17264" y="8657"/>
                </a:cubicBezTo>
                <a:cubicBezTo>
                  <a:pt x="17260" y="8759"/>
                  <a:pt x="17257" y="8775"/>
                  <a:pt x="17338" y="8830"/>
                </a:cubicBezTo>
                <a:cubicBezTo>
                  <a:pt x="17402" y="8874"/>
                  <a:pt x="17473" y="8860"/>
                  <a:pt x="17537" y="8830"/>
                </a:cubicBezTo>
                <a:cubicBezTo>
                  <a:pt x="17644" y="8781"/>
                  <a:pt x="17729" y="8701"/>
                  <a:pt x="17760" y="8582"/>
                </a:cubicBezTo>
                <a:cubicBezTo>
                  <a:pt x="17780" y="8506"/>
                  <a:pt x="17785" y="8415"/>
                  <a:pt x="17785" y="8334"/>
                </a:cubicBezTo>
                <a:cubicBezTo>
                  <a:pt x="17785" y="8260"/>
                  <a:pt x="17745" y="8223"/>
                  <a:pt x="17711" y="8161"/>
                </a:cubicBezTo>
                <a:cubicBezTo>
                  <a:pt x="17734" y="8224"/>
                  <a:pt x="17762" y="8293"/>
                  <a:pt x="17785" y="8359"/>
                </a:cubicBezTo>
                <a:cubicBezTo>
                  <a:pt x="17832" y="8494"/>
                  <a:pt x="17899" y="8626"/>
                  <a:pt x="17959" y="8756"/>
                </a:cubicBezTo>
                <a:cubicBezTo>
                  <a:pt x="18023" y="8895"/>
                  <a:pt x="18088" y="9050"/>
                  <a:pt x="18107" y="9203"/>
                </a:cubicBezTo>
                <a:cubicBezTo>
                  <a:pt x="18129" y="9381"/>
                  <a:pt x="18085" y="9540"/>
                  <a:pt x="18008" y="9699"/>
                </a:cubicBezTo>
                <a:cubicBezTo>
                  <a:pt x="17955" y="9808"/>
                  <a:pt x="17875" y="9864"/>
                  <a:pt x="17760" y="9872"/>
                </a:cubicBezTo>
                <a:cubicBezTo>
                  <a:pt x="17646" y="9880"/>
                  <a:pt x="17547" y="9820"/>
                  <a:pt x="17462" y="9748"/>
                </a:cubicBezTo>
                <a:cubicBezTo>
                  <a:pt x="17388" y="9674"/>
                  <a:pt x="17363" y="9649"/>
                  <a:pt x="17314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6040" y="4160880"/>
            <a:ext cx="938160" cy="590400"/>
          </a:xfrm>
          <a:custGeom>
            <a:avLst/>
            <a:gdLst/>
            <a:ahLst/>
            <a:rect l="l" t="t" r="r" b="b"/>
            <a:pathLst>
              <a:path w="2606" h="1638">
                <a:moveTo>
                  <a:pt x="1960" y="12055"/>
                </a:moveTo>
                <a:cubicBezTo>
                  <a:pt x="2071" y="12079"/>
                  <a:pt x="2112" y="12073"/>
                  <a:pt x="2208" y="12055"/>
                </a:cubicBezTo>
                <a:cubicBezTo>
                  <a:pt x="2280" y="12041"/>
                  <a:pt x="2316" y="12032"/>
                  <a:pt x="2356" y="11981"/>
                </a:cubicBezTo>
                <a:cubicBezTo>
                  <a:pt x="2364" y="11973"/>
                  <a:pt x="2373" y="11964"/>
                  <a:pt x="2381" y="11956"/>
                </a:cubicBezTo>
              </a:path>
              <a:path w="2606" h="1638">
                <a:moveTo>
                  <a:pt x="1935" y="12005"/>
                </a:moveTo>
                <a:cubicBezTo>
                  <a:pt x="1909" y="12041"/>
                  <a:pt x="1823" y="12134"/>
                  <a:pt x="1811" y="12179"/>
                </a:cubicBezTo>
                <a:cubicBezTo>
                  <a:pt x="1799" y="12225"/>
                  <a:pt x="1803" y="12317"/>
                  <a:pt x="1836" y="12328"/>
                </a:cubicBezTo>
                <a:cubicBezTo>
                  <a:pt x="1869" y="12317"/>
                  <a:pt x="1867" y="12292"/>
                  <a:pt x="1910" y="12278"/>
                </a:cubicBezTo>
                <a:cubicBezTo>
                  <a:pt x="1945" y="12266"/>
                  <a:pt x="1975" y="12240"/>
                  <a:pt x="2009" y="12229"/>
                </a:cubicBezTo>
                <a:cubicBezTo>
                  <a:pt x="2055" y="12214"/>
                  <a:pt x="2126" y="12229"/>
                  <a:pt x="2158" y="12254"/>
                </a:cubicBezTo>
                <a:cubicBezTo>
                  <a:pt x="2204" y="12290"/>
                  <a:pt x="2282" y="12384"/>
                  <a:pt x="2307" y="12427"/>
                </a:cubicBezTo>
                <a:cubicBezTo>
                  <a:pt x="2339" y="12482"/>
                  <a:pt x="2353" y="12588"/>
                  <a:pt x="2356" y="12650"/>
                </a:cubicBezTo>
                <a:cubicBezTo>
                  <a:pt x="2359" y="12706"/>
                  <a:pt x="2340" y="12784"/>
                  <a:pt x="2307" y="12824"/>
                </a:cubicBezTo>
                <a:cubicBezTo>
                  <a:pt x="2273" y="12866"/>
                  <a:pt x="2233" y="12874"/>
                  <a:pt x="2183" y="12874"/>
                </a:cubicBezTo>
                <a:cubicBezTo>
                  <a:pt x="2116" y="12874"/>
                  <a:pt x="2090" y="12866"/>
                  <a:pt x="2034" y="12824"/>
                </a:cubicBezTo>
                <a:cubicBezTo>
                  <a:pt x="1995" y="12795"/>
                  <a:pt x="1981" y="12757"/>
                  <a:pt x="1960" y="12725"/>
                </a:cubicBezTo>
                <a:cubicBezTo>
                  <a:pt x="1952" y="12717"/>
                  <a:pt x="1943" y="12708"/>
                  <a:pt x="1935" y="12700"/>
                </a:cubicBezTo>
              </a:path>
              <a:path w="2606" h="1638">
                <a:moveTo>
                  <a:pt x="2381" y="11683"/>
                </a:moveTo>
                <a:cubicBezTo>
                  <a:pt x="2193" y="11602"/>
                  <a:pt x="2122" y="11559"/>
                  <a:pt x="1935" y="11559"/>
                </a:cubicBezTo>
                <a:cubicBezTo>
                  <a:pt x="1860" y="11559"/>
                  <a:pt x="1728" y="11571"/>
                  <a:pt x="1662" y="11609"/>
                </a:cubicBezTo>
                <a:cubicBezTo>
                  <a:pt x="1585" y="11654"/>
                  <a:pt x="1461" y="11761"/>
                  <a:pt x="1414" y="11832"/>
                </a:cubicBezTo>
                <a:cubicBezTo>
                  <a:pt x="1365" y="11906"/>
                  <a:pt x="1322" y="11995"/>
                  <a:pt x="1290" y="12080"/>
                </a:cubicBezTo>
                <a:cubicBezTo>
                  <a:pt x="1254" y="12174"/>
                  <a:pt x="1221" y="12275"/>
                  <a:pt x="1240" y="12378"/>
                </a:cubicBezTo>
                <a:cubicBezTo>
                  <a:pt x="1256" y="12463"/>
                  <a:pt x="1295" y="12575"/>
                  <a:pt x="1339" y="12650"/>
                </a:cubicBezTo>
                <a:cubicBezTo>
                  <a:pt x="1403" y="12759"/>
                  <a:pt x="1462" y="12823"/>
                  <a:pt x="1538" y="12923"/>
                </a:cubicBezTo>
                <a:cubicBezTo>
                  <a:pt x="1587" y="12987"/>
                  <a:pt x="1684" y="13088"/>
                  <a:pt x="1761" y="13122"/>
                </a:cubicBezTo>
                <a:cubicBezTo>
                  <a:pt x="1887" y="13178"/>
                  <a:pt x="2071" y="13217"/>
                  <a:pt x="2208" y="13196"/>
                </a:cubicBezTo>
                <a:cubicBezTo>
                  <a:pt x="2341" y="13176"/>
                  <a:pt x="2464" y="13132"/>
                  <a:pt x="2580" y="13072"/>
                </a:cubicBezTo>
                <a:cubicBezTo>
                  <a:pt x="2704" y="13008"/>
                  <a:pt x="2813" y="12908"/>
                  <a:pt x="2902" y="12799"/>
                </a:cubicBezTo>
                <a:cubicBezTo>
                  <a:pt x="2961" y="12727"/>
                  <a:pt x="3056" y="12567"/>
                  <a:pt x="3076" y="12477"/>
                </a:cubicBezTo>
                <a:cubicBezTo>
                  <a:pt x="3097" y="12384"/>
                  <a:pt x="3097" y="12190"/>
                  <a:pt x="3051" y="12105"/>
                </a:cubicBezTo>
                <a:cubicBezTo>
                  <a:pt x="2980" y="11972"/>
                  <a:pt x="2900" y="11866"/>
                  <a:pt x="2778" y="11782"/>
                </a:cubicBezTo>
                <a:cubicBezTo>
                  <a:pt x="2699" y="11728"/>
                  <a:pt x="2621" y="11711"/>
                  <a:pt x="2530" y="11683"/>
                </a:cubicBezTo>
              </a:path>
              <a:path w="2606" h="1638">
                <a:moveTo>
                  <a:pt x="3547" y="12254"/>
                </a:moveTo>
                <a:cubicBezTo>
                  <a:pt x="3562" y="12314"/>
                  <a:pt x="3586" y="12303"/>
                  <a:pt x="3646" y="12303"/>
                </a:cubicBezTo>
                <a:cubicBezTo>
                  <a:pt x="3712" y="12303"/>
                  <a:pt x="3779" y="12303"/>
                  <a:pt x="3845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33680" y="4205160"/>
            <a:ext cx="376200" cy="403200"/>
          </a:xfrm>
          <a:custGeom>
            <a:avLst/>
            <a:gdLst/>
            <a:ahLst/>
            <a:rect l="l" t="t" r="r" b="b"/>
            <a:pathLst>
              <a:path w="1043" h="1117">
                <a:moveTo>
                  <a:pt x="4539" y="12005"/>
                </a:moveTo>
                <a:cubicBezTo>
                  <a:pt x="4568" y="11927"/>
                  <a:pt x="4560" y="11912"/>
                  <a:pt x="4614" y="11857"/>
                </a:cubicBezTo>
                <a:cubicBezTo>
                  <a:pt x="4663" y="11808"/>
                  <a:pt x="4708" y="11773"/>
                  <a:pt x="4762" y="11733"/>
                </a:cubicBezTo>
                <a:cubicBezTo>
                  <a:pt x="4795" y="11708"/>
                  <a:pt x="4866" y="11675"/>
                  <a:pt x="4911" y="11683"/>
                </a:cubicBezTo>
                <a:cubicBezTo>
                  <a:pt x="4972" y="11694"/>
                  <a:pt x="5024" y="11728"/>
                  <a:pt x="5060" y="11782"/>
                </a:cubicBezTo>
                <a:cubicBezTo>
                  <a:pt x="5094" y="11833"/>
                  <a:pt x="5107" y="11922"/>
                  <a:pt x="5110" y="11981"/>
                </a:cubicBezTo>
                <a:cubicBezTo>
                  <a:pt x="5114" y="12067"/>
                  <a:pt x="5107" y="12173"/>
                  <a:pt x="5085" y="12254"/>
                </a:cubicBezTo>
                <a:cubicBezTo>
                  <a:pt x="5064" y="12329"/>
                  <a:pt x="5021" y="12407"/>
                  <a:pt x="4986" y="12477"/>
                </a:cubicBezTo>
                <a:cubicBezTo>
                  <a:pt x="4966" y="12517"/>
                  <a:pt x="4881" y="12611"/>
                  <a:pt x="4837" y="12626"/>
                </a:cubicBezTo>
                <a:cubicBezTo>
                  <a:pt x="4796" y="12640"/>
                  <a:pt x="4734" y="12659"/>
                  <a:pt x="4688" y="12650"/>
                </a:cubicBezTo>
                <a:cubicBezTo>
                  <a:pt x="4664" y="12645"/>
                  <a:pt x="4616" y="12609"/>
                  <a:pt x="4614" y="12601"/>
                </a:cubicBezTo>
                <a:cubicBezTo>
                  <a:pt x="4614" y="12576"/>
                  <a:pt x="4614" y="12568"/>
                  <a:pt x="4614" y="12551"/>
                </a:cubicBezTo>
                <a:cubicBezTo>
                  <a:pt x="4660" y="12520"/>
                  <a:pt x="4701" y="12505"/>
                  <a:pt x="4762" y="12502"/>
                </a:cubicBezTo>
                <a:cubicBezTo>
                  <a:pt x="4834" y="12499"/>
                  <a:pt x="4893" y="12500"/>
                  <a:pt x="4961" y="12526"/>
                </a:cubicBezTo>
                <a:cubicBezTo>
                  <a:pt x="5077" y="12570"/>
                  <a:pt x="5175" y="12646"/>
                  <a:pt x="5283" y="12700"/>
                </a:cubicBezTo>
                <a:cubicBezTo>
                  <a:pt x="5351" y="12734"/>
                  <a:pt x="5458" y="12784"/>
                  <a:pt x="5531" y="12799"/>
                </a:cubicBezTo>
                <a:cubicBezTo>
                  <a:pt x="5548" y="12799"/>
                  <a:pt x="5564" y="12799"/>
                  <a:pt x="5581" y="127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41720" y="4160880"/>
            <a:ext cx="1536480" cy="812880"/>
          </a:xfrm>
          <a:custGeom>
            <a:avLst/>
            <a:gdLst/>
            <a:ahLst/>
            <a:rect l="l" t="t" r="r" b="b"/>
            <a:pathLst>
              <a:path w="4267" h="2258">
                <a:moveTo>
                  <a:pt x="6350" y="12700"/>
                </a:moveTo>
                <a:cubicBezTo>
                  <a:pt x="6310" y="12713"/>
                  <a:pt x="6290" y="12732"/>
                  <a:pt x="6276" y="12799"/>
                </a:cubicBezTo>
                <a:cubicBezTo>
                  <a:pt x="6260" y="12875"/>
                  <a:pt x="6243" y="12943"/>
                  <a:pt x="6226" y="13022"/>
                </a:cubicBezTo>
                <a:cubicBezTo>
                  <a:pt x="6218" y="13060"/>
                  <a:pt x="6226" y="13107"/>
                  <a:pt x="6226" y="13146"/>
                </a:cubicBezTo>
              </a:path>
              <a:path w="4267" h="2258">
                <a:moveTo>
                  <a:pt x="7367" y="11956"/>
                </a:moveTo>
                <a:cubicBezTo>
                  <a:pt x="7388" y="12012"/>
                  <a:pt x="7392" y="12046"/>
                  <a:pt x="7392" y="12105"/>
                </a:cubicBezTo>
                <a:cubicBezTo>
                  <a:pt x="7392" y="12164"/>
                  <a:pt x="7381" y="12270"/>
                  <a:pt x="7367" y="12328"/>
                </a:cubicBezTo>
                <a:cubicBezTo>
                  <a:pt x="7348" y="12406"/>
                  <a:pt x="7327" y="12494"/>
                  <a:pt x="7317" y="12576"/>
                </a:cubicBezTo>
                <a:cubicBezTo>
                  <a:pt x="7302" y="12705"/>
                  <a:pt x="7317" y="12843"/>
                  <a:pt x="7317" y="12973"/>
                </a:cubicBezTo>
              </a:path>
              <a:path w="4267" h="2258">
                <a:moveTo>
                  <a:pt x="7516" y="12328"/>
                </a:moveTo>
                <a:cubicBezTo>
                  <a:pt x="7464" y="12328"/>
                  <a:pt x="7463" y="12342"/>
                  <a:pt x="7441" y="12353"/>
                </a:cubicBezTo>
                <a:cubicBezTo>
                  <a:pt x="7416" y="12366"/>
                  <a:pt x="7343" y="12369"/>
                  <a:pt x="7317" y="12378"/>
                </a:cubicBezTo>
                <a:cubicBezTo>
                  <a:pt x="7265" y="12396"/>
                  <a:pt x="7235" y="12358"/>
                  <a:pt x="7193" y="12353"/>
                </a:cubicBezTo>
                <a:cubicBezTo>
                  <a:pt x="7157" y="12349"/>
                  <a:pt x="7116" y="12311"/>
                  <a:pt x="7094" y="12278"/>
                </a:cubicBezTo>
                <a:cubicBezTo>
                  <a:pt x="7066" y="12234"/>
                  <a:pt x="7029" y="12173"/>
                  <a:pt x="7020" y="12129"/>
                </a:cubicBezTo>
                <a:cubicBezTo>
                  <a:pt x="7009" y="12074"/>
                  <a:pt x="7004" y="12009"/>
                  <a:pt x="6995" y="11956"/>
                </a:cubicBezTo>
                <a:cubicBezTo>
                  <a:pt x="6978" y="11861"/>
                  <a:pt x="6982" y="11717"/>
                  <a:pt x="7020" y="11633"/>
                </a:cubicBezTo>
                <a:cubicBezTo>
                  <a:pt x="7040" y="11593"/>
                  <a:pt x="7049" y="11587"/>
                  <a:pt x="7045" y="11559"/>
                </a:cubicBezTo>
              </a:path>
              <a:path w="4267" h="2258">
                <a:moveTo>
                  <a:pt x="8210" y="13221"/>
                </a:moveTo>
                <a:cubicBezTo>
                  <a:pt x="8174" y="13234"/>
                  <a:pt x="8186" y="13251"/>
                  <a:pt x="8186" y="13295"/>
                </a:cubicBezTo>
                <a:cubicBezTo>
                  <a:pt x="8186" y="13342"/>
                  <a:pt x="8174" y="13420"/>
                  <a:pt x="8161" y="13469"/>
                </a:cubicBezTo>
                <a:cubicBezTo>
                  <a:pt x="8135" y="13568"/>
                  <a:pt x="8083" y="13652"/>
                  <a:pt x="8062" y="13742"/>
                </a:cubicBezTo>
                <a:cubicBezTo>
                  <a:pt x="8062" y="13783"/>
                  <a:pt x="8062" y="13791"/>
                  <a:pt x="8062" y="13816"/>
                </a:cubicBezTo>
              </a:path>
              <a:path w="4267" h="2258">
                <a:moveTo>
                  <a:pt x="8607" y="12551"/>
                </a:moveTo>
                <a:cubicBezTo>
                  <a:pt x="8582" y="12551"/>
                  <a:pt x="8574" y="12551"/>
                  <a:pt x="8558" y="12551"/>
                </a:cubicBezTo>
                <a:cubicBezTo>
                  <a:pt x="8619" y="12551"/>
                  <a:pt x="8658" y="12536"/>
                  <a:pt x="8706" y="12526"/>
                </a:cubicBezTo>
                <a:cubicBezTo>
                  <a:pt x="8791" y="12508"/>
                  <a:pt x="8876" y="12527"/>
                  <a:pt x="8954" y="12502"/>
                </a:cubicBezTo>
                <a:cubicBezTo>
                  <a:pt x="8979" y="12502"/>
                  <a:pt x="8987" y="12502"/>
                  <a:pt x="9004" y="12502"/>
                </a:cubicBezTo>
              </a:path>
              <a:path w="4267" h="2258">
                <a:moveTo>
                  <a:pt x="9798" y="11931"/>
                </a:moveTo>
                <a:cubicBezTo>
                  <a:pt x="9785" y="11893"/>
                  <a:pt x="9768" y="11906"/>
                  <a:pt x="9723" y="11906"/>
                </a:cubicBezTo>
                <a:cubicBezTo>
                  <a:pt x="9665" y="11906"/>
                  <a:pt x="9603" y="11913"/>
                  <a:pt x="9550" y="11931"/>
                </a:cubicBezTo>
                <a:cubicBezTo>
                  <a:pt x="9486" y="11952"/>
                  <a:pt x="9431" y="11997"/>
                  <a:pt x="9376" y="12030"/>
                </a:cubicBezTo>
                <a:cubicBezTo>
                  <a:pt x="9326" y="12060"/>
                  <a:pt x="9315" y="12054"/>
                  <a:pt x="9302" y="12105"/>
                </a:cubicBezTo>
                <a:cubicBezTo>
                  <a:pt x="9332" y="12129"/>
                  <a:pt x="9386" y="12169"/>
                  <a:pt x="9426" y="12179"/>
                </a:cubicBezTo>
                <a:cubicBezTo>
                  <a:pt x="9494" y="12195"/>
                  <a:pt x="9543" y="12203"/>
                  <a:pt x="9599" y="12254"/>
                </a:cubicBezTo>
                <a:cubicBezTo>
                  <a:pt x="9663" y="12314"/>
                  <a:pt x="9746" y="12337"/>
                  <a:pt x="9798" y="12402"/>
                </a:cubicBezTo>
                <a:cubicBezTo>
                  <a:pt x="9832" y="12444"/>
                  <a:pt x="9884" y="12547"/>
                  <a:pt x="9872" y="12601"/>
                </a:cubicBezTo>
                <a:cubicBezTo>
                  <a:pt x="9857" y="12670"/>
                  <a:pt x="9831" y="12734"/>
                  <a:pt x="9798" y="12799"/>
                </a:cubicBezTo>
                <a:cubicBezTo>
                  <a:pt x="9764" y="12867"/>
                  <a:pt x="9704" y="12902"/>
                  <a:pt x="9649" y="12948"/>
                </a:cubicBezTo>
                <a:cubicBezTo>
                  <a:pt x="9586" y="13001"/>
                  <a:pt x="9549" y="12972"/>
                  <a:pt x="9500" y="12923"/>
                </a:cubicBezTo>
                <a:cubicBezTo>
                  <a:pt x="9462" y="12885"/>
                  <a:pt x="9454" y="12828"/>
                  <a:pt x="9451" y="12774"/>
                </a:cubicBezTo>
                <a:cubicBezTo>
                  <a:pt x="9446" y="12683"/>
                  <a:pt x="9471" y="12612"/>
                  <a:pt x="9500" y="12526"/>
                </a:cubicBezTo>
                <a:cubicBezTo>
                  <a:pt x="9528" y="12442"/>
                  <a:pt x="9559" y="12341"/>
                  <a:pt x="9575" y="12254"/>
                </a:cubicBezTo>
                <a:cubicBezTo>
                  <a:pt x="9589" y="12177"/>
                  <a:pt x="9592" y="12102"/>
                  <a:pt x="9624" y="12030"/>
                </a:cubicBezTo>
                <a:cubicBezTo>
                  <a:pt x="9646" y="11981"/>
                  <a:pt x="9649" y="11948"/>
                  <a:pt x="9674" y="11906"/>
                </a:cubicBezTo>
              </a:path>
              <a:path w="4267" h="2258">
                <a:moveTo>
                  <a:pt x="10492" y="13022"/>
                </a:moveTo>
                <a:cubicBezTo>
                  <a:pt x="10458" y="13091"/>
                  <a:pt x="10385" y="13194"/>
                  <a:pt x="10368" y="13271"/>
                </a:cubicBezTo>
                <a:cubicBezTo>
                  <a:pt x="10355" y="13327"/>
                  <a:pt x="10329" y="13396"/>
                  <a:pt x="10319" y="13444"/>
                </a:cubicBezTo>
                <a:cubicBezTo>
                  <a:pt x="10313" y="13472"/>
                  <a:pt x="10319" y="13513"/>
                  <a:pt x="10319" y="135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81320" y="4321080"/>
            <a:ext cx="241560" cy="438120"/>
          </a:xfrm>
          <a:custGeom>
            <a:avLst/>
            <a:gdLst/>
            <a:ahLst/>
            <a:rect l="l" t="t" r="r" b="b"/>
            <a:pathLst>
              <a:path w="670" h="1217">
                <a:moveTo>
                  <a:pt x="11832" y="12204"/>
                </a:moveTo>
                <a:cubicBezTo>
                  <a:pt x="11854" y="12182"/>
                  <a:pt x="11859" y="12173"/>
                  <a:pt x="11881" y="12179"/>
                </a:cubicBezTo>
                <a:cubicBezTo>
                  <a:pt x="11871" y="12210"/>
                  <a:pt x="11849" y="12215"/>
                  <a:pt x="11832" y="12254"/>
                </a:cubicBezTo>
                <a:cubicBezTo>
                  <a:pt x="11802" y="12322"/>
                  <a:pt x="11748" y="12367"/>
                  <a:pt x="11708" y="12427"/>
                </a:cubicBezTo>
                <a:cubicBezTo>
                  <a:pt x="11639" y="12531"/>
                  <a:pt x="11616" y="12639"/>
                  <a:pt x="11584" y="12750"/>
                </a:cubicBezTo>
                <a:cubicBezTo>
                  <a:pt x="11567" y="12810"/>
                  <a:pt x="11540" y="12881"/>
                  <a:pt x="11559" y="12948"/>
                </a:cubicBezTo>
                <a:cubicBezTo>
                  <a:pt x="11576" y="13009"/>
                  <a:pt x="11621" y="13099"/>
                  <a:pt x="11683" y="13122"/>
                </a:cubicBezTo>
                <a:cubicBezTo>
                  <a:pt x="11745" y="13145"/>
                  <a:pt x="11776" y="13138"/>
                  <a:pt x="11832" y="13122"/>
                </a:cubicBezTo>
                <a:cubicBezTo>
                  <a:pt x="11871" y="13111"/>
                  <a:pt x="11920" y="13074"/>
                  <a:pt x="11956" y="13047"/>
                </a:cubicBezTo>
                <a:cubicBezTo>
                  <a:pt x="11982" y="13028"/>
                  <a:pt x="12003" y="12978"/>
                  <a:pt x="12005" y="12948"/>
                </a:cubicBezTo>
                <a:cubicBezTo>
                  <a:pt x="12008" y="12900"/>
                  <a:pt x="12008" y="12847"/>
                  <a:pt x="11956" y="12824"/>
                </a:cubicBezTo>
                <a:cubicBezTo>
                  <a:pt x="11890" y="12795"/>
                  <a:pt x="11793" y="12838"/>
                  <a:pt x="11733" y="12849"/>
                </a:cubicBezTo>
                <a:cubicBezTo>
                  <a:pt x="11688" y="12849"/>
                  <a:pt x="11675" y="12846"/>
                  <a:pt x="11658" y="12874"/>
                </a:cubicBezTo>
              </a:path>
              <a:path w="670" h="1217">
                <a:moveTo>
                  <a:pt x="11435" y="12005"/>
                </a:moveTo>
                <a:cubicBezTo>
                  <a:pt x="11457" y="12116"/>
                  <a:pt x="11462" y="12194"/>
                  <a:pt x="11435" y="12303"/>
                </a:cubicBezTo>
                <a:cubicBezTo>
                  <a:pt x="11409" y="12407"/>
                  <a:pt x="11399" y="12496"/>
                  <a:pt x="11385" y="12601"/>
                </a:cubicBezTo>
                <a:cubicBezTo>
                  <a:pt x="11367" y="12734"/>
                  <a:pt x="11336" y="12839"/>
                  <a:pt x="11336" y="12973"/>
                </a:cubicBezTo>
                <a:cubicBezTo>
                  <a:pt x="11336" y="13064"/>
                  <a:pt x="11350" y="13136"/>
                  <a:pt x="11361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81360" y="4259160"/>
            <a:ext cx="2633760" cy="812880"/>
          </a:xfrm>
          <a:custGeom>
            <a:avLst/>
            <a:gdLst/>
            <a:ahLst/>
            <a:rect l="l" t="t" r="r" b="b"/>
            <a:pathLst>
              <a:path w="7318" h="2258">
                <a:moveTo>
                  <a:pt x="12750" y="13196"/>
                </a:moveTo>
                <a:cubicBezTo>
                  <a:pt x="12750" y="13204"/>
                  <a:pt x="12750" y="13213"/>
                  <a:pt x="12750" y="13221"/>
                </a:cubicBezTo>
                <a:cubicBezTo>
                  <a:pt x="12786" y="13234"/>
                  <a:pt x="12774" y="13251"/>
                  <a:pt x="12774" y="13295"/>
                </a:cubicBezTo>
                <a:cubicBezTo>
                  <a:pt x="12774" y="13340"/>
                  <a:pt x="12753" y="13355"/>
                  <a:pt x="12750" y="13395"/>
                </a:cubicBezTo>
                <a:cubicBezTo>
                  <a:pt x="12746" y="13456"/>
                  <a:pt x="12740" y="13492"/>
                  <a:pt x="12725" y="13543"/>
                </a:cubicBezTo>
                <a:cubicBezTo>
                  <a:pt x="12725" y="13551"/>
                  <a:pt x="12725" y="13560"/>
                  <a:pt x="12725" y="13568"/>
                </a:cubicBezTo>
              </a:path>
              <a:path w="7318" h="2258">
                <a:moveTo>
                  <a:pt x="13395" y="12601"/>
                </a:moveTo>
                <a:cubicBezTo>
                  <a:pt x="13395" y="12593"/>
                  <a:pt x="13395" y="12584"/>
                  <a:pt x="13395" y="12576"/>
                </a:cubicBezTo>
                <a:cubicBezTo>
                  <a:pt x="13425" y="12568"/>
                  <a:pt x="13490" y="12563"/>
                  <a:pt x="13519" y="12551"/>
                </a:cubicBezTo>
                <a:cubicBezTo>
                  <a:pt x="13543" y="12541"/>
                  <a:pt x="13596" y="12538"/>
                  <a:pt x="13618" y="12526"/>
                </a:cubicBezTo>
                <a:cubicBezTo>
                  <a:pt x="13659" y="12504"/>
                  <a:pt x="13667" y="12502"/>
                  <a:pt x="13717" y="12502"/>
                </a:cubicBezTo>
                <a:cubicBezTo>
                  <a:pt x="13745" y="12502"/>
                  <a:pt x="13756" y="12500"/>
                  <a:pt x="13767" y="12477"/>
                </a:cubicBezTo>
              </a:path>
              <a:path w="7318" h="2258">
                <a:moveTo>
                  <a:pt x="14114" y="12005"/>
                </a:moveTo>
                <a:cubicBezTo>
                  <a:pt x="14136" y="11989"/>
                  <a:pt x="14184" y="11948"/>
                  <a:pt x="14213" y="11956"/>
                </a:cubicBezTo>
                <a:cubicBezTo>
                  <a:pt x="14272" y="11973"/>
                  <a:pt x="14308" y="12002"/>
                  <a:pt x="14362" y="12030"/>
                </a:cubicBezTo>
                <a:cubicBezTo>
                  <a:pt x="14428" y="12065"/>
                  <a:pt x="14438" y="12101"/>
                  <a:pt x="14486" y="12154"/>
                </a:cubicBezTo>
                <a:cubicBezTo>
                  <a:pt x="14523" y="12195"/>
                  <a:pt x="14554" y="12218"/>
                  <a:pt x="14560" y="12278"/>
                </a:cubicBezTo>
                <a:cubicBezTo>
                  <a:pt x="14564" y="12320"/>
                  <a:pt x="14518" y="12303"/>
                  <a:pt x="14486" y="12303"/>
                </a:cubicBezTo>
              </a:path>
              <a:path w="7318" h="2258">
                <a:moveTo>
                  <a:pt x="14511" y="12378"/>
                </a:moveTo>
                <a:cubicBezTo>
                  <a:pt x="14592" y="12467"/>
                  <a:pt x="14657" y="12563"/>
                  <a:pt x="14709" y="12675"/>
                </a:cubicBezTo>
                <a:cubicBezTo>
                  <a:pt x="14769" y="12804"/>
                  <a:pt x="14796" y="12875"/>
                  <a:pt x="14833" y="13022"/>
                </a:cubicBezTo>
                <a:cubicBezTo>
                  <a:pt x="14854" y="13106"/>
                  <a:pt x="14878" y="13207"/>
                  <a:pt x="14858" y="13295"/>
                </a:cubicBezTo>
                <a:cubicBezTo>
                  <a:pt x="14834" y="13398"/>
                  <a:pt x="14732" y="13527"/>
                  <a:pt x="14635" y="13568"/>
                </a:cubicBezTo>
                <a:cubicBezTo>
                  <a:pt x="14533" y="13611"/>
                  <a:pt x="14391" y="13651"/>
                  <a:pt x="14288" y="13618"/>
                </a:cubicBezTo>
                <a:cubicBezTo>
                  <a:pt x="14238" y="13602"/>
                  <a:pt x="14169" y="13566"/>
                  <a:pt x="14139" y="13519"/>
                </a:cubicBezTo>
                <a:cubicBezTo>
                  <a:pt x="14092" y="13446"/>
                  <a:pt x="14123" y="13466"/>
                  <a:pt x="14139" y="13395"/>
                </a:cubicBezTo>
              </a:path>
              <a:path w="7318" h="2258">
                <a:moveTo>
                  <a:pt x="15056" y="12650"/>
                </a:moveTo>
                <a:cubicBezTo>
                  <a:pt x="15056" y="12591"/>
                  <a:pt x="15045" y="12546"/>
                  <a:pt x="15081" y="12502"/>
                </a:cubicBezTo>
                <a:cubicBezTo>
                  <a:pt x="15118" y="12457"/>
                  <a:pt x="15160" y="12435"/>
                  <a:pt x="15205" y="12402"/>
                </a:cubicBezTo>
                <a:cubicBezTo>
                  <a:pt x="15251" y="12368"/>
                  <a:pt x="15296" y="12378"/>
                  <a:pt x="15354" y="12378"/>
                </a:cubicBezTo>
                <a:cubicBezTo>
                  <a:pt x="15436" y="12378"/>
                  <a:pt x="15459" y="12397"/>
                  <a:pt x="15528" y="12452"/>
                </a:cubicBezTo>
                <a:cubicBezTo>
                  <a:pt x="15574" y="12489"/>
                  <a:pt x="15599" y="12572"/>
                  <a:pt x="15602" y="12626"/>
                </a:cubicBezTo>
                <a:cubicBezTo>
                  <a:pt x="15610" y="12765"/>
                  <a:pt x="15624" y="12941"/>
                  <a:pt x="15577" y="13072"/>
                </a:cubicBezTo>
                <a:cubicBezTo>
                  <a:pt x="15552" y="13142"/>
                  <a:pt x="15524" y="13235"/>
                  <a:pt x="15478" y="13295"/>
                </a:cubicBezTo>
                <a:cubicBezTo>
                  <a:pt x="15454" y="13326"/>
                  <a:pt x="15389" y="13456"/>
                  <a:pt x="15354" y="13469"/>
                </a:cubicBezTo>
                <a:cubicBezTo>
                  <a:pt x="15325" y="13479"/>
                  <a:pt x="15289" y="13505"/>
                  <a:pt x="15255" y="13494"/>
                </a:cubicBezTo>
                <a:cubicBezTo>
                  <a:pt x="15216" y="13482"/>
                  <a:pt x="15163" y="13402"/>
                  <a:pt x="15156" y="13370"/>
                </a:cubicBezTo>
                <a:cubicBezTo>
                  <a:pt x="15137" y="13289"/>
                  <a:pt x="15171" y="13305"/>
                  <a:pt x="15205" y="13271"/>
                </a:cubicBezTo>
                <a:cubicBezTo>
                  <a:pt x="15236" y="13240"/>
                  <a:pt x="15274" y="13243"/>
                  <a:pt x="15304" y="13271"/>
                </a:cubicBezTo>
                <a:cubicBezTo>
                  <a:pt x="15359" y="13321"/>
                  <a:pt x="15398" y="13386"/>
                  <a:pt x="15453" y="13444"/>
                </a:cubicBezTo>
                <a:cubicBezTo>
                  <a:pt x="15522" y="13517"/>
                  <a:pt x="15580" y="13595"/>
                  <a:pt x="15652" y="13667"/>
                </a:cubicBezTo>
                <a:cubicBezTo>
                  <a:pt x="15706" y="13722"/>
                  <a:pt x="15725" y="13744"/>
                  <a:pt x="15751" y="13791"/>
                </a:cubicBezTo>
              </a:path>
              <a:path w="7318" h="2258">
                <a:moveTo>
                  <a:pt x="16867" y="12030"/>
                </a:moveTo>
                <a:cubicBezTo>
                  <a:pt x="16859" y="12000"/>
                  <a:pt x="16850" y="11986"/>
                  <a:pt x="16842" y="11956"/>
                </a:cubicBezTo>
              </a:path>
              <a:path w="7318" h="2258">
                <a:moveTo>
                  <a:pt x="16867" y="12030"/>
                </a:moveTo>
                <a:lnTo>
                  <a:pt x="16867" y="12030"/>
                </a:lnTo>
              </a:path>
              <a:path w="7318" h="2258">
                <a:moveTo>
                  <a:pt x="16942" y="11931"/>
                </a:moveTo>
                <a:cubicBezTo>
                  <a:pt x="16987" y="11900"/>
                  <a:pt x="17041" y="11852"/>
                  <a:pt x="17066" y="11832"/>
                </a:cubicBezTo>
                <a:cubicBezTo>
                  <a:pt x="17090" y="11832"/>
                  <a:pt x="17098" y="11832"/>
                  <a:pt x="17066" y="11832"/>
                </a:cubicBezTo>
                <a:cubicBezTo>
                  <a:pt x="16985" y="11887"/>
                  <a:pt x="16915" y="11936"/>
                  <a:pt x="16842" y="12005"/>
                </a:cubicBezTo>
                <a:cubicBezTo>
                  <a:pt x="16772" y="12071"/>
                  <a:pt x="16706" y="12080"/>
                  <a:pt x="16644" y="12154"/>
                </a:cubicBezTo>
                <a:cubicBezTo>
                  <a:pt x="16590" y="12218"/>
                  <a:pt x="16493" y="12329"/>
                  <a:pt x="16446" y="12402"/>
                </a:cubicBezTo>
                <a:cubicBezTo>
                  <a:pt x="16426" y="12443"/>
                  <a:pt x="16417" y="12449"/>
                  <a:pt x="16421" y="12477"/>
                </a:cubicBezTo>
                <a:cubicBezTo>
                  <a:pt x="16498" y="12532"/>
                  <a:pt x="16512" y="12548"/>
                  <a:pt x="16619" y="12576"/>
                </a:cubicBezTo>
                <a:cubicBezTo>
                  <a:pt x="16708" y="12599"/>
                  <a:pt x="16805" y="12610"/>
                  <a:pt x="16892" y="12650"/>
                </a:cubicBezTo>
                <a:cubicBezTo>
                  <a:pt x="16967" y="12684"/>
                  <a:pt x="17115" y="12754"/>
                  <a:pt x="17165" y="12824"/>
                </a:cubicBezTo>
                <a:cubicBezTo>
                  <a:pt x="17217" y="12898"/>
                  <a:pt x="17271" y="13031"/>
                  <a:pt x="17289" y="13122"/>
                </a:cubicBezTo>
                <a:cubicBezTo>
                  <a:pt x="17313" y="13244"/>
                  <a:pt x="17283" y="13405"/>
                  <a:pt x="17239" y="13519"/>
                </a:cubicBezTo>
                <a:cubicBezTo>
                  <a:pt x="17186" y="13657"/>
                  <a:pt x="17143" y="13786"/>
                  <a:pt x="17066" y="13915"/>
                </a:cubicBezTo>
                <a:cubicBezTo>
                  <a:pt x="17031" y="13974"/>
                  <a:pt x="16998" y="14029"/>
                  <a:pt x="16966" y="14089"/>
                </a:cubicBezTo>
                <a:cubicBezTo>
                  <a:pt x="16959" y="14026"/>
                  <a:pt x="16944" y="13943"/>
                  <a:pt x="16942" y="13866"/>
                </a:cubicBezTo>
                <a:cubicBezTo>
                  <a:pt x="16939" y="13736"/>
                  <a:pt x="16954" y="13569"/>
                  <a:pt x="16991" y="13444"/>
                </a:cubicBezTo>
                <a:cubicBezTo>
                  <a:pt x="17043" y="13269"/>
                  <a:pt x="17098" y="13094"/>
                  <a:pt x="17165" y="12923"/>
                </a:cubicBezTo>
                <a:cubicBezTo>
                  <a:pt x="17233" y="12748"/>
                  <a:pt x="17311" y="12573"/>
                  <a:pt x="17388" y="12402"/>
                </a:cubicBezTo>
                <a:cubicBezTo>
                  <a:pt x="17454" y="12256"/>
                  <a:pt x="17585" y="12103"/>
                  <a:pt x="17686" y="12005"/>
                </a:cubicBezTo>
                <a:cubicBezTo>
                  <a:pt x="17694" y="12005"/>
                  <a:pt x="17703" y="12005"/>
                  <a:pt x="17711" y="12005"/>
                </a:cubicBezTo>
                <a:cubicBezTo>
                  <a:pt x="17705" y="12120"/>
                  <a:pt x="17686" y="12215"/>
                  <a:pt x="17661" y="12328"/>
                </a:cubicBezTo>
                <a:cubicBezTo>
                  <a:pt x="17612" y="12547"/>
                  <a:pt x="17567" y="12774"/>
                  <a:pt x="17562" y="12998"/>
                </a:cubicBezTo>
                <a:cubicBezTo>
                  <a:pt x="17560" y="13106"/>
                  <a:pt x="17566" y="13253"/>
                  <a:pt x="17636" y="13345"/>
                </a:cubicBezTo>
                <a:cubicBezTo>
                  <a:pt x="17674" y="13395"/>
                  <a:pt x="17714" y="13375"/>
                  <a:pt x="17760" y="13395"/>
                </a:cubicBezTo>
                <a:cubicBezTo>
                  <a:pt x="17862" y="13299"/>
                  <a:pt x="17895" y="13226"/>
                  <a:pt x="17959" y="13097"/>
                </a:cubicBezTo>
                <a:cubicBezTo>
                  <a:pt x="18015" y="12983"/>
                  <a:pt x="18051" y="12875"/>
                  <a:pt x="18083" y="12750"/>
                </a:cubicBezTo>
                <a:cubicBezTo>
                  <a:pt x="18100" y="12684"/>
                  <a:pt x="18081" y="12625"/>
                  <a:pt x="18083" y="12576"/>
                </a:cubicBezTo>
                <a:cubicBezTo>
                  <a:pt x="18083" y="12568"/>
                  <a:pt x="18083" y="12559"/>
                  <a:pt x="18083" y="12551"/>
                </a:cubicBezTo>
                <a:cubicBezTo>
                  <a:pt x="18059" y="12624"/>
                  <a:pt x="18029" y="12715"/>
                  <a:pt x="18008" y="12799"/>
                </a:cubicBezTo>
                <a:cubicBezTo>
                  <a:pt x="17983" y="12900"/>
                  <a:pt x="17951" y="13066"/>
                  <a:pt x="17983" y="13171"/>
                </a:cubicBezTo>
                <a:cubicBezTo>
                  <a:pt x="18008" y="13196"/>
                  <a:pt x="18016" y="13204"/>
                  <a:pt x="18033" y="13221"/>
                </a:cubicBezTo>
                <a:cubicBezTo>
                  <a:pt x="18097" y="13178"/>
                  <a:pt x="18103" y="13201"/>
                  <a:pt x="18157" y="13122"/>
                </a:cubicBezTo>
                <a:cubicBezTo>
                  <a:pt x="18219" y="13032"/>
                  <a:pt x="18268" y="12940"/>
                  <a:pt x="18281" y="12824"/>
                </a:cubicBezTo>
                <a:cubicBezTo>
                  <a:pt x="18298" y="12682"/>
                  <a:pt x="18322" y="12523"/>
                  <a:pt x="18306" y="12378"/>
                </a:cubicBezTo>
                <a:cubicBezTo>
                  <a:pt x="18291" y="12234"/>
                  <a:pt x="18275" y="12167"/>
                  <a:pt x="18132" y="12129"/>
                </a:cubicBezTo>
                <a:cubicBezTo>
                  <a:pt x="18025" y="12101"/>
                  <a:pt x="17894" y="12204"/>
                  <a:pt x="17810" y="12254"/>
                </a:cubicBezTo>
                <a:cubicBezTo>
                  <a:pt x="17722" y="12307"/>
                  <a:pt x="17589" y="12341"/>
                  <a:pt x="17512" y="12402"/>
                </a:cubicBezTo>
                <a:cubicBezTo>
                  <a:pt x="17471" y="12435"/>
                  <a:pt x="17462" y="12492"/>
                  <a:pt x="17438" y="12526"/>
                </a:cubicBezTo>
                <a:cubicBezTo>
                  <a:pt x="17541" y="12600"/>
                  <a:pt x="17578" y="12631"/>
                  <a:pt x="17711" y="12650"/>
                </a:cubicBezTo>
                <a:cubicBezTo>
                  <a:pt x="17849" y="12669"/>
                  <a:pt x="17994" y="12655"/>
                  <a:pt x="18132" y="12675"/>
                </a:cubicBezTo>
                <a:cubicBezTo>
                  <a:pt x="18298" y="12699"/>
                  <a:pt x="18459" y="12738"/>
                  <a:pt x="18628" y="12725"/>
                </a:cubicBezTo>
                <a:cubicBezTo>
                  <a:pt x="18711" y="12718"/>
                  <a:pt x="18912" y="12631"/>
                  <a:pt x="18976" y="12576"/>
                </a:cubicBezTo>
                <a:cubicBezTo>
                  <a:pt x="19045" y="12517"/>
                  <a:pt x="19065" y="12497"/>
                  <a:pt x="19149" y="12452"/>
                </a:cubicBezTo>
                <a:cubicBezTo>
                  <a:pt x="19202" y="12523"/>
                  <a:pt x="19225" y="12459"/>
                  <a:pt x="19248" y="12601"/>
                </a:cubicBezTo>
                <a:cubicBezTo>
                  <a:pt x="19269" y="12726"/>
                  <a:pt x="19225" y="12900"/>
                  <a:pt x="19199" y="13022"/>
                </a:cubicBezTo>
                <a:cubicBezTo>
                  <a:pt x="19185" y="13087"/>
                  <a:pt x="19165" y="13157"/>
                  <a:pt x="19149" y="13221"/>
                </a:cubicBezTo>
                <a:cubicBezTo>
                  <a:pt x="19176" y="13147"/>
                  <a:pt x="19221" y="13055"/>
                  <a:pt x="19248" y="12973"/>
                </a:cubicBezTo>
                <a:cubicBezTo>
                  <a:pt x="19290" y="12844"/>
                  <a:pt x="19352" y="12725"/>
                  <a:pt x="19397" y="12601"/>
                </a:cubicBezTo>
                <a:cubicBezTo>
                  <a:pt x="19427" y="12519"/>
                  <a:pt x="19443" y="12538"/>
                  <a:pt x="19472" y="12502"/>
                </a:cubicBezTo>
                <a:cubicBezTo>
                  <a:pt x="19483" y="12608"/>
                  <a:pt x="19473" y="12671"/>
                  <a:pt x="19546" y="12750"/>
                </a:cubicBezTo>
                <a:cubicBezTo>
                  <a:pt x="19587" y="12794"/>
                  <a:pt x="19664" y="12827"/>
                  <a:pt x="19720" y="12849"/>
                </a:cubicBezTo>
                <a:cubicBezTo>
                  <a:pt x="19824" y="12890"/>
                  <a:pt x="19934" y="12918"/>
                  <a:pt x="20042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Page 626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#51-57,69-73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&amp; 79-83</a:t>
            </a:r>
            <a:endParaRPr b="0" lang="en-US" sz="7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1120" y="911160"/>
            <a:ext cx="392040" cy="428760"/>
          </a:xfrm>
          <a:custGeom>
            <a:avLst/>
            <a:gdLst/>
            <a:ahLst/>
            <a:rect l="l" t="t" r="r" b="b"/>
            <a:pathLst>
              <a:path w="1092" h="1192">
                <a:moveTo>
                  <a:pt x="1364" y="2952"/>
                </a:moveTo>
                <a:cubicBezTo>
                  <a:pt x="1403" y="2942"/>
                  <a:pt x="1419" y="2927"/>
                  <a:pt x="1463" y="2927"/>
                </a:cubicBezTo>
                <a:cubicBezTo>
                  <a:pt x="1497" y="2927"/>
                  <a:pt x="1605" y="2915"/>
                  <a:pt x="1637" y="2902"/>
                </a:cubicBezTo>
                <a:cubicBezTo>
                  <a:pt x="1673" y="2888"/>
                  <a:pt x="1738" y="2853"/>
                  <a:pt x="1786" y="2877"/>
                </a:cubicBezTo>
                <a:cubicBezTo>
                  <a:pt x="1847" y="2907"/>
                  <a:pt x="1792" y="2969"/>
                  <a:pt x="1786" y="3001"/>
                </a:cubicBezTo>
                <a:cubicBezTo>
                  <a:pt x="1771" y="3076"/>
                  <a:pt x="1764" y="3150"/>
                  <a:pt x="1736" y="3225"/>
                </a:cubicBezTo>
                <a:cubicBezTo>
                  <a:pt x="1708" y="3300"/>
                  <a:pt x="1694" y="3377"/>
                  <a:pt x="1662" y="3448"/>
                </a:cubicBezTo>
                <a:cubicBezTo>
                  <a:pt x="1640" y="3498"/>
                  <a:pt x="1628" y="3551"/>
                  <a:pt x="1612" y="3597"/>
                </a:cubicBezTo>
                <a:cubicBezTo>
                  <a:pt x="1595" y="3648"/>
                  <a:pt x="1632" y="3561"/>
                  <a:pt x="1637" y="3547"/>
                </a:cubicBezTo>
                <a:cubicBezTo>
                  <a:pt x="1664" y="3493"/>
                  <a:pt x="1676" y="3473"/>
                  <a:pt x="1712" y="3448"/>
                </a:cubicBezTo>
              </a:path>
              <a:path w="1092" h="1192">
                <a:moveTo>
                  <a:pt x="2108" y="2654"/>
                </a:moveTo>
                <a:cubicBezTo>
                  <a:pt x="2035" y="2562"/>
                  <a:pt x="2005" y="2535"/>
                  <a:pt x="1885" y="2530"/>
                </a:cubicBezTo>
                <a:cubicBezTo>
                  <a:pt x="1754" y="2525"/>
                  <a:pt x="1617" y="2607"/>
                  <a:pt x="1513" y="2679"/>
                </a:cubicBezTo>
                <a:cubicBezTo>
                  <a:pt x="1390" y="2764"/>
                  <a:pt x="1278" y="2865"/>
                  <a:pt x="1215" y="3001"/>
                </a:cubicBezTo>
                <a:cubicBezTo>
                  <a:pt x="1157" y="3126"/>
                  <a:pt x="1141" y="3213"/>
                  <a:pt x="1141" y="3349"/>
                </a:cubicBezTo>
                <a:cubicBezTo>
                  <a:pt x="1141" y="3440"/>
                  <a:pt x="1171" y="3555"/>
                  <a:pt x="1240" y="3621"/>
                </a:cubicBezTo>
                <a:cubicBezTo>
                  <a:pt x="1309" y="3686"/>
                  <a:pt x="1444" y="3733"/>
                  <a:pt x="1538" y="3721"/>
                </a:cubicBezTo>
                <a:cubicBezTo>
                  <a:pt x="1660" y="3706"/>
                  <a:pt x="1756" y="3688"/>
                  <a:pt x="1860" y="3621"/>
                </a:cubicBezTo>
                <a:cubicBezTo>
                  <a:pt x="1979" y="3544"/>
                  <a:pt x="2115" y="3455"/>
                  <a:pt x="2183" y="3324"/>
                </a:cubicBezTo>
                <a:cubicBezTo>
                  <a:pt x="2233" y="3228"/>
                  <a:pt x="2232" y="3130"/>
                  <a:pt x="2232" y="3026"/>
                </a:cubicBezTo>
                <a:cubicBezTo>
                  <a:pt x="2232" y="2938"/>
                  <a:pt x="2207" y="2860"/>
                  <a:pt x="2133" y="2803"/>
                </a:cubicBezTo>
                <a:cubicBezTo>
                  <a:pt x="2089" y="2769"/>
                  <a:pt x="1992" y="2717"/>
                  <a:pt x="1935" y="2729"/>
                </a:cubicBezTo>
                <a:cubicBezTo>
                  <a:pt x="1885" y="2753"/>
                  <a:pt x="1869" y="2761"/>
                  <a:pt x="1836" y="27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928800"/>
            <a:ext cx="250920" cy="277560"/>
          </a:xfrm>
          <a:custGeom>
            <a:avLst/>
            <a:gdLst/>
            <a:ahLst/>
            <a:rect l="l" t="t" r="r" b="b"/>
            <a:pathLst>
              <a:path w="696" h="770">
                <a:moveTo>
                  <a:pt x="3497" y="2629"/>
                </a:moveTo>
                <a:cubicBezTo>
                  <a:pt x="3510" y="2589"/>
                  <a:pt x="3545" y="2584"/>
                  <a:pt x="3597" y="2580"/>
                </a:cubicBezTo>
                <a:cubicBezTo>
                  <a:pt x="3665" y="2574"/>
                  <a:pt x="3714" y="2586"/>
                  <a:pt x="3770" y="2604"/>
                </a:cubicBezTo>
                <a:cubicBezTo>
                  <a:pt x="3808" y="2616"/>
                  <a:pt x="3799" y="2626"/>
                  <a:pt x="3820" y="2654"/>
                </a:cubicBezTo>
                <a:cubicBezTo>
                  <a:pt x="3849" y="2693"/>
                  <a:pt x="3847" y="2713"/>
                  <a:pt x="3820" y="2753"/>
                </a:cubicBezTo>
                <a:cubicBezTo>
                  <a:pt x="3772" y="2824"/>
                  <a:pt x="3656" y="2874"/>
                  <a:pt x="3621" y="2952"/>
                </a:cubicBezTo>
                <a:cubicBezTo>
                  <a:pt x="3610" y="2976"/>
                  <a:pt x="3603" y="3000"/>
                  <a:pt x="3597" y="3026"/>
                </a:cubicBezTo>
                <a:cubicBezTo>
                  <a:pt x="3651" y="3026"/>
                  <a:pt x="3679" y="3042"/>
                  <a:pt x="3721" y="3051"/>
                </a:cubicBezTo>
                <a:cubicBezTo>
                  <a:pt x="3770" y="3062"/>
                  <a:pt x="3869" y="3020"/>
                  <a:pt x="3894" y="3026"/>
                </a:cubicBezTo>
                <a:cubicBezTo>
                  <a:pt x="3902" y="3034"/>
                  <a:pt x="3911" y="3043"/>
                  <a:pt x="3919" y="3051"/>
                </a:cubicBezTo>
              </a:path>
              <a:path w="696" h="770">
                <a:moveTo>
                  <a:pt x="4192" y="3001"/>
                </a:moveTo>
                <a:cubicBezTo>
                  <a:pt x="4192" y="3060"/>
                  <a:pt x="4170" y="3077"/>
                  <a:pt x="4167" y="3125"/>
                </a:cubicBezTo>
                <a:cubicBezTo>
                  <a:pt x="4164" y="3170"/>
                  <a:pt x="4141" y="3235"/>
                  <a:pt x="4118" y="3274"/>
                </a:cubicBezTo>
                <a:cubicBezTo>
                  <a:pt x="4099" y="3305"/>
                  <a:pt x="4090" y="3320"/>
                  <a:pt x="4068" y="33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741240"/>
            <a:ext cx="1197000" cy="438120"/>
          </a:xfrm>
          <a:custGeom>
            <a:avLst/>
            <a:gdLst/>
            <a:ahLst/>
            <a:rect l="l" t="t" r="r" b="b"/>
            <a:pathLst>
              <a:path w="3325" h="1216">
                <a:moveTo>
                  <a:pt x="5035" y="2480"/>
                </a:moveTo>
                <a:cubicBezTo>
                  <a:pt x="5035" y="2569"/>
                  <a:pt x="5024" y="2646"/>
                  <a:pt x="5011" y="2729"/>
                </a:cubicBezTo>
                <a:cubicBezTo>
                  <a:pt x="5000" y="2798"/>
                  <a:pt x="4991" y="2863"/>
                  <a:pt x="4986" y="2927"/>
                </a:cubicBezTo>
                <a:cubicBezTo>
                  <a:pt x="4983" y="2968"/>
                  <a:pt x="4986" y="3010"/>
                  <a:pt x="4986" y="3051"/>
                </a:cubicBezTo>
              </a:path>
              <a:path w="3325" h="1216">
                <a:moveTo>
                  <a:pt x="5283" y="2952"/>
                </a:moveTo>
                <a:lnTo>
                  <a:pt x="5283" y="2952"/>
                </a:lnTo>
              </a:path>
              <a:path w="3325" h="1216">
                <a:moveTo>
                  <a:pt x="5680" y="2456"/>
                </a:moveTo>
                <a:cubicBezTo>
                  <a:pt x="5732" y="2477"/>
                  <a:pt x="5751" y="2480"/>
                  <a:pt x="5804" y="2480"/>
                </a:cubicBezTo>
                <a:cubicBezTo>
                  <a:pt x="5863" y="2480"/>
                  <a:pt x="5898" y="2461"/>
                  <a:pt x="5953" y="2456"/>
                </a:cubicBezTo>
                <a:cubicBezTo>
                  <a:pt x="5978" y="2456"/>
                  <a:pt x="5986" y="2456"/>
                  <a:pt x="6003" y="2456"/>
                </a:cubicBezTo>
              </a:path>
              <a:path w="3325" h="1216">
                <a:moveTo>
                  <a:pt x="5705" y="2530"/>
                </a:moveTo>
                <a:cubicBezTo>
                  <a:pt x="5694" y="2567"/>
                  <a:pt x="5677" y="2627"/>
                  <a:pt x="5730" y="2654"/>
                </a:cubicBezTo>
                <a:cubicBezTo>
                  <a:pt x="5766" y="2672"/>
                  <a:pt x="5817" y="2666"/>
                  <a:pt x="5854" y="2679"/>
                </a:cubicBezTo>
                <a:cubicBezTo>
                  <a:pt x="5921" y="2703"/>
                  <a:pt x="5921" y="2706"/>
                  <a:pt x="5953" y="2753"/>
                </a:cubicBezTo>
                <a:cubicBezTo>
                  <a:pt x="5968" y="2776"/>
                  <a:pt x="5997" y="2819"/>
                  <a:pt x="5978" y="2853"/>
                </a:cubicBezTo>
                <a:cubicBezTo>
                  <a:pt x="5952" y="2899"/>
                  <a:pt x="5915" y="2922"/>
                  <a:pt x="5879" y="2952"/>
                </a:cubicBezTo>
                <a:cubicBezTo>
                  <a:pt x="5846" y="2979"/>
                  <a:pt x="5817" y="3013"/>
                  <a:pt x="5779" y="3026"/>
                </a:cubicBezTo>
                <a:cubicBezTo>
                  <a:pt x="5755" y="3026"/>
                  <a:pt x="5746" y="3026"/>
                  <a:pt x="5730" y="3026"/>
                </a:cubicBezTo>
              </a:path>
              <a:path w="3325" h="1216">
                <a:moveTo>
                  <a:pt x="6152" y="3026"/>
                </a:moveTo>
                <a:cubicBezTo>
                  <a:pt x="6126" y="3072"/>
                  <a:pt x="6102" y="3134"/>
                  <a:pt x="6077" y="3175"/>
                </a:cubicBezTo>
                <a:cubicBezTo>
                  <a:pt x="6061" y="3201"/>
                  <a:pt x="6025" y="3227"/>
                  <a:pt x="6003" y="3249"/>
                </a:cubicBezTo>
              </a:path>
              <a:path w="3325" h="1216">
                <a:moveTo>
                  <a:pt x="6772" y="2406"/>
                </a:moveTo>
                <a:cubicBezTo>
                  <a:pt x="6772" y="2600"/>
                  <a:pt x="6795" y="2825"/>
                  <a:pt x="6747" y="3001"/>
                </a:cubicBezTo>
                <a:cubicBezTo>
                  <a:pt x="6736" y="3040"/>
                  <a:pt x="6745" y="3042"/>
                  <a:pt x="6772" y="3051"/>
                </a:cubicBezTo>
              </a:path>
              <a:path w="3325" h="1216">
                <a:moveTo>
                  <a:pt x="7094" y="2952"/>
                </a:moveTo>
                <a:cubicBezTo>
                  <a:pt x="7094" y="3012"/>
                  <a:pt x="7085" y="2997"/>
                  <a:pt x="7119" y="2952"/>
                </a:cubicBezTo>
              </a:path>
              <a:path w="3325" h="1216">
                <a:moveTo>
                  <a:pt x="7541" y="2356"/>
                </a:moveTo>
                <a:cubicBezTo>
                  <a:pt x="7578" y="2328"/>
                  <a:pt x="7593" y="2332"/>
                  <a:pt x="7640" y="2332"/>
                </a:cubicBezTo>
                <a:cubicBezTo>
                  <a:pt x="7696" y="2332"/>
                  <a:pt x="7859" y="2299"/>
                  <a:pt x="7888" y="2356"/>
                </a:cubicBezTo>
                <a:cubicBezTo>
                  <a:pt x="7906" y="2392"/>
                  <a:pt x="7912" y="2421"/>
                  <a:pt x="7888" y="2456"/>
                </a:cubicBezTo>
                <a:cubicBezTo>
                  <a:pt x="7859" y="2499"/>
                  <a:pt x="7808" y="2532"/>
                  <a:pt x="7764" y="2555"/>
                </a:cubicBezTo>
                <a:cubicBezTo>
                  <a:pt x="7710" y="2584"/>
                  <a:pt x="7648" y="2615"/>
                  <a:pt x="7590" y="2629"/>
                </a:cubicBezTo>
                <a:cubicBezTo>
                  <a:pt x="7528" y="2645"/>
                  <a:pt x="7546" y="2629"/>
                  <a:pt x="7615" y="2629"/>
                </a:cubicBezTo>
                <a:cubicBezTo>
                  <a:pt x="7635" y="2629"/>
                  <a:pt x="7725" y="2663"/>
                  <a:pt x="7739" y="2679"/>
                </a:cubicBezTo>
                <a:cubicBezTo>
                  <a:pt x="7787" y="2734"/>
                  <a:pt x="7773" y="2783"/>
                  <a:pt x="7764" y="2853"/>
                </a:cubicBezTo>
                <a:cubicBezTo>
                  <a:pt x="7758" y="2897"/>
                  <a:pt x="7720" y="2920"/>
                  <a:pt x="7689" y="2952"/>
                </a:cubicBezTo>
                <a:cubicBezTo>
                  <a:pt x="7661" y="2980"/>
                  <a:pt x="7603" y="2997"/>
                  <a:pt x="7565" y="3001"/>
                </a:cubicBezTo>
                <a:cubicBezTo>
                  <a:pt x="7541" y="3001"/>
                  <a:pt x="7533" y="3001"/>
                  <a:pt x="7541" y="2977"/>
                </a:cubicBezTo>
              </a:path>
              <a:path w="3325" h="1216">
                <a:moveTo>
                  <a:pt x="7516" y="2108"/>
                </a:moveTo>
                <a:cubicBezTo>
                  <a:pt x="7571" y="2108"/>
                  <a:pt x="7595" y="2099"/>
                  <a:pt x="7640" y="2084"/>
                </a:cubicBezTo>
                <a:cubicBezTo>
                  <a:pt x="7794" y="2035"/>
                  <a:pt x="8002" y="2096"/>
                  <a:pt x="8161" y="2059"/>
                </a:cubicBezTo>
                <a:cubicBezTo>
                  <a:pt x="8205" y="2049"/>
                  <a:pt x="8264" y="2059"/>
                  <a:pt x="8310" y="2059"/>
                </a:cubicBezTo>
              </a:path>
              <a:path w="3325" h="1216">
                <a:moveTo>
                  <a:pt x="8260" y="2853"/>
                </a:moveTo>
                <a:cubicBezTo>
                  <a:pt x="8268" y="2853"/>
                  <a:pt x="8277" y="2853"/>
                  <a:pt x="8285" y="2853"/>
                </a:cubicBezTo>
                <a:cubicBezTo>
                  <a:pt x="8285" y="2906"/>
                  <a:pt x="8277" y="2954"/>
                  <a:pt x="8260" y="3001"/>
                </a:cubicBezTo>
                <a:cubicBezTo>
                  <a:pt x="8238" y="3062"/>
                  <a:pt x="8189" y="3188"/>
                  <a:pt x="8136" y="3225"/>
                </a:cubicBezTo>
                <a:cubicBezTo>
                  <a:pt x="8104" y="3247"/>
                  <a:pt x="8070" y="3266"/>
                  <a:pt x="8037" y="32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51160" y="768240"/>
            <a:ext cx="749520" cy="285840"/>
          </a:xfrm>
          <a:custGeom>
            <a:avLst/>
            <a:gdLst/>
            <a:ahLst/>
            <a:rect l="l" t="t" r="r" b="b"/>
            <a:pathLst>
              <a:path w="2084" h="795">
                <a:moveTo>
                  <a:pt x="9103" y="2208"/>
                </a:moveTo>
                <a:cubicBezTo>
                  <a:pt x="9103" y="2273"/>
                  <a:pt x="9082" y="2295"/>
                  <a:pt x="9079" y="2356"/>
                </a:cubicBezTo>
                <a:cubicBezTo>
                  <a:pt x="9075" y="2448"/>
                  <a:pt x="9074" y="2540"/>
                  <a:pt x="9054" y="2629"/>
                </a:cubicBezTo>
                <a:cubicBezTo>
                  <a:pt x="9037" y="2703"/>
                  <a:pt x="9029" y="2752"/>
                  <a:pt x="9029" y="2828"/>
                </a:cubicBezTo>
                <a:cubicBezTo>
                  <a:pt x="9029" y="2853"/>
                  <a:pt x="9029" y="2861"/>
                  <a:pt x="9054" y="2853"/>
                </a:cubicBezTo>
              </a:path>
              <a:path w="2084" h="795">
                <a:moveTo>
                  <a:pt x="9351" y="2778"/>
                </a:moveTo>
                <a:cubicBezTo>
                  <a:pt x="9351" y="2805"/>
                  <a:pt x="9331" y="2875"/>
                  <a:pt x="9351" y="2828"/>
                </a:cubicBezTo>
                <a:cubicBezTo>
                  <a:pt x="9359" y="2811"/>
                  <a:pt x="9368" y="2795"/>
                  <a:pt x="9376" y="2778"/>
                </a:cubicBezTo>
              </a:path>
              <a:path w="2084" h="795">
                <a:moveTo>
                  <a:pt x="9723" y="2257"/>
                </a:moveTo>
                <a:cubicBezTo>
                  <a:pt x="9784" y="2231"/>
                  <a:pt x="9806" y="2232"/>
                  <a:pt x="9872" y="2232"/>
                </a:cubicBezTo>
                <a:cubicBezTo>
                  <a:pt x="9908" y="2232"/>
                  <a:pt x="9944" y="2239"/>
                  <a:pt x="9971" y="2257"/>
                </a:cubicBezTo>
                <a:cubicBezTo>
                  <a:pt x="10005" y="2280"/>
                  <a:pt x="10032" y="2291"/>
                  <a:pt x="10046" y="2332"/>
                </a:cubicBezTo>
                <a:cubicBezTo>
                  <a:pt x="10059" y="2370"/>
                  <a:pt x="10044" y="2405"/>
                  <a:pt x="10021" y="2431"/>
                </a:cubicBezTo>
                <a:cubicBezTo>
                  <a:pt x="9993" y="2462"/>
                  <a:pt x="9922" y="2563"/>
                  <a:pt x="9897" y="2580"/>
                </a:cubicBezTo>
                <a:cubicBezTo>
                  <a:pt x="9855" y="2608"/>
                  <a:pt x="9837" y="2636"/>
                  <a:pt x="9798" y="2679"/>
                </a:cubicBezTo>
                <a:cubicBezTo>
                  <a:pt x="9762" y="2720"/>
                  <a:pt x="9738" y="2763"/>
                  <a:pt x="9699" y="2803"/>
                </a:cubicBezTo>
                <a:cubicBezTo>
                  <a:pt x="9669" y="2833"/>
                  <a:pt x="9674" y="2837"/>
                  <a:pt x="9674" y="2877"/>
                </a:cubicBezTo>
                <a:cubicBezTo>
                  <a:pt x="9754" y="2877"/>
                  <a:pt x="9829" y="2866"/>
                  <a:pt x="9897" y="2853"/>
                </a:cubicBezTo>
                <a:cubicBezTo>
                  <a:pt x="9952" y="2842"/>
                  <a:pt x="10018" y="2833"/>
                  <a:pt x="10071" y="2828"/>
                </a:cubicBezTo>
                <a:cubicBezTo>
                  <a:pt x="10079" y="2828"/>
                  <a:pt x="10088" y="2828"/>
                  <a:pt x="10096" y="2828"/>
                </a:cubicBezTo>
              </a:path>
              <a:path w="2084" h="795">
                <a:moveTo>
                  <a:pt x="10542" y="2158"/>
                </a:moveTo>
                <a:cubicBezTo>
                  <a:pt x="10716" y="2158"/>
                  <a:pt x="10954" y="2202"/>
                  <a:pt x="11112" y="2133"/>
                </a:cubicBezTo>
              </a:path>
              <a:path w="2084" h="795">
                <a:moveTo>
                  <a:pt x="10790" y="2133"/>
                </a:moveTo>
                <a:cubicBezTo>
                  <a:pt x="10714" y="2133"/>
                  <a:pt x="10657" y="2128"/>
                  <a:pt x="10616" y="2208"/>
                </a:cubicBezTo>
                <a:cubicBezTo>
                  <a:pt x="10590" y="2259"/>
                  <a:pt x="10644" y="2267"/>
                  <a:pt x="10666" y="2282"/>
                </a:cubicBezTo>
                <a:cubicBezTo>
                  <a:pt x="10710" y="2311"/>
                  <a:pt x="10752" y="2343"/>
                  <a:pt x="10790" y="2381"/>
                </a:cubicBezTo>
                <a:cubicBezTo>
                  <a:pt x="10816" y="2407"/>
                  <a:pt x="10855" y="2465"/>
                  <a:pt x="10889" y="2480"/>
                </a:cubicBezTo>
                <a:cubicBezTo>
                  <a:pt x="10916" y="2492"/>
                  <a:pt x="10936" y="2513"/>
                  <a:pt x="10939" y="2555"/>
                </a:cubicBezTo>
                <a:cubicBezTo>
                  <a:pt x="10944" y="2619"/>
                  <a:pt x="10906" y="2636"/>
                  <a:pt x="10864" y="2679"/>
                </a:cubicBezTo>
                <a:cubicBezTo>
                  <a:pt x="10829" y="2715"/>
                  <a:pt x="10806" y="2735"/>
                  <a:pt x="10765" y="2753"/>
                </a:cubicBezTo>
                <a:cubicBezTo>
                  <a:pt x="10713" y="2776"/>
                  <a:pt x="10695" y="2778"/>
                  <a:pt x="10641" y="2778"/>
                </a:cubicBezTo>
              </a:path>
              <a:path w="2084" h="795">
                <a:moveTo>
                  <a:pt x="11112" y="2729"/>
                </a:moveTo>
                <a:cubicBezTo>
                  <a:pt x="11103" y="2796"/>
                  <a:pt x="11062" y="2817"/>
                  <a:pt x="11038" y="2877"/>
                </a:cubicBezTo>
                <a:cubicBezTo>
                  <a:pt x="11038" y="2885"/>
                  <a:pt x="11038" y="2894"/>
                  <a:pt x="11038" y="2902"/>
                </a:cubicBezTo>
                <a:cubicBezTo>
                  <a:pt x="11017" y="2909"/>
                  <a:pt x="10970" y="2927"/>
                  <a:pt x="11013" y="29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95880" y="633240"/>
            <a:ext cx="463320" cy="403560"/>
          </a:xfrm>
          <a:custGeom>
            <a:avLst/>
            <a:gdLst/>
            <a:ahLst/>
            <a:rect l="l" t="t" r="r" b="b"/>
            <a:pathLst>
              <a:path w="1291" h="1117">
                <a:moveTo>
                  <a:pt x="12353" y="1860"/>
                </a:moveTo>
                <a:cubicBezTo>
                  <a:pt x="12348" y="1845"/>
                  <a:pt x="12329" y="1799"/>
                  <a:pt x="12303" y="1786"/>
                </a:cubicBezTo>
                <a:cubicBezTo>
                  <a:pt x="12271" y="1770"/>
                  <a:pt x="12244" y="1761"/>
                  <a:pt x="12204" y="1761"/>
                </a:cubicBezTo>
                <a:cubicBezTo>
                  <a:pt x="12146" y="1761"/>
                  <a:pt x="12118" y="1799"/>
                  <a:pt x="12080" y="1836"/>
                </a:cubicBezTo>
                <a:cubicBezTo>
                  <a:pt x="12038" y="1878"/>
                  <a:pt x="12009" y="1907"/>
                  <a:pt x="11981" y="1960"/>
                </a:cubicBezTo>
                <a:cubicBezTo>
                  <a:pt x="11966" y="1989"/>
                  <a:pt x="11919" y="2103"/>
                  <a:pt x="11931" y="2133"/>
                </a:cubicBezTo>
                <a:cubicBezTo>
                  <a:pt x="11946" y="2170"/>
                  <a:pt x="11975" y="2202"/>
                  <a:pt x="12005" y="2232"/>
                </a:cubicBezTo>
                <a:cubicBezTo>
                  <a:pt x="12043" y="2270"/>
                  <a:pt x="12052" y="2282"/>
                  <a:pt x="12105" y="2282"/>
                </a:cubicBezTo>
                <a:cubicBezTo>
                  <a:pt x="12141" y="2282"/>
                  <a:pt x="12169" y="2238"/>
                  <a:pt x="12179" y="2208"/>
                </a:cubicBezTo>
                <a:cubicBezTo>
                  <a:pt x="12185" y="2189"/>
                  <a:pt x="12179" y="2153"/>
                  <a:pt x="12179" y="2133"/>
                </a:cubicBezTo>
                <a:cubicBezTo>
                  <a:pt x="12123" y="2133"/>
                  <a:pt x="12101" y="2132"/>
                  <a:pt x="12055" y="2158"/>
                </a:cubicBezTo>
                <a:cubicBezTo>
                  <a:pt x="12019" y="2179"/>
                  <a:pt x="11950" y="2214"/>
                  <a:pt x="11931" y="2257"/>
                </a:cubicBezTo>
                <a:cubicBezTo>
                  <a:pt x="11931" y="2282"/>
                  <a:pt x="11931" y="2290"/>
                  <a:pt x="11956" y="2282"/>
                </a:cubicBezTo>
              </a:path>
              <a:path w="1291" h="1117">
                <a:moveTo>
                  <a:pt x="12725" y="1786"/>
                </a:moveTo>
                <a:cubicBezTo>
                  <a:pt x="12699" y="1821"/>
                  <a:pt x="12665" y="1865"/>
                  <a:pt x="12650" y="1910"/>
                </a:cubicBezTo>
                <a:cubicBezTo>
                  <a:pt x="12628" y="1975"/>
                  <a:pt x="12607" y="2043"/>
                  <a:pt x="12576" y="2108"/>
                </a:cubicBezTo>
                <a:cubicBezTo>
                  <a:pt x="12538" y="2187"/>
                  <a:pt x="12467" y="2294"/>
                  <a:pt x="12452" y="2381"/>
                </a:cubicBezTo>
                <a:cubicBezTo>
                  <a:pt x="12434" y="2485"/>
                  <a:pt x="12398" y="2555"/>
                  <a:pt x="12353" y="2654"/>
                </a:cubicBezTo>
                <a:cubicBezTo>
                  <a:pt x="12326" y="2712"/>
                  <a:pt x="12294" y="2774"/>
                  <a:pt x="12278" y="2828"/>
                </a:cubicBezTo>
                <a:cubicBezTo>
                  <a:pt x="12278" y="2853"/>
                  <a:pt x="12278" y="2861"/>
                  <a:pt x="12278" y="2877"/>
                </a:cubicBezTo>
                <a:cubicBezTo>
                  <a:pt x="12315" y="2868"/>
                  <a:pt x="12324" y="2857"/>
                  <a:pt x="12353" y="2828"/>
                </a:cubicBezTo>
              </a:path>
              <a:path w="1291" h="1117">
                <a:moveTo>
                  <a:pt x="12824" y="2282"/>
                </a:moveTo>
                <a:cubicBezTo>
                  <a:pt x="12950" y="2282"/>
                  <a:pt x="13085" y="2270"/>
                  <a:pt x="13196" y="2307"/>
                </a:cubicBezTo>
                <a:cubicBezTo>
                  <a:pt x="13204" y="2307"/>
                  <a:pt x="13213" y="2307"/>
                  <a:pt x="13221" y="2307"/>
                </a:cubicBezTo>
              </a:path>
              <a:path w="1291" h="1117">
                <a:moveTo>
                  <a:pt x="13047" y="2282"/>
                </a:moveTo>
                <a:cubicBezTo>
                  <a:pt x="12955" y="2263"/>
                  <a:pt x="12976" y="2282"/>
                  <a:pt x="12898" y="2282"/>
                </a:cubicBezTo>
                <a:cubicBezTo>
                  <a:pt x="12846" y="2282"/>
                  <a:pt x="12849" y="2315"/>
                  <a:pt x="12849" y="2356"/>
                </a:cubicBezTo>
                <a:cubicBezTo>
                  <a:pt x="12849" y="2408"/>
                  <a:pt x="12860" y="2419"/>
                  <a:pt x="12898" y="2456"/>
                </a:cubicBezTo>
                <a:cubicBezTo>
                  <a:pt x="12938" y="2495"/>
                  <a:pt x="12977" y="2485"/>
                  <a:pt x="13022" y="2530"/>
                </a:cubicBezTo>
                <a:cubicBezTo>
                  <a:pt x="13057" y="2566"/>
                  <a:pt x="13067" y="2595"/>
                  <a:pt x="13097" y="2629"/>
                </a:cubicBezTo>
                <a:cubicBezTo>
                  <a:pt x="13132" y="2668"/>
                  <a:pt x="13132" y="2690"/>
                  <a:pt x="13097" y="2729"/>
                </a:cubicBezTo>
                <a:cubicBezTo>
                  <a:pt x="13084" y="2743"/>
                  <a:pt x="12995" y="2797"/>
                  <a:pt x="12973" y="2803"/>
                </a:cubicBezTo>
                <a:cubicBezTo>
                  <a:pt x="12930" y="2815"/>
                  <a:pt x="12895" y="2828"/>
                  <a:pt x="12849" y="2828"/>
                </a:cubicBezTo>
                <a:cubicBezTo>
                  <a:pt x="12824" y="2828"/>
                  <a:pt x="12799" y="2828"/>
                  <a:pt x="12774" y="28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53040" y="554040"/>
            <a:ext cx="2044800" cy="401760"/>
          </a:xfrm>
          <a:custGeom>
            <a:avLst/>
            <a:gdLst/>
            <a:ahLst/>
            <a:rect l="l" t="t" r="r" b="b"/>
            <a:pathLst>
              <a:path w="5682" h="1117">
                <a:moveTo>
                  <a:pt x="14412" y="1588"/>
                </a:moveTo>
                <a:cubicBezTo>
                  <a:pt x="14375" y="1660"/>
                  <a:pt x="14349" y="1731"/>
                  <a:pt x="14337" y="1811"/>
                </a:cubicBezTo>
                <a:cubicBezTo>
                  <a:pt x="14329" y="1868"/>
                  <a:pt x="14306" y="1914"/>
                  <a:pt x="14337" y="1960"/>
                </a:cubicBezTo>
                <a:cubicBezTo>
                  <a:pt x="14358" y="1991"/>
                  <a:pt x="14396" y="2023"/>
                  <a:pt x="14436" y="2009"/>
                </a:cubicBezTo>
                <a:cubicBezTo>
                  <a:pt x="14518" y="1980"/>
                  <a:pt x="14596" y="1916"/>
                  <a:pt x="14660" y="1860"/>
                </a:cubicBezTo>
                <a:cubicBezTo>
                  <a:pt x="14735" y="1793"/>
                  <a:pt x="14806" y="1721"/>
                  <a:pt x="14858" y="1637"/>
                </a:cubicBezTo>
              </a:path>
              <a:path w="5682" h="1117">
                <a:moveTo>
                  <a:pt x="14883" y="1563"/>
                </a:moveTo>
                <a:cubicBezTo>
                  <a:pt x="14879" y="1616"/>
                  <a:pt x="14873" y="1709"/>
                  <a:pt x="14858" y="1786"/>
                </a:cubicBezTo>
                <a:cubicBezTo>
                  <a:pt x="14832" y="1918"/>
                  <a:pt x="14778" y="2051"/>
                  <a:pt x="14759" y="2183"/>
                </a:cubicBezTo>
                <a:cubicBezTo>
                  <a:pt x="14751" y="2242"/>
                  <a:pt x="14756" y="2410"/>
                  <a:pt x="14709" y="2456"/>
                </a:cubicBezTo>
                <a:cubicBezTo>
                  <a:pt x="14687" y="2478"/>
                  <a:pt x="14716" y="2384"/>
                  <a:pt x="14709" y="2332"/>
                </a:cubicBezTo>
                <a:cubicBezTo>
                  <a:pt x="14691" y="2198"/>
                  <a:pt x="14646" y="1957"/>
                  <a:pt x="14709" y="1860"/>
                </a:cubicBezTo>
                <a:cubicBezTo>
                  <a:pt x="14743" y="1808"/>
                  <a:pt x="14781" y="1805"/>
                  <a:pt x="14833" y="1761"/>
                </a:cubicBezTo>
                <a:cubicBezTo>
                  <a:pt x="14886" y="1715"/>
                  <a:pt x="14942" y="1653"/>
                  <a:pt x="15007" y="1612"/>
                </a:cubicBezTo>
                <a:cubicBezTo>
                  <a:pt x="15027" y="1600"/>
                  <a:pt x="15082" y="1571"/>
                  <a:pt x="15106" y="1563"/>
                </a:cubicBezTo>
                <a:cubicBezTo>
                  <a:pt x="15166" y="1543"/>
                  <a:pt x="15215" y="1542"/>
                  <a:pt x="15280" y="1538"/>
                </a:cubicBezTo>
                <a:cubicBezTo>
                  <a:pt x="15326" y="1535"/>
                  <a:pt x="15397" y="1534"/>
                  <a:pt x="15429" y="1563"/>
                </a:cubicBezTo>
                <a:cubicBezTo>
                  <a:pt x="15485" y="1613"/>
                  <a:pt x="15480" y="1646"/>
                  <a:pt x="15503" y="1712"/>
                </a:cubicBezTo>
                <a:cubicBezTo>
                  <a:pt x="15526" y="1779"/>
                  <a:pt x="15535" y="1836"/>
                  <a:pt x="15528" y="1910"/>
                </a:cubicBezTo>
                <a:cubicBezTo>
                  <a:pt x="15523" y="1960"/>
                  <a:pt x="15528" y="2015"/>
                  <a:pt x="15503" y="2059"/>
                </a:cubicBezTo>
                <a:cubicBezTo>
                  <a:pt x="15478" y="2101"/>
                  <a:pt x="15469" y="2113"/>
                  <a:pt x="15429" y="2133"/>
                </a:cubicBezTo>
                <a:cubicBezTo>
                  <a:pt x="15376" y="2160"/>
                  <a:pt x="15366" y="2144"/>
                  <a:pt x="15304" y="2158"/>
                </a:cubicBezTo>
                <a:cubicBezTo>
                  <a:pt x="15250" y="2170"/>
                  <a:pt x="15208" y="2168"/>
                  <a:pt x="15156" y="2183"/>
                </a:cubicBezTo>
                <a:cubicBezTo>
                  <a:pt x="15112" y="2196"/>
                  <a:pt x="15058" y="2219"/>
                  <a:pt x="15007" y="2232"/>
                </a:cubicBezTo>
                <a:cubicBezTo>
                  <a:pt x="14961" y="2244"/>
                  <a:pt x="14928" y="2245"/>
                  <a:pt x="14883" y="2257"/>
                </a:cubicBezTo>
                <a:cubicBezTo>
                  <a:pt x="14862" y="2262"/>
                  <a:pt x="14835" y="2275"/>
                  <a:pt x="14808" y="2282"/>
                </a:cubicBezTo>
                <a:cubicBezTo>
                  <a:pt x="14851" y="2299"/>
                  <a:pt x="14887" y="2315"/>
                  <a:pt x="14932" y="2332"/>
                </a:cubicBezTo>
                <a:cubicBezTo>
                  <a:pt x="14983" y="2351"/>
                  <a:pt x="14995" y="2374"/>
                  <a:pt x="15056" y="2381"/>
                </a:cubicBezTo>
                <a:cubicBezTo>
                  <a:pt x="15117" y="2388"/>
                  <a:pt x="15155" y="2392"/>
                  <a:pt x="15230" y="2381"/>
                </a:cubicBezTo>
                <a:cubicBezTo>
                  <a:pt x="15327" y="2366"/>
                  <a:pt x="15462" y="2340"/>
                  <a:pt x="15553" y="2307"/>
                </a:cubicBezTo>
                <a:cubicBezTo>
                  <a:pt x="15656" y="2270"/>
                  <a:pt x="15754" y="2201"/>
                  <a:pt x="15850" y="2158"/>
                </a:cubicBezTo>
                <a:cubicBezTo>
                  <a:pt x="15938" y="2119"/>
                  <a:pt x="15981" y="2095"/>
                  <a:pt x="16049" y="2034"/>
                </a:cubicBezTo>
                <a:cubicBezTo>
                  <a:pt x="16102" y="1987"/>
                  <a:pt x="16140" y="1936"/>
                  <a:pt x="16173" y="1885"/>
                </a:cubicBezTo>
                <a:cubicBezTo>
                  <a:pt x="16195" y="1851"/>
                  <a:pt x="16215" y="1826"/>
                  <a:pt x="16222" y="1786"/>
                </a:cubicBezTo>
                <a:cubicBezTo>
                  <a:pt x="16222" y="1761"/>
                  <a:pt x="16222" y="1753"/>
                  <a:pt x="16197" y="1761"/>
                </a:cubicBezTo>
                <a:cubicBezTo>
                  <a:pt x="16159" y="1774"/>
                  <a:pt x="16121" y="1724"/>
                  <a:pt x="16049" y="1786"/>
                </a:cubicBezTo>
                <a:cubicBezTo>
                  <a:pt x="16010" y="1820"/>
                  <a:pt x="15975" y="1867"/>
                  <a:pt x="15949" y="1910"/>
                </a:cubicBezTo>
                <a:cubicBezTo>
                  <a:pt x="15920" y="1959"/>
                  <a:pt x="15917" y="1979"/>
                  <a:pt x="15900" y="2034"/>
                </a:cubicBezTo>
                <a:cubicBezTo>
                  <a:pt x="15886" y="2080"/>
                  <a:pt x="15863" y="2123"/>
                  <a:pt x="15875" y="2183"/>
                </a:cubicBezTo>
                <a:cubicBezTo>
                  <a:pt x="15880" y="2208"/>
                  <a:pt x="15928" y="2291"/>
                  <a:pt x="15949" y="2307"/>
                </a:cubicBezTo>
                <a:cubicBezTo>
                  <a:pt x="15980" y="2330"/>
                  <a:pt x="16030" y="2335"/>
                  <a:pt x="16073" y="2332"/>
                </a:cubicBezTo>
                <a:cubicBezTo>
                  <a:pt x="16146" y="2326"/>
                  <a:pt x="16206" y="2317"/>
                  <a:pt x="16272" y="2282"/>
                </a:cubicBezTo>
                <a:cubicBezTo>
                  <a:pt x="16330" y="2251"/>
                  <a:pt x="16396" y="2200"/>
                  <a:pt x="16446" y="2158"/>
                </a:cubicBezTo>
                <a:cubicBezTo>
                  <a:pt x="16512" y="2103"/>
                  <a:pt x="16583" y="2040"/>
                  <a:pt x="16644" y="1984"/>
                </a:cubicBezTo>
                <a:cubicBezTo>
                  <a:pt x="16696" y="1937"/>
                  <a:pt x="16727" y="1898"/>
                  <a:pt x="16793" y="1860"/>
                </a:cubicBezTo>
                <a:cubicBezTo>
                  <a:pt x="16847" y="1829"/>
                  <a:pt x="16887" y="1826"/>
                  <a:pt x="16942" y="1811"/>
                </a:cubicBezTo>
                <a:cubicBezTo>
                  <a:pt x="17022" y="1789"/>
                  <a:pt x="17014" y="1796"/>
                  <a:pt x="17090" y="1811"/>
                </a:cubicBezTo>
                <a:cubicBezTo>
                  <a:pt x="17165" y="1826"/>
                  <a:pt x="17180" y="1823"/>
                  <a:pt x="17239" y="1885"/>
                </a:cubicBezTo>
                <a:cubicBezTo>
                  <a:pt x="17271" y="1918"/>
                  <a:pt x="17269" y="1937"/>
                  <a:pt x="17289" y="1960"/>
                </a:cubicBezTo>
                <a:cubicBezTo>
                  <a:pt x="17305" y="1979"/>
                  <a:pt x="17323" y="1992"/>
                  <a:pt x="17338" y="2009"/>
                </a:cubicBezTo>
                <a:cubicBezTo>
                  <a:pt x="17338" y="2008"/>
                  <a:pt x="17366" y="1973"/>
                  <a:pt x="17363" y="1935"/>
                </a:cubicBezTo>
                <a:cubicBezTo>
                  <a:pt x="17362" y="1916"/>
                  <a:pt x="17348" y="1853"/>
                  <a:pt x="17338" y="1836"/>
                </a:cubicBezTo>
                <a:cubicBezTo>
                  <a:pt x="17312" y="1791"/>
                  <a:pt x="17305" y="1791"/>
                  <a:pt x="17264" y="1761"/>
                </a:cubicBezTo>
                <a:cubicBezTo>
                  <a:pt x="17233" y="1739"/>
                  <a:pt x="17218" y="1744"/>
                  <a:pt x="17165" y="1736"/>
                </a:cubicBezTo>
                <a:cubicBezTo>
                  <a:pt x="17103" y="1726"/>
                  <a:pt x="17071" y="1741"/>
                  <a:pt x="17016" y="1761"/>
                </a:cubicBezTo>
                <a:cubicBezTo>
                  <a:pt x="16958" y="1781"/>
                  <a:pt x="16916" y="1796"/>
                  <a:pt x="16867" y="1836"/>
                </a:cubicBezTo>
                <a:cubicBezTo>
                  <a:pt x="16821" y="1873"/>
                  <a:pt x="16789" y="1913"/>
                  <a:pt x="16768" y="1960"/>
                </a:cubicBezTo>
                <a:cubicBezTo>
                  <a:pt x="16733" y="2038"/>
                  <a:pt x="16738" y="2089"/>
                  <a:pt x="16768" y="2158"/>
                </a:cubicBezTo>
                <a:cubicBezTo>
                  <a:pt x="16786" y="2199"/>
                  <a:pt x="16819" y="2237"/>
                  <a:pt x="16867" y="2257"/>
                </a:cubicBezTo>
                <a:cubicBezTo>
                  <a:pt x="16916" y="2278"/>
                  <a:pt x="16948" y="2301"/>
                  <a:pt x="17016" y="2282"/>
                </a:cubicBezTo>
                <a:cubicBezTo>
                  <a:pt x="17068" y="2267"/>
                  <a:pt x="17124" y="2215"/>
                  <a:pt x="17165" y="2183"/>
                </a:cubicBezTo>
                <a:cubicBezTo>
                  <a:pt x="17223" y="2138"/>
                  <a:pt x="17270" y="2086"/>
                  <a:pt x="17314" y="2034"/>
                </a:cubicBezTo>
                <a:cubicBezTo>
                  <a:pt x="17338" y="2006"/>
                  <a:pt x="17363" y="1966"/>
                  <a:pt x="17388" y="1935"/>
                </a:cubicBezTo>
                <a:cubicBezTo>
                  <a:pt x="17362" y="2000"/>
                  <a:pt x="17331" y="2038"/>
                  <a:pt x="17314" y="2108"/>
                </a:cubicBezTo>
                <a:cubicBezTo>
                  <a:pt x="17302" y="2158"/>
                  <a:pt x="17281" y="2202"/>
                  <a:pt x="17289" y="2257"/>
                </a:cubicBezTo>
                <a:cubicBezTo>
                  <a:pt x="17294" y="2289"/>
                  <a:pt x="17340" y="2354"/>
                  <a:pt x="17363" y="2381"/>
                </a:cubicBezTo>
                <a:cubicBezTo>
                  <a:pt x="17384" y="2405"/>
                  <a:pt x="17434" y="2451"/>
                  <a:pt x="17462" y="2456"/>
                </a:cubicBezTo>
                <a:cubicBezTo>
                  <a:pt x="17525" y="2466"/>
                  <a:pt x="17603" y="2447"/>
                  <a:pt x="17661" y="2431"/>
                </a:cubicBezTo>
                <a:cubicBezTo>
                  <a:pt x="17733" y="2411"/>
                  <a:pt x="17816" y="2363"/>
                  <a:pt x="17859" y="2307"/>
                </a:cubicBezTo>
                <a:cubicBezTo>
                  <a:pt x="17906" y="2247"/>
                  <a:pt x="17937" y="2191"/>
                  <a:pt x="17983" y="2133"/>
                </a:cubicBezTo>
                <a:cubicBezTo>
                  <a:pt x="18014" y="2094"/>
                  <a:pt x="18034" y="2043"/>
                  <a:pt x="18058" y="2009"/>
                </a:cubicBezTo>
                <a:cubicBezTo>
                  <a:pt x="18106" y="1940"/>
                  <a:pt x="18149" y="1906"/>
                  <a:pt x="18207" y="1860"/>
                </a:cubicBezTo>
                <a:cubicBezTo>
                  <a:pt x="18224" y="1846"/>
                  <a:pt x="18234" y="1810"/>
                  <a:pt x="18281" y="1811"/>
                </a:cubicBezTo>
                <a:cubicBezTo>
                  <a:pt x="18336" y="1812"/>
                  <a:pt x="18354" y="1832"/>
                  <a:pt x="18405" y="1860"/>
                </a:cubicBezTo>
                <a:cubicBezTo>
                  <a:pt x="18437" y="1878"/>
                  <a:pt x="18480" y="1894"/>
                  <a:pt x="18504" y="1935"/>
                </a:cubicBezTo>
                <a:cubicBezTo>
                  <a:pt x="18532" y="1983"/>
                  <a:pt x="18528" y="2076"/>
                  <a:pt x="18529" y="2133"/>
                </a:cubicBezTo>
                <a:cubicBezTo>
                  <a:pt x="18531" y="2216"/>
                  <a:pt x="18528" y="2286"/>
                  <a:pt x="18504" y="2356"/>
                </a:cubicBezTo>
                <a:cubicBezTo>
                  <a:pt x="18488" y="2402"/>
                  <a:pt x="18470" y="2439"/>
                  <a:pt x="18455" y="2480"/>
                </a:cubicBezTo>
                <a:cubicBezTo>
                  <a:pt x="18455" y="2505"/>
                  <a:pt x="18455" y="2513"/>
                  <a:pt x="18455" y="2480"/>
                </a:cubicBezTo>
                <a:cubicBezTo>
                  <a:pt x="18470" y="2455"/>
                  <a:pt x="18509" y="2424"/>
                  <a:pt x="18529" y="2381"/>
                </a:cubicBezTo>
                <a:cubicBezTo>
                  <a:pt x="18561" y="2311"/>
                  <a:pt x="18587" y="2230"/>
                  <a:pt x="18604" y="2158"/>
                </a:cubicBezTo>
                <a:cubicBezTo>
                  <a:pt x="18617" y="2101"/>
                  <a:pt x="18618" y="2058"/>
                  <a:pt x="18653" y="2009"/>
                </a:cubicBezTo>
                <a:cubicBezTo>
                  <a:pt x="18695" y="1949"/>
                  <a:pt x="18740" y="1935"/>
                  <a:pt x="18802" y="1910"/>
                </a:cubicBezTo>
                <a:cubicBezTo>
                  <a:pt x="18840" y="1895"/>
                  <a:pt x="18882" y="1884"/>
                  <a:pt x="18926" y="1885"/>
                </a:cubicBezTo>
                <a:cubicBezTo>
                  <a:pt x="18966" y="1886"/>
                  <a:pt x="19017" y="1895"/>
                  <a:pt x="19050" y="1910"/>
                </a:cubicBezTo>
                <a:cubicBezTo>
                  <a:pt x="19073" y="1920"/>
                  <a:pt x="19133" y="1966"/>
                  <a:pt x="19149" y="1984"/>
                </a:cubicBezTo>
                <a:cubicBezTo>
                  <a:pt x="19174" y="2013"/>
                  <a:pt x="19194" y="2047"/>
                  <a:pt x="19199" y="2084"/>
                </a:cubicBezTo>
                <a:cubicBezTo>
                  <a:pt x="19206" y="2134"/>
                  <a:pt x="19186" y="2145"/>
                  <a:pt x="19174" y="2183"/>
                </a:cubicBezTo>
                <a:cubicBezTo>
                  <a:pt x="19156" y="2243"/>
                  <a:pt x="19121" y="2274"/>
                  <a:pt x="19100" y="2332"/>
                </a:cubicBezTo>
                <a:cubicBezTo>
                  <a:pt x="19084" y="2375"/>
                  <a:pt x="19082" y="2406"/>
                  <a:pt x="19075" y="2456"/>
                </a:cubicBezTo>
                <a:cubicBezTo>
                  <a:pt x="19069" y="2501"/>
                  <a:pt x="19042" y="2502"/>
                  <a:pt x="19075" y="2555"/>
                </a:cubicBezTo>
                <a:cubicBezTo>
                  <a:pt x="19097" y="2591"/>
                  <a:pt x="19142" y="2611"/>
                  <a:pt x="19174" y="2629"/>
                </a:cubicBezTo>
                <a:cubicBezTo>
                  <a:pt x="19193" y="2640"/>
                  <a:pt x="19252" y="2651"/>
                  <a:pt x="19273" y="2654"/>
                </a:cubicBezTo>
                <a:cubicBezTo>
                  <a:pt x="19331" y="2662"/>
                  <a:pt x="19378" y="2637"/>
                  <a:pt x="19422" y="2629"/>
                </a:cubicBezTo>
                <a:cubicBezTo>
                  <a:pt x="19482" y="2619"/>
                  <a:pt x="19517" y="2603"/>
                  <a:pt x="19571" y="2580"/>
                </a:cubicBezTo>
                <a:cubicBezTo>
                  <a:pt x="19645" y="2549"/>
                  <a:pt x="19723" y="2524"/>
                  <a:pt x="19794" y="2480"/>
                </a:cubicBezTo>
                <a:cubicBezTo>
                  <a:pt x="19853" y="2444"/>
                  <a:pt x="19886" y="2430"/>
                  <a:pt x="19943" y="2381"/>
                </a:cubicBezTo>
                <a:cubicBezTo>
                  <a:pt x="19960" y="2365"/>
                  <a:pt x="19976" y="2348"/>
                  <a:pt x="19993" y="23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1760" y="2509920"/>
            <a:ext cx="554040" cy="554040"/>
          </a:xfrm>
          <a:custGeom>
            <a:avLst/>
            <a:gdLst/>
            <a:ahLst/>
            <a:rect l="l" t="t" r="r" b="b"/>
            <a:pathLst>
              <a:path w="1539" h="1539">
                <a:moveTo>
                  <a:pt x="2282" y="7243"/>
                </a:moveTo>
                <a:cubicBezTo>
                  <a:pt x="2225" y="7094"/>
                  <a:pt x="2210" y="6992"/>
                  <a:pt x="2034" y="6970"/>
                </a:cubicBezTo>
                <a:cubicBezTo>
                  <a:pt x="1876" y="6950"/>
                  <a:pt x="1764" y="7023"/>
                  <a:pt x="1637" y="7094"/>
                </a:cubicBezTo>
                <a:cubicBezTo>
                  <a:pt x="1496" y="7173"/>
                  <a:pt x="1347" y="7296"/>
                  <a:pt x="1265" y="7441"/>
                </a:cubicBezTo>
                <a:cubicBezTo>
                  <a:pt x="1185" y="7583"/>
                  <a:pt x="1131" y="7775"/>
                  <a:pt x="1116" y="7938"/>
                </a:cubicBezTo>
                <a:cubicBezTo>
                  <a:pt x="1103" y="8083"/>
                  <a:pt x="1147" y="8221"/>
                  <a:pt x="1240" y="8334"/>
                </a:cubicBezTo>
                <a:cubicBezTo>
                  <a:pt x="1350" y="8468"/>
                  <a:pt x="1569" y="8519"/>
                  <a:pt x="1736" y="8508"/>
                </a:cubicBezTo>
                <a:cubicBezTo>
                  <a:pt x="1935" y="8495"/>
                  <a:pt x="2094" y="8420"/>
                  <a:pt x="2257" y="8310"/>
                </a:cubicBezTo>
                <a:cubicBezTo>
                  <a:pt x="2385" y="8223"/>
                  <a:pt x="2537" y="8081"/>
                  <a:pt x="2604" y="7938"/>
                </a:cubicBezTo>
                <a:cubicBezTo>
                  <a:pt x="2650" y="7839"/>
                  <a:pt x="2678" y="7692"/>
                  <a:pt x="2629" y="7590"/>
                </a:cubicBezTo>
                <a:cubicBezTo>
                  <a:pt x="2590" y="7509"/>
                  <a:pt x="2472" y="7407"/>
                  <a:pt x="2381" y="7392"/>
                </a:cubicBezTo>
                <a:cubicBezTo>
                  <a:pt x="2255" y="7372"/>
                  <a:pt x="2179" y="7377"/>
                  <a:pt x="2059" y="74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4040" y="2616120"/>
            <a:ext cx="204840" cy="401760"/>
          </a:xfrm>
          <a:custGeom>
            <a:avLst/>
            <a:gdLst/>
            <a:ahLst/>
            <a:rect l="l" t="t" r="r" b="b"/>
            <a:pathLst>
              <a:path w="571" h="1117">
                <a:moveTo>
                  <a:pt x="2108" y="7466"/>
                </a:moveTo>
                <a:cubicBezTo>
                  <a:pt x="2062" y="7345"/>
                  <a:pt x="2085" y="7391"/>
                  <a:pt x="2009" y="7317"/>
                </a:cubicBezTo>
                <a:cubicBezTo>
                  <a:pt x="1958" y="7267"/>
                  <a:pt x="1925" y="7271"/>
                  <a:pt x="1860" y="7268"/>
                </a:cubicBezTo>
                <a:cubicBezTo>
                  <a:pt x="1786" y="7264"/>
                  <a:pt x="1707" y="7309"/>
                  <a:pt x="1662" y="7367"/>
                </a:cubicBezTo>
                <a:cubicBezTo>
                  <a:pt x="1606" y="7441"/>
                  <a:pt x="1555" y="7520"/>
                  <a:pt x="1538" y="7615"/>
                </a:cubicBezTo>
                <a:cubicBezTo>
                  <a:pt x="1528" y="7668"/>
                  <a:pt x="1568" y="7758"/>
                  <a:pt x="1612" y="7789"/>
                </a:cubicBezTo>
                <a:cubicBezTo>
                  <a:pt x="1684" y="7840"/>
                  <a:pt x="1740" y="7801"/>
                  <a:pt x="1811" y="7789"/>
                </a:cubicBezTo>
                <a:cubicBezTo>
                  <a:pt x="1903" y="7774"/>
                  <a:pt x="1920" y="7716"/>
                  <a:pt x="1984" y="7665"/>
                </a:cubicBezTo>
                <a:cubicBezTo>
                  <a:pt x="2029" y="7629"/>
                  <a:pt x="2074" y="7572"/>
                  <a:pt x="2084" y="7541"/>
                </a:cubicBezTo>
                <a:cubicBezTo>
                  <a:pt x="2084" y="7533"/>
                  <a:pt x="2084" y="7524"/>
                  <a:pt x="2084" y="7516"/>
                </a:cubicBezTo>
                <a:cubicBezTo>
                  <a:pt x="2060" y="7546"/>
                  <a:pt x="2038" y="7573"/>
                  <a:pt x="2034" y="7640"/>
                </a:cubicBezTo>
                <a:cubicBezTo>
                  <a:pt x="2029" y="7733"/>
                  <a:pt x="1993" y="7822"/>
                  <a:pt x="1984" y="7913"/>
                </a:cubicBezTo>
                <a:cubicBezTo>
                  <a:pt x="1972" y="8039"/>
                  <a:pt x="1979" y="8164"/>
                  <a:pt x="1960" y="8285"/>
                </a:cubicBezTo>
                <a:cubicBezTo>
                  <a:pt x="1954" y="8327"/>
                  <a:pt x="1940" y="8387"/>
                  <a:pt x="1960" y="8359"/>
                </a:cubicBezTo>
                <a:cubicBezTo>
                  <a:pt x="2011" y="8256"/>
                  <a:pt x="2038" y="8182"/>
                  <a:pt x="2059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" y="4125960"/>
            <a:ext cx="1517760" cy="446040"/>
          </a:xfrm>
          <a:custGeom>
            <a:avLst/>
            <a:gdLst/>
            <a:ahLst/>
            <a:rect l="l" t="t" r="r" b="b"/>
            <a:pathLst>
              <a:path w="4218" h="1241">
                <a:moveTo>
                  <a:pt x="1836" y="11881"/>
                </a:moveTo>
                <a:cubicBezTo>
                  <a:pt x="1836" y="12088"/>
                  <a:pt x="1836" y="12659"/>
                  <a:pt x="1836" y="12452"/>
                </a:cubicBezTo>
              </a:path>
              <a:path w="4218" h="1241">
                <a:moveTo>
                  <a:pt x="2232" y="12005"/>
                </a:moveTo>
                <a:cubicBezTo>
                  <a:pt x="2222" y="12183"/>
                  <a:pt x="2232" y="12308"/>
                  <a:pt x="2232" y="12477"/>
                </a:cubicBezTo>
                <a:cubicBezTo>
                  <a:pt x="2232" y="12538"/>
                  <a:pt x="2251" y="12580"/>
                  <a:pt x="2282" y="12626"/>
                </a:cubicBezTo>
                <a:cubicBezTo>
                  <a:pt x="2327" y="12592"/>
                  <a:pt x="2343" y="12584"/>
                  <a:pt x="2381" y="12526"/>
                </a:cubicBezTo>
                <a:cubicBezTo>
                  <a:pt x="2451" y="12419"/>
                  <a:pt x="2496" y="12302"/>
                  <a:pt x="2530" y="12179"/>
                </a:cubicBezTo>
                <a:cubicBezTo>
                  <a:pt x="2565" y="12054"/>
                  <a:pt x="2561" y="11927"/>
                  <a:pt x="2505" y="11807"/>
                </a:cubicBezTo>
                <a:cubicBezTo>
                  <a:pt x="2455" y="11700"/>
                  <a:pt x="2362" y="11589"/>
                  <a:pt x="2257" y="11534"/>
                </a:cubicBezTo>
                <a:cubicBezTo>
                  <a:pt x="2158" y="11482"/>
                  <a:pt x="2014" y="11474"/>
                  <a:pt x="1910" y="11509"/>
                </a:cubicBezTo>
                <a:cubicBezTo>
                  <a:pt x="1757" y="11560"/>
                  <a:pt x="1636" y="11654"/>
                  <a:pt x="1588" y="11807"/>
                </a:cubicBezTo>
                <a:cubicBezTo>
                  <a:pt x="1542" y="11953"/>
                  <a:pt x="1550" y="12034"/>
                  <a:pt x="1563" y="12179"/>
                </a:cubicBezTo>
                <a:cubicBezTo>
                  <a:pt x="1577" y="12345"/>
                  <a:pt x="1621" y="12431"/>
                  <a:pt x="1736" y="12551"/>
                </a:cubicBezTo>
                <a:cubicBezTo>
                  <a:pt x="1840" y="12659"/>
                  <a:pt x="1990" y="12691"/>
                  <a:pt x="2133" y="12700"/>
                </a:cubicBezTo>
                <a:cubicBezTo>
                  <a:pt x="2241" y="12707"/>
                  <a:pt x="2429" y="12657"/>
                  <a:pt x="2505" y="12576"/>
                </a:cubicBezTo>
                <a:cubicBezTo>
                  <a:pt x="2618" y="12455"/>
                  <a:pt x="2696" y="12191"/>
                  <a:pt x="2679" y="12030"/>
                </a:cubicBezTo>
                <a:cubicBezTo>
                  <a:pt x="2668" y="11927"/>
                  <a:pt x="2578" y="11756"/>
                  <a:pt x="2505" y="11683"/>
                </a:cubicBezTo>
                <a:cubicBezTo>
                  <a:pt x="2429" y="11607"/>
                  <a:pt x="2353" y="11552"/>
                  <a:pt x="2257" y="11534"/>
                </a:cubicBezTo>
              </a:path>
              <a:path w="4218" h="1241">
                <a:moveTo>
                  <a:pt x="3919" y="11509"/>
                </a:moveTo>
                <a:cubicBezTo>
                  <a:pt x="3850" y="11470"/>
                  <a:pt x="3828" y="11460"/>
                  <a:pt x="3746" y="11460"/>
                </a:cubicBezTo>
                <a:cubicBezTo>
                  <a:pt x="3654" y="11460"/>
                  <a:pt x="3568" y="11501"/>
                  <a:pt x="3497" y="11559"/>
                </a:cubicBezTo>
                <a:cubicBezTo>
                  <a:pt x="3397" y="11641"/>
                  <a:pt x="3314" y="11757"/>
                  <a:pt x="3274" y="11881"/>
                </a:cubicBezTo>
                <a:cubicBezTo>
                  <a:pt x="3229" y="12023"/>
                  <a:pt x="3226" y="12199"/>
                  <a:pt x="3299" y="12328"/>
                </a:cubicBezTo>
                <a:cubicBezTo>
                  <a:pt x="3381" y="12472"/>
                  <a:pt x="3491" y="12538"/>
                  <a:pt x="3646" y="12576"/>
                </a:cubicBezTo>
                <a:cubicBezTo>
                  <a:pt x="3809" y="12616"/>
                  <a:pt x="3962" y="12580"/>
                  <a:pt x="4093" y="12477"/>
                </a:cubicBezTo>
                <a:cubicBezTo>
                  <a:pt x="4254" y="12350"/>
                  <a:pt x="4318" y="12178"/>
                  <a:pt x="4291" y="11981"/>
                </a:cubicBezTo>
                <a:cubicBezTo>
                  <a:pt x="4262" y="11767"/>
                  <a:pt x="4167" y="11708"/>
                  <a:pt x="3994" y="11609"/>
                </a:cubicBezTo>
                <a:cubicBezTo>
                  <a:pt x="3908" y="11560"/>
                  <a:pt x="3843" y="11554"/>
                  <a:pt x="3746" y="11534"/>
                </a:cubicBezTo>
              </a:path>
              <a:path w="4218" h="1241">
                <a:moveTo>
                  <a:pt x="4986" y="12229"/>
                </a:moveTo>
                <a:cubicBezTo>
                  <a:pt x="4996" y="12306"/>
                  <a:pt x="5011" y="12370"/>
                  <a:pt x="5011" y="12452"/>
                </a:cubicBezTo>
                <a:cubicBezTo>
                  <a:pt x="5011" y="12535"/>
                  <a:pt x="5011" y="12617"/>
                  <a:pt x="5011" y="12700"/>
                </a:cubicBezTo>
              </a:path>
              <a:path w="4218" h="1241">
                <a:moveTo>
                  <a:pt x="5755" y="11460"/>
                </a:moveTo>
                <a:cubicBezTo>
                  <a:pt x="5755" y="11550"/>
                  <a:pt x="5733" y="11617"/>
                  <a:pt x="5730" y="11708"/>
                </a:cubicBezTo>
                <a:cubicBezTo>
                  <a:pt x="5722" y="11947"/>
                  <a:pt x="5730" y="12188"/>
                  <a:pt x="5730" y="124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2960" y="4125960"/>
            <a:ext cx="571320" cy="534960"/>
          </a:xfrm>
          <a:custGeom>
            <a:avLst/>
            <a:gdLst/>
            <a:ahLst/>
            <a:rect l="l" t="t" r="r" b="b"/>
            <a:pathLst>
              <a:path w="1588" h="1489">
                <a:moveTo>
                  <a:pt x="8508" y="11609"/>
                </a:moveTo>
                <a:cubicBezTo>
                  <a:pt x="8471" y="11683"/>
                  <a:pt x="8443" y="11758"/>
                  <a:pt x="8409" y="11832"/>
                </a:cubicBezTo>
                <a:cubicBezTo>
                  <a:pt x="8359" y="11942"/>
                  <a:pt x="8301" y="12056"/>
                  <a:pt x="8285" y="12179"/>
                </a:cubicBezTo>
                <a:cubicBezTo>
                  <a:pt x="8274" y="12262"/>
                  <a:pt x="8298" y="12398"/>
                  <a:pt x="8359" y="12452"/>
                </a:cubicBezTo>
                <a:cubicBezTo>
                  <a:pt x="8418" y="12504"/>
                  <a:pt x="8508" y="12523"/>
                  <a:pt x="8582" y="12526"/>
                </a:cubicBezTo>
                <a:cubicBezTo>
                  <a:pt x="8709" y="12531"/>
                  <a:pt x="8798" y="12474"/>
                  <a:pt x="8880" y="12378"/>
                </a:cubicBezTo>
                <a:cubicBezTo>
                  <a:pt x="8969" y="12272"/>
                  <a:pt x="9021" y="12165"/>
                  <a:pt x="9029" y="12030"/>
                </a:cubicBezTo>
                <a:cubicBezTo>
                  <a:pt x="9039" y="11856"/>
                  <a:pt x="8997" y="11748"/>
                  <a:pt x="8905" y="11609"/>
                </a:cubicBezTo>
                <a:cubicBezTo>
                  <a:pt x="8831" y="11497"/>
                  <a:pt x="8763" y="11466"/>
                  <a:pt x="8632" y="11460"/>
                </a:cubicBezTo>
                <a:cubicBezTo>
                  <a:pt x="8565" y="11457"/>
                  <a:pt x="8537" y="11467"/>
                  <a:pt x="8508" y="11485"/>
                </a:cubicBezTo>
              </a:path>
              <a:path w="1588" h="1489">
                <a:moveTo>
                  <a:pt x="9872" y="12526"/>
                </a:moveTo>
                <a:cubicBezTo>
                  <a:pt x="9847" y="12612"/>
                  <a:pt x="9822" y="12691"/>
                  <a:pt x="9798" y="12774"/>
                </a:cubicBezTo>
                <a:cubicBezTo>
                  <a:pt x="9778" y="12845"/>
                  <a:pt x="9773" y="12881"/>
                  <a:pt x="9773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67120" y="4081320"/>
            <a:ext cx="384120" cy="527040"/>
          </a:xfrm>
          <a:custGeom>
            <a:avLst/>
            <a:gdLst/>
            <a:ahLst/>
            <a:rect l="l" t="t" r="r" b="b"/>
            <a:pathLst>
              <a:path w="1068" h="1464">
                <a:moveTo>
                  <a:pt x="10815" y="11336"/>
                </a:moveTo>
                <a:cubicBezTo>
                  <a:pt x="10786" y="11466"/>
                  <a:pt x="10747" y="11601"/>
                  <a:pt x="10740" y="11733"/>
                </a:cubicBezTo>
                <a:cubicBezTo>
                  <a:pt x="10737" y="11790"/>
                  <a:pt x="10740" y="11849"/>
                  <a:pt x="10740" y="11906"/>
                </a:cubicBezTo>
              </a:path>
              <a:path w="1068" h="1464">
                <a:moveTo>
                  <a:pt x="11286" y="11361"/>
                </a:moveTo>
                <a:cubicBezTo>
                  <a:pt x="11216" y="11542"/>
                  <a:pt x="11154" y="11703"/>
                  <a:pt x="11088" y="11881"/>
                </a:cubicBezTo>
                <a:cubicBezTo>
                  <a:pt x="11019" y="12068"/>
                  <a:pt x="10974" y="12261"/>
                  <a:pt x="10914" y="12452"/>
                </a:cubicBezTo>
                <a:cubicBezTo>
                  <a:pt x="10904" y="12483"/>
                  <a:pt x="10857" y="12597"/>
                  <a:pt x="10864" y="12626"/>
                </a:cubicBezTo>
                <a:cubicBezTo>
                  <a:pt x="10872" y="12626"/>
                  <a:pt x="10881" y="12626"/>
                  <a:pt x="10889" y="12626"/>
                </a:cubicBezTo>
              </a:path>
              <a:path w="1068" h="1464">
                <a:moveTo>
                  <a:pt x="11237" y="12129"/>
                </a:moveTo>
                <a:cubicBezTo>
                  <a:pt x="11305" y="12120"/>
                  <a:pt x="11414" y="12092"/>
                  <a:pt x="11460" y="12179"/>
                </a:cubicBezTo>
                <a:cubicBezTo>
                  <a:pt x="11509" y="12272"/>
                  <a:pt x="11450" y="12302"/>
                  <a:pt x="11410" y="12378"/>
                </a:cubicBezTo>
                <a:cubicBezTo>
                  <a:pt x="11379" y="12436"/>
                  <a:pt x="11331" y="12487"/>
                  <a:pt x="11311" y="12551"/>
                </a:cubicBezTo>
                <a:cubicBezTo>
                  <a:pt x="11298" y="12593"/>
                  <a:pt x="11327" y="12628"/>
                  <a:pt x="11361" y="12650"/>
                </a:cubicBezTo>
                <a:cubicBezTo>
                  <a:pt x="11436" y="12698"/>
                  <a:pt x="11546" y="12758"/>
                  <a:pt x="11633" y="12774"/>
                </a:cubicBezTo>
                <a:cubicBezTo>
                  <a:pt x="11689" y="12784"/>
                  <a:pt x="11722" y="12799"/>
                  <a:pt x="11782" y="12799"/>
                </a:cubicBezTo>
                <a:cubicBezTo>
                  <a:pt x="11807" y="12799"/>
                  <a:pt x="11815" y="12799"/>
                  <a:pt x="11807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56120" y="4170240"/>
            <a:ext cx="322200" cy="438120"/>
          </a:xfrm>
          <a:custGeom>
            <a:avLst/>
            <a:gdLst/>
            <a:ahLst/>
            <a:rect l="l" t="t" r="r" b="b"/>
            <a:pathLst>
              <a:path w="894" h="1216">
                <a:moveTo>
                  <a:pt x="14188" y="11683"/>
                </a:moveTo>
                <a:cubicBezTo>
                  <a:pt x="14116" y="11783"/>
                  <a:pt x="14054" y="11866"/>
                  <a:pt x="13965" y="11956"/>
                </a:cubicBezTo>
                <a:cubicBezTo>
                  <a:pt x="13885" y="12037"/>
                  <a:pt x="13788" y="12161"/>
                  <a:pt x="13767" y="12278"/>
                </a:cubicBezTo>
                <a:cubicBezTo>
                  <a:pt x="13751" y="12366"/>
                  <a:pt x="13814" y="12470"/>
                  <a:pt x="13841" y="12551"/>
                </a:cubicBezTo>
                <a:cubicBezTo>
                  <a:pt x="13871" y="12640"/>
                  <a:pt x="13926" y="12712"/>
                  <a:pt x="14015" y="12750"/>
                </a:cubicBezTo>
                <a:cubicBezTo>
                  <a:pt x="14131" y="12800"/>
                  <a:pt x="14213" y="12808"/>
                  <a:pt x="14337" y="12774"/>
                </a:cubicBezTo>
                <a:cubicBezTo>
                  <a:pt x="14441" y="12746"/>
                  <a:pt x="14504" y="12666"/>
                  <a:pt x="14560" y="12576"/>
                </a:cubicBezTo>
                <a:cubicBezTo>
                  <a:pt x="14604" y="12504"/>
                  <a:pt x="14649" y="12363"/>
                  <a:pt x="14660" y="12278"/>
                </a:cubicBezTo>
                <a:cubicBezTo>
                  <a:pt x="14673" y="12178"/>
                  <a:pt x="14678" y="12023"/>
                  <a:pt x="14635" y="11931"/>
                </a:cubicBezTo>
                <a:cubicBezTo>
                  <a:pt x="14594" y="11843"/>
                  <a:pt x="14496" y="11710"/>
                  <a:pt x="14412" y="11658"/>
                </a:cubicBezTo>
                <a:cubicBezTo>
                  <a:pt x="14341" y="11614"/>
                  <a:pt x="14220" y="11590"/>
                  <a:pt x="14139" y="11584"/>
                </a:cubicBezTo>
                <a:cubicBezTo>
                  <a:pt x="14131" y="11584"/>
                  <a:pt x="14122" y="11584"/>
                  <a:pt x="14114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02240" y="3697200"/>
            <a:ext cx="965520" cy="919080"/>
          </a:xfrm>
          <a:custGeom>
            <a:avLst/>
            <a:gdLst/>
            <a:ahLst/>
            <a:rect l="l" t="t" r="r" b="b"/>
            <a:pathLst>
              <a:path w="2680" h="2556">
                <a:moveTo>
                  <a:pt x="18281" y="10492"/>
                </a:moveTo>
                <a:cubicBezTo>
                  <a:pt x="18281" y="10545"/>
                  <a:pt x="18261" y="10562"/>
                  <a:pt x="18256" y="10616"/>
                </a:cubicBezTo>
                <a:cubicBezTo>
                  <a:pt x="18249" y="10701"/>
                  <a:pt x="18225" y="10806"/>
                  <a:pt x="18207" y="10889"/>
                </a:cubicBezTo>
                <a:cubicBezTo>
                  <a:pt x="18189" y="10973"/>
                  <a:pt x="18162" y="11051"/>
                  <a:pt x="18157" y="11137"/>
                </a:cubicBezTo>
                <a:cubicBezTo>
                  <a:pt x="18154" y="11199"/>
                  <a:pt x="18148" y="11234"/>
                  <a:pt x="18132" y="11286"/>
                </a:cubicBezTo>
                <a:cubicBezTo>
                  <a:pt x="18129" y="11295"/>
                  <a:pt x="18132" y="11405"/>
                  <a:pt x="18132" y="11336"/>
                </a:cubicBezTo>
              </a:path>
              <a:path w="2680" h="2556">
                <a:moveTo>
                  <a:pt x="18752" y="10517"/>
                </a:moveTo>
                <a:cubicBezTo>
                  <a:pt x="18752" y="10578"/>
                  <a:pt x="18743" y="10634"/>
                  <a:pt x="18728" y="10691"/>
                </a:cubicBezTo>
                <a:cubicBezTo>
                  <a:pt x="18703" y="10786"/>
                  <a:pt x="18703" y="10864"/>
                  <a:pt x="18703" y="10964"/>
                </a:cubicBezTo>
                <a:cubicBezTo>
                  <a:pt x="18703" y="11055"/>
                  <a:pt x="18703" y="11146"/>
                  <a:pt x="18703" y="11237"/>
                </a:cubicBezTo>
              </a:path>
              <a:path w="2680" h="2556">
                <a:moveTo>
                  <a:pt x="19819" y="10567"/>
                </a:moveTo>
                <a:cubicBezTo>
                  <a:pt x="19849" y="10675"/>
                  <a:pt x="19823" y="10730"/>
                  <a:pt x="19819" y="10840"/>
                </a:cubicBezTo>
                <a:cubicBezTo>
                  <a:pt x="19814" y="10976"/>
                  <a:pt x="19825" y="11109"/>
                  <a:pt x="19844" y="11237"/>
                </a:cubicBezTo>
                <a:cubicBezTo>
                  <a:pt x="19846" y="11248"/>
                  <a:pt x="19869" y="11394"/>
                  <a:pt x="19893" y="11361"/>
                </a:cubicBezTo>
                <a:cubicBezTo>
                  <a:pt x="19893" y="11311"/>
                  <a:pt x="19893" y="11278"/>
                  <a:pt x="19893" y="11237"/>
                </a:cubicBezTo>
              </a:path>
              <a:path w="2680" h="2556">
                <a:moveTo>
                  <a:pt x="19422" y="10269"/>
                </a:moveTo>
                <a:cubicBezTo>
                  <a:pt x="19319" y="10350"/>
                  <a:pt x="19258" y="10421"/>
                  <a:pt x="19174" y="10517"/>
                </a:cubicBezTo>
                <a:cubicBezTo>
                  <a:pt x="19061" y="10645"/>
                  <a:pt x="19000" y="10784"/>
                  <a:pt x="19000" y="10964"/>
                </a:cubicBezTo>
                <a:cubicBezTo>
                  <a:pt x="19000" y="11054"/>
                  <a:pt x="19066" y="11192"/>
                  <a:pt x="19124" y="11261"/>
                </a:cubicBezTo>
                <a:cubicBezTo>
                  <a:pt x="19211" y="11363"/>
                  <a:pt x="19323" y="11377"/>
                  <a:pt x="19447" y="11410"/>
                </a:cubicBezTo>
              </a:path>
              <a:path w="2680" h="2556">
                <a:moveTo>
                  <a:pt x="20191" y="10393"/>
                </a:moveTo>
                <a:cubicBezTo>
                  <a:pt x="20269" y="10590"/>
                  <a:pt x="20390" y="10820"/>
                  <a:pt x="20414" y="11038"/>
                </a:cubicBezTo>
                <a:cubicBezTo>
                  <a:pt x="20426" y="11149"/>
                  <a:pt x="20416" y="11284"/>
                  <a:pt x="20365" y="11385"/>
                </a:cubicBezTo>
                <a:cubicBezTo>
                  <a:pt x="20335" y="11445"/>
                  <a:pt x="20268" y="11548"/>
                  <a:pt x="20216" y="11584"/>
                </a:cubicBezTo>
                <a:cubicBezTo>
                  <a:pt x="20184" y="11607"/>
                  <a:pt x="20171" y="11575"/>
                  <a:pt x="20166" y="11559"/>
                </a:cubicBezTo>
              </a:path>
              <a:path w="2680" h="2556">
                <a:moveTo>
                  <a:pt x="17785" y="11410"/>
                </a:moveTo>
                <a:cubicBezTo>
                  <a:pt x="17838" y="11417"/>
                  <a:pt x="17880" y="11432"/>
                  <a:pt x="17934" y="11435"/>
                </a:cubicBezTo>
                <a:cubicBezTo>
                  <a:pt x="18175" y="11449"/>
                  <a:pt x="18415" y="11426"/>
                  <a:pt x="18653" y="11410"/>
                </a:cubicBezTo>
                <a:cubicBezTo>
                  <a:pt x="19115" y="11379"/>
                  <a:pt x="19583" y="11422"/>
                  <a:pt x="20042" y="11385"/>
                </a:cubicBezTo>
                <a:cubicBezTo>
                  <a:pt x="20135" y="11378"/>
                  <a:pt x="20279" y="11371"/>
                  <a:pt x="20365" y="11336"/>
                </a:cubicBezTo>
                <a:cubicBezTo>
                  <a:pt x="20490" y="11285"/>
                  <a:pt x="20435" y="11261"/>
                  <a:pt x="20439" y="11237"/>
                </a:cubicBezTo>
              </a:path>
              <a:path w="2680" h="2556">
                <a:moveTo>
                  <a:pt x="19100" y="12204"/>
                </a:moveTo>
                <a:cubicBezTo>
                  <a:pt x="19139" y="12218"/>
                  <a:pt x="19124" y="12254"/>
                  <a:pt x="19124" y="12303"/>
                </a:cubicBezTo>
                <a:cubicBezTo>
                  <a:pt x="19124" y="12402"/>
                  <a:pt x="19115" y="12484"/>
                  <a:pt x="19100" y="12576"/>
                </a:cubicBezTo>
                <a:cubicBezTo>
                  <a:pt x="19094" y="12615"/>
                  <a:pt x="19100" y="12660"/>
                  <a:pt x="19100" y="12700"/>
                </a:cubicBezTo>
                <a:cubicBezTo>
                  <a:pt x="19137" y="12687"/>
                  <a:pt x="19135" y="12647"/>
                  <a:pt x="19149" y="12601"/>
                </a:cubicBezTo>
                <a:cubicBezTo>
                  <a:pt x="19173" y="12520"/>
                  <a:pt x="19194" y="12457"/>
                  <a:pt x="19224" y="12378"/>
                </a:cubicBezTo>
                <a:cubicBezTo>
                  <a:pt x="19249" y="12312"/>
                  <a:pt x="19242" y="12230"/>
                  <a:pt x="19298" y="12179"/>
                </a:cubicBezTo>
                <a:cubicBezTo>
                  <a:pt x="19373" y="12111"/>
                  <a:pt x="19432" y="12090"/>
                  <a:pt x="19521" y="12129"/>
                </a:cubicBezTo>
                <a:cubicBezTo>
                  <a:pt x="19594" y="12161"/>
                  <a:pt x="19671" y="12240"/>
                  <a:pt x="19720" y="12303"/>
                </a:cubicBezTo>
                <a:cubicBezTo>
                  <a:pt x="19778" y="12377"/>
                  <a:pt x="19813" y="12463"/>
                  <a:pt x="19844" y="12551"/>
                </a:cubicBezTo>
                <a:cubicBezTo>
                  <a:pt x="19867" y="12618"/>
                  <a:pt x="19890" y="12715"/>
                  <a:pt x="19918" y="12774"/>
                </a:cubicBezTo>
                <a:cubicBezTo>
                  <a:pt x="19941" y="12797"/>
                  <a:pt x="19949" y="12801"/>
                  <a:pt x="19943" y="128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12000" y="3884760"/>
            <a:ext cx="115920" cy="1440"/>
          </a:xfrm>
          <a:custGeom>
            <a:avLst/>
            <a:gdLst/>
            <a:ahLst/>
            <a:rect l="l" t="t" r="r" b="b"/>
            <a:pathLst>
              <a:path w="323" h="1">
                <a:moveTo>
                  <a:pt x="19199" y="10790"/>
                </a:moveTo>
                <a:cubicBezTo>
                  <a:pt x="19306" y="10790"/>
                  <a:pt x="19414" y="10790"/>
                  <a:pt x="19521" y="107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53160" y="3911760"/>
            <a:ext cx="142920" cy="27000"/>
          </a:xfrm>
          <a:custGeom>
            <a:avLst/>
            <a:gdLst/>
            <a:ahLst/>
            <a:rect l="l" t="t" r="r" b="b"/>
            <a:pathLst>
              <a:path w="398" h="76">
                <a:moveTo>
                  <a:pt x="18479" y="10939"/>
                </a:moveTo>
                <a:cubicBezTo>
                  <a:pt x="18588" y="10939"/>
                  <a:pt x="18638" y="10922"/>
                  <a:pt x="18728" y="10914"/>
                </a:cubicBezTo>
                <a:cubicBezTo>
                  <a:pt x="18780" y="10910"/>
                  <a:pt x="18812" y="10926"/>
                  <a:pt x="18852" y="10889"/>
                </a:cubicBezTo>
                <a:cubicBezTo>
                  <a:pt x="18860" y="10881"/>
                  <a:pt x="18868" y="10872"/>
                  <a:pt x="18876" y="108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40040" y="4510080"/>
            <a:ext cx="27000" cy="1602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7888" y="12526"/>
                </a:moveTo>
                <a:cubicBezTo>
                  <a:pt x="7919" y="12607"/>
                  <a:pt x="7949" y="12691"/>
                  <a:pt x="7962" y="12774"/>
                </a:cubicBezTo>
                <a:cubicBezTo>
                  <a:pt x="7973" y="12843"/>
                  <a:pt x="7954" y="12915"/>
                  <a:pt x="7938" y="12948"/>
                </a:cubicBezTo>
                <a:cubicBezTo>
                  <a:pt x="7938" y="12973"/>
                  <a:pt x="7938" y="12981"/>
                  <a:pt x="7938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32080" y="4589640"/>
            <a:ext cx="1679760" cy="1071360"/>
          </a:xfrm>
          <a:custGeom>
            <a:avLst/>
            <a:gdLst/>
            <a:ahLst/>
            <a:rect l="l" t="t" r="r" b="b"/>
            <a:pathLst>
              <a:path w="4665" h="2977">
                <a:moveTo>
                  <a:pt x="12948" y="12750"/>
                </a:moveTo>
                <a:cubicBezTo>
                  <a:pt x="12941" y="12844"/>
                  <a:pt x="12935" y="12937"/>
                  <a:pt x="12898" y="13022"/>
                </a:cubicBezTo>
                <a:cubicBezTo>
                  <a:pt x="12873" y="13080"/>
                  <a:pt x="12847" y="13119"/>
                  <a:pt x="12824" y="13171"/>
                </a:cubicBezTo>
                <a:cubicBezTo>
                  <a:pt x="12824" y="13179"/>
                  <a:pt x="12824" y="13188"/>
                  <a:pt x="12824" y="13196"/>
                </a:cubicBezTo>
              </a:path>
              <a:path w="4665" h="2977">
                <a:moveTo>
                  <a:pt x="9401" y="13667"/>
                </a:moveTo>
                <a:cubicBezTo>
                  <a:pt x="9317" y="13744"/>
                  <a:pt x="9259" y="13791"/>
                  <a:pt x="9203" y="13891"/>
                </a:cubicBezTo>
                <a:cubicBezTo>
                  <a:pt x="9121" y="14038"/>
                  <a:pt x="9041" y="14222"/>
                  <a:pt x="9004" y="14387"/>
                </a:cubicBezTo>
                <a:cubicBezTo>
                  <a:pt x="8966" y="14553"/>
                  <a:pt x="8949" y="14797"/>
                  <a:pt x="9029" y="14957"/>
                </a:cubicBezTo>
                <a:cubicBezTo>
                  <a:pt x="9092" y="15083"/>
                  <a:pt x="9216" y="15160"/>
                  <a:pt x="9351" y="15106"/>
                </a:cubicBezTo>
                <a:cubicBezTo>
                  <a:pt x="9621" y="14997"/>
                  <a:pt x="9781" y="14418"/>
                  <a:pt x="9847" y="14263"/>
                </a:cubicBezTo>
                <a:cubicBezTo>
                  <a:pt x="9963" y="13987"/>
                  <a:pt x="9979" y="13706"/>
                  <a:pt x="10021" y="13419"/>
                </a:cubicBezTo>
                <a:cubicBezTo>
                  <a:pt x="10034" y="13331"/>
                  <a:pt x="10046" y="13260"/>
                  <a:pt x="10046" y="13171"/>
                </a:cubicBezTo>
                <a:cubicBezTo>
                  <a:pt x="10039" y="13280"/>
                  <a:pt x="10013" y="13384"/>
                  <a:pt x="10021" y="13494"/>
                </a:cubicBezTo>
                <a:cubicBezTo>
                  <a:pt x="10041" y="13755"/>
                  <a:pt x="10080" y="14005"/>
                  <a:pt x="10120" y="14263"/>
                </a:cubicBezTo>
                <a:cubicBezTo>
                  <a:pt x="10161" y="14529"/>
                  <a:pt x="10200" y="14801"/>
                  <a:pt x="10294" y="15056"/>
                </a:cubicBezTo>
                <a:cubicBezTo>
                  <a:pt x="10305" y="15086"/>
                  <a:pt x="10478" y="15351"/>
                  <a:pt x="10393" y="15230"/>
                </a:cubicBezTo>
                <a:cubicBezTo>
                  <a:pt x="10327" y="15137"/>
                  <a:pt x="10253" y="15083"/>
                  <a:pt x="10170" y="15007"/>
                </a:cubicBezTo>
              </a:path>
              <a:path w="4665" h="2977">
                <a:moveTo>
                  <a:pt x="9674" y="14660"/>
                </a:moveTo>
                <a:cubicBezTo>
                  <a:pt x="9644" y="14650"/>
                  <a:pt x="9454" y="14555"/>
                  <a:pt x="9401" y="14560"/>
                </a:cubicBezTo>
                <a:cubicBezTo>
                  <a:pt x="9401" y="14568"/>
                  <a:pt x="9401" y="14577"/>
                  <a:pt x="9401" y="14585"/>
                </a:cubicBezTo>
                <a:cubicBezTo>
                  <a:pt x="9538" y="14642"/>
                  <a:pt x="9579" y="14643"/>
                  <a:pt x="9723" y="14635"/>
                </a:cubicBezTo>
                <a:cubicBezTo>
                  <a:pt x="9843" y="14628"/>
                  <a:pt x="9972" y="14610"/>
                  <a:pt x="10071" y="14536"/>
                </a:cubicBezTo>
                <a:cubicBezTo>
                  <a:pt x="10152" y="14476"/>
                  <a:pt x="10256" y="14331"/>
                  <a:pt x="10294" y="14238"/>
                </a:cubicBezTo>
                <a:cubicBezTo>
                  <a:pt x="10341" y="14122"/>
                  <a:pt x="10298" y="14008"/>
                  <a:pt x="10319" y="13891"/>
                </a:cubicBezTo>
                <a:cubicBezTo>
                  <a:pt x="10341" y="13826"/>
                  <a:pt x="10349" y="13811"/>
                  <a:pt x="10344" y="13767"/>
                </a:cubicBezTo>
                <a:cubicBezTo>
                  <a:pt x="10385" y="13829"/>
                  <a:pt x="10396" y="13893"/>
                  <a:pt x="10418" y="13990"/>
                </a:cubicBezTo>
                <a:cubicBezTo>
                  <a:pt x="10457" y="14157"/>
                  <a:pt x="10470" y="14318"/>
                  <a:pt x="10492" y="14486"/>
                </a:cubicBezTo>
                <a:cubicBezTo>
                  <a:pt x="10510" y="14622"/>
                  <a:pt x="10517" y="14745"/>
                  <a:pt x="10517" y="14883"/>
                </a:cubicBezTo>
                <a:cubicBezTo>
                  <a:pt x="10517" y="14695"/>
                  <a:pt x="10528" y="14552"/>
                  <a:pt x="10567" y="14362"/>
                </a:cubicBezTo>
                <a:cubicBezTo>
                  <a:pt x="10590" y="14250"/>
                  <a:pt x="10603" y="14089"/>
                  <a:pt x="10666" y="13990"/>
                </a:cubicBezTo>
                <a:cubicBezTo>
                  <a:pt x="10686" y="13959"/>
                  <a:pt x="10722" y="13956"/>
                  <a:pt x="10740" y="13940"/>
                </a:cubicBezTo>
                <a:cubicBezTo>
                  <a:pt x="10740" y="14230"/>
                  <a:pt x="10707" y="14537"/>
                  <a:pt x="10790" y="14808"/>
                </a:cubicBezTo>
                <a:cubicBezTo>
                  <a:pt x="10818" y="14899"/>
                  <a:pt x="10878" y="15049"/>
                  <a:pt x="11013" y="15007"/>
                </a:cubicBezTo>
                <a:cubicBezTo>
                  <a:pt x="11174" y="14957"/>
                  <a:pt x="11293" y="14808"/>
                  <a:pt x="11361" y="14660"/>
                </a:cubicBezTo>
                <a:cubicBezTo>
                  <a:pt x="11436" y="14494"/>
                  <a:pt x="11494" y="14296"/>
                  <a:pt x="11509" y="14114"/>
                </a:cubicBezTo>
                <a:cubicBezTo>
                  <a:pt x="11519" y="13995"/>
                  <a:pt x="11524" y="13848"/>
                  <a:pt x="11460" y="13742"/>
                </a:cubicBezTo>
                <a:cubicBezTo>
                  <a:pt x="11452" y="13734"/>
                  <a:pt x="11443" y="13725"/>
                  <a:pt x="11435" y="13717"/>
                </a:cubicBezTo>
                <a:cubicBezTo>
                  <a:pt x="11351" y="13763"/>
                  <a:pt x="11318" y="13799"/>
                  <a:pt x="11261" y="13891"/>
                </a:cubicBezTo>
                <a:cubicBezTo>
                  <a:pt x="11150" y="14069"/>
                  <a:pt x="11105" y="14258"/>
                  <a:pt x="11063" y="14461"/>
                </a:cubicBezTo>
                <a:cubicBezTo>
                  <a:pt x="11032" y="14614"/>
                  <a:pt x="11059" y="14663"/>
                  <a:pt x="11112" y="14808"/>
                </a:cubicBezTo>
                <a:cubicBezTo>
                  <a:pt x="11233" y="14792"/>
                  <a:pt x="11254" y="14790"/>
                  <a:pt x="11336" y="14684"/>
                </a:cubicBezTo>
                <a:cubicBezTo>
                  <a:pt x="11431" y="14561"/>
                  <a:pt x="11507" y="14410"/>
                  <a:pt x="11559" y="14263"/>
                </a:cubicBezTo>
                <a:cubicBezTo>
                  <a:pt x="11597" y="14155"/>
                  <a:pt x="11606" y="14052"/>
                  <a:pt x="11609" y="13940"/>
                </a:cubicBezTo>
                <a:cubicBezTo>
                  <a:pt x="11610" y="13907"/>
                  <a:pt x="11609" y="13924"/>
                  <a:pt x="11609" y="13891"/>
                </a:cubicBezTo>
                <a:cubicBezTo>
                  <a:pt x="11609" y="14063"/>
                  <a:pt x="11613" y="14242"/>
                  <a:pt x="11633" y="14412"/>
                </a:cubicBezTo>
                <a:cubicBezTo>
                  <a:pt x="11651" y="14563"/>
                  <a:pt x="11658" y="14705"/>
                  <a:pt x="11658" y="14858"/>
                </a:cubicBezTo>
              </a:path>
              <a:path w="4665" h="2977">
                <a:moveTo>
                  <a:pt x="11658" y="15404"/>
                </a:moveTo>
                <a:cubicBezTo>
                  <a:pt x="11611" y="15607"/>
                  <a:pt x="11644" y="15646"/>
                  <a:pt x="11509" y="15726"/>
                </a:cubicBezTo>
                <a:cubicBezTo>
                  <a:pt x="11450" y="15624"/>
                  <a:pt x="11438" y="15581"/>
                  <a:pt x="11435" y="15453"/>
                </a:cubicBezTo>
                <a:cubicBezTo>
                  <a:pt x="11429" y="15178"/>
                  <a:pt x="11467" y="14894"/>
                  <a:pt x="11559" y="14635"/>
                </a:cubicBezTo>
                <a:cubicBezTo>
                  <a:pt x="11614" y="14480"/>
                  <a:pt x="11681" y="14332"/>
                  <a:pt x="11757" y="14188"/>
                </a:cubicBezTo>
                <a:cubicBezTo>
                  <a:pt x="11792" y="14123"/>
                  <a:pt x="11875" y="13968"/>
                  <a:pt x="11956" y="13940"/>
                </a:cubicBezTo>
                <a:cubicBezTo>
                  <a:pt x="11984" y="13930"/>
                  <a:pt x="12025" y="13944"/>
                  <a:pt x="12055" y="13940"/>
                </a:cubicBezTo>
                <a:cubicBezTo>
                  <a:pt x="12084" y="14021"/>
                  <a:pt x="12118" y="14066"/>
                  <a:pt x="12105" y="14163"/>
                </a:cubicBezTo>
                <a:cubicBezTo>
                  <a:pt x="12091" y="14265"/>
                  <a:pt x="12080" y="14355"/>
                  <a:pt x="12080" y="14461"/>
                </a:cubicBezTo>
                <a:cubicBezTo>
                  <a:pt x="12080" y="14514"/>
                  <a:pt x="12091" y="14632"/>
                  <a:pt x="12154" y="14660"/>
                </a:cubicBezTo>
                <a:cubicBezTo>
                  <a:pt x="12230" y="14693"/>
                  <a:pt x="12298" y="14652"/>
                  <a:pt x="12353" y="14610"/>
                </a:cubicBezTo>
                <a:cubicBezTo>
                  <a:pt x="12419" y="14560"/>
                  <a:pt x="12477" y="14484"/>
                  <a:pt x="12526" y="14412"/>
                </a:cubicBezTo>
                <a:cubicBezTo>
                  <a:pt x="12580" y="14332"/>
                  <a:pt x="12619" y="14242"/>
                  <a:pt x="12675" y="14163"/>
                </a:cubicBezTo>
                <a:cubicBezTo>
                  <a:pt x="12723" y="14095"/>
                  <a:pt x="12766" y="14026"/>
                  <a:pt x="12824" y="13965"/>
                </a:cubicBezTo>
                <a:cubicBezTo>
                  <a:pt x="12895" y="13890"/>
                  <a:pt x="12962" y="13824"/>
                  <a:pt x="13022" y="13742"/>
                </a:cubicBezTo>
                <a:cubicBezTo>
                  <a:pt x="13083" y="13659"/>
                  <a:pt x="13084" y="13624"/>
                  <a:pt x="13047" y="13543"/>
                </a:cubicBezTo>
                <a:cubicBezTo>
                  <a:pt x="13027" y="13499"/>
                  <a:pt x="12968" y="13462"/>
                  <a:pt x="12923" y="13469"/>
                </a:cubicBezTo>
                <a:cubicBezTo>
                  <a:pt x="12806" y="13488"/>
                  <a:pt x="12738" y="13630"/>
                  <a:pt x="12700" y="13742"/>
                </a:cubicBezTo>
                <a:cubicBezTo>
                  <a:pt x="12646" y="13903"/>
                  <a:pt x="12607" y="14066"/>
                  <a:pt x="12626" y="14238"/>
                </a:cubicBezTo>
                <a:cubicBezTo>
                  <a:pt x="12648" y="14446"/>
                  <a:pt x="12741" y="14619"/>
                  <a:pt x="12923" y="14734"/>
                </a:cubicBezTo>
                <a:cubicBezTo>
                  <a:pt x="13067" y="14825"/>
                  <a:pt x="13252" y="14854"/>
                  <a:pt x="13419" y="14833"/>
                </a:cubicBezTo>
                <a:cubicBezTo>
                  <a:pt x="13599" y="14810"/>
                  <a:pt x="13623" y="14716"/>
                  <a:pt x="13643" y="14560"/>
                </a:cubicBezTo>
              </a:path>
              <a:path w="4665" h="2977">
                <a:moveTo>
                  <a:pt x="12105" y="13444"/>
                </a:moveTo>
                <a:cubicBezTo>
                  <a:pt x="12051" y="13444"/>
                  <a:pt x="12020" y="13434"/>
                  <a:pt x="11981" y="13469"/>
                </a:cubicBezTo>
                <a:cubicBezTo>
                  <a:pt x="11942" y="13505"/>
                  <a:pt x="11950" y="13532"/>
                  <a:pt x="11981" y="13568"/>
                </a:cubicBezTo>
                <a:cubicBezTo>
                  <a:pt x="12026" y="13619"/>
                  <a:pt x="12134" y="13587"/>
                  <a:pt x="12179" y="13543"/>
                </a:cubicBezTo>
                <a:cubicBezTo>
                  <a:pt x="12240" y="13482"/>
                  <a:pt x="12300" y="13351"/>
                  <a:pt x="12254" y="13271"/>
                </a:cubicBezTo>
                <a:cubicBezTo>
                  <a:pt x="12183" y="13200"/>
                  <a:pt x="12144" y="13165"/>
                  <a:pt x="12080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8160" y="4759200"/>
            <a:ext cx="1179720" cy="955800"/>
          </a:xfrm>
          <a:custGeom>
            <a:avLst/>
            <a:gdLst/>
            <a:ahLst/>
            <a:rect l="l" t="t" r="r" b="b"/>
            <a:pathLst>
              <a:path w="3276" h="2655">
                <a:moveTo>
                  <a:pt x="18157" y="13320"/>
                </a:moveTo>
                <a:cubicBezTo>
                  <a:pt x="18203" y="13397"/>
                  <a:pt x="18167" y="13432"/>
                  <a:pt x="18157" y="13519"/>
                </a:cubicBezTo>
                <a:cubicBezTo>
                  <a:pt x="18146" y="13616"/>
                  <a:pt x="18135" y="13719"/>
                  <a:pt x="18132" y="13816"/>
                </a:cubicBezTo>
                <a:cubicBezTo>
                  <a:pt x="18129" y="13917"/>
                  <a:pt x="18107" y="13990"/>
                  <a:pt x="18107" y="14089"/>
                </a:cubicBezTo>
                <a:cubicBezTo>
                  <a:pt x="18107" y="14114"/>
                  <a:pt x="18107" y="14138"/>
                  <a:pt x="18107" y="14163"/>
                </a:cubicBezTo>
              </a:path>
              <a:path w="3276" h="2655">
                <a:moveTo>
                  <a:pt x="18827" y="13519"/>
                </a:moveTo>
                <a:cubicBezTo>
                  <a:pt x="18827" y="13700"/>
                  <a:pt x="18802" y="13924"/>
                  <a:pt x="18852" y="14089"/>
                </a:cubicBezTo>
                <a:cubicBezTo>
                  <a:pt x="18852" y="14097"/>
                  <a:pt x="18852" y="14106"/>
                  <a:pt x="18852" y="14114"/>
                </a:cubicBezTo>
              </a:path>
              <a:path w="3276" h="2655">
                <a:moveTo>
                  <a:pt x="18678" y="13816"/>
                </a:moveTo>
                <a:cubicBezTo>
                  <a:pt x="18808" y="13821"/>
                  <a:pt x="18922" y="13841"/>
                  <a:pt x="19050" y="13841"/>
                </a:cubicBezTo>
              </a:path>
              <a:path w="3276" h="2655">
                <a:moveTo>
                  <a:pt x="19596" y="13419"/>
                </a:moveTo>
                <a:cubicBezTo>
                  <a:pt x="19563" y="13477"/>
                  <a:pt x="19531" y="13535"/>
                  <a:pt x="19496" y="13593"/>
                </a:cubicBezTo>
                <a:cubicBezTo>
                  <a:pt x="19445" y="13677"/>
                  <a:pt x="19387" y="13765"/>
                  <a:pt x="19372" y="13866"/>
                </a:cubicBezTo>
                <a:cubicBezTo>
                  <a:pt x="19353" y="13994"/>
                  <a:pt x="19406" y="14095"/>
                  <a:pt x="19447" y="14213"/>
                </a:cubicBezTo>
                <a:cubicBezTo>
                  <a:pt x="19482" y="14313"/>
                  <a:pt x="19499" y="14322"/>
                  <a:pt x="19571" y="14387"/>
                </a:cubicBezTo>
                <a:cubicBezTo>
                  <a:pt x="19594" y="14410"/>
                  <a:pt x="19598" y="14418"/>
                  <a:pt x="19621" y="14412"/>
                </a:cubicBezTo>
              </a:path>
              <a:path w="3276" h="2655">
                <a:moveTo>
                  <a:pt x="19695" y="13841"/>
                </a:moveTo>
                <a:cubicBezTo>
                  <a:pt x="19741" y="13841"/>
                  <a:pt x="19754" y="13863"/>
                  <a:pt x="19794" y="13866"/>
                </a:cubicBezTo>
                <a:cubicBezTo>
                  <a:pt x="19834" y="13869"/>
                  <a:pt x="19878" y="13866"/>
                  <a:pt x="19918" y="13866"/>
                </a:cubicBezTo>
              </a:path>
              <a:path w="3276" h="2655">
                <a:moveTo>
                  <a:pt x="20290" y="13568"/>
                </a:moveTo>
                <a:cubicBezTo>
                  <a:pt x="20263" y="13664"/>
                  <a:pt x="20224" y="13767"/>
                  <a:pt x="20216" y="13866"/>
                </a:cubicBezTo>
                <a:cubicBezTo>
                  <a:pt x="20209" y="13952"/>
                  <a:pt x="20219" y="14102"/>
                  <a:pt x="20241" y="14188"/>
                </a:cubicBezTo>
                <a:cubicBezTo>
                  <a:pt x="20244" y="14201"/>
                  <a:pt x="20271" y="14337"/>
                  <a:pt x="20290" y="14312"/>
                </a:cubicBezTo>
                <a:cubicBezTo>
                  <a:pt x="20290" y="14284"/>
                  <a:pt x="20293" y="14274"/>
                  <a:pt x="20315" y="14263"/>
                </a:cubicBezTo>
              </a:path>
              <a:path w="3276" h="2655">
                <a:moveTo>
                  <a:pt x="20489" y="13246"/>
                </a:moveTo>
                <a:cubicBezTo>
                  <a:pt x="20574" y="13385"/>
                  <a:pt x="20644" y="13508"/>
                  <a:pt x="20687" y="13667"/>
                </a:cubicBezTo>
                <a:cubicBezTo>
                  <a:pt x="20725" y="13806"/>
                  <a:pt x="20733" y="13970"/>
                  <a:pt x="20737" y="14114"/>
                </a:cubicBezTo>
                <a:cubicBezTo>
                  <a:pt x="20740" y="14211"/>
                  <a:pt x="20724" y="14324"/>
                  <a:pt x="20687" y="14412"/>
                </a:cubicBezTo>
                <a:cubicBezTo>
                  <a:pt x="20669" y="14454"/>
                  <a:pt x="20648" y="14532"/>
                  <a:pt x="20613" y="14536"/>
                </a:cubicBezTo>
                <a:cubicBezTo>
                  <a:pt x="20588" y="14536"/>
                  <a:pt x="20580" y="14536"/>
                  <a:pt x="20588" y="14511"/>
                </a:cubicBezTo>
              </a:path>
              <a:path w="3276" h="2655">
                <a:moveTo>
                  <a:pt x="20886" y="13221"/>
                </a:moveTo>
                <a:cubicBezTo>
                  <a:pt x="21007" y="13232"/>
                  <a:pt x="21077" y="13273"/>
                  <a:pt x="21134" y="13395"/>
                </a:cubicBezTo>
                <a:cubicBezTo>
                  <a:pt x="21158" y="13445"/>
                  <a:pt x="21099" y="13460"/>
                  <a:pt x="21084" y="13494"/>
                </a:cubicBezTo>
                <a:cubicBezTo>
                  <a:pt x="21073" y="13519"/>
                  <a:pt x="21007" y="13519"/>
                  <a:pt x="21034" y="13568"/>
                </a:cubicBezTo>
                <a:cubicBezTo>
                  <a:pt x="21052" y="13600"/>
                  <a:pt x="21127" y="13659"/>
                  <a:pt x="21158" y="13667"/>
                </a:cubicBezTo>
                <a:cubicBezTo>
                  <a:pt x="21227" y="13685"/>
                  <a:pt x="21293" y="13698"/>
                  <a:pt x="21357" y="13742"/>
                </a:cubicBezTo>
                <a:cubicBezTo>
                  <a:pt x="21365" y="13750"/>
                  <a:pt x="21374" y="13759"/>
                  <a:pt x="21382" y="13767"/>
                </a:cubicBezTo>
              </a:path>
              <a:path w="3276" h="2655">
                <a:moveTo>
                  <a:pt x="21382" y="14486"/>
                </a:moveTo>
                <a:cubicBezTo>
                  <a:pt x="21221" y="14575"/>
                  <a:pt x="21067" y="14621"/>
                  <a:pt x="20886" y="14660"/>
                </a:cubicBezTo>
                <a:cubicBezTo>
                  <a:pt x="20625" y="14716"/>
                  <a:pt x="20356" y="14709"/>
                  <a:pt x="20092" y="14734"/>
                </a:cubicBezTo>
                <a:cubicBezTo>
                  <a:pt x="19876" y="14755"/>
                  <a:pt x="19687" y="14747"/>
                  <a:pt x="19472" y="14734"/>
                </a:cubicBezTo>
                <a:cubicBezTo>
                  <a:pt x="19215" y="14718"/>
                  <a:pt x="18956" y="14738"/>
                  <a:pt x="18703" y="14759"/>
                </a:cubicBezTo>
                <a:cubicBezTo>
                  <a:pt x="18628" y="14765"/>
                  <a:pt x="18465" y="14788"/>
                  <a:pt x="18405" y="14734"/>
                </a:cubicBezTo>
                <a:cubicBezTo>
                  <a:pt x="18405" y="14726"/>
                  <a:pt x="18405" y="14717"/>
                  <a:pt x="18405" y="14709"/>
                </a:cubicBezTo>
              </a:path>
              <a:path w="3276" h="2655">
                <a:moveTo>
                  <a:pt x="19323" y="15056"/>
                </a:moveTo>
                <a:cubicBezTo>
                  <a:pt x="19385" y="15047"/>
                  <a:pt x="19430" y="15018"/>
                  <a:pt x="19496" y="15007"/>
                </a:cubicBezTo>
                <a:cubicBezTo>
                  <a:pt x="19581" y="14992"/>
                  <a:pt x="19636" y="15062"/>
                  <a:pt x="19695" y="15106"/>
                </a:cubicBezTo>
                <a:cubicBezTo>
                  <a:pt x="19802" y="15185"/>
                  <a:pt x="19815" y="15271"/>
                  <a:pt x="19819" y="15404"/>
                </a:cubicBezTo>
                <a:cubicBezTo>
                  <a:pt x="19822" y="15501"/>
                  <a:pt x="19800" y="15612"/>
                  <a:pt x="19720" y="15677"/>
                </a:cubicBezTo>
                <a:cubicBezTo>
                  <a:pt x="19698" y="15695"/>
                  <a:pt x="19624" y="15753"/>
                  <a:pt x="19596" y="15751"/>
                </a:cubicBezTo>
                <a:cubicBezTo>
                  <a:pt x="19559" y="15748"/>
                  <a:pt x="19540" y="15711"/>
                  <a:pt x="19546" y="15677"/>
                </a:cubicBezTo>
                <a:cubicBezTo>
                  <a:pt x="19554" y="15631"/>
                  <a:pt x="19578" y="15612"/>
                  <a:pt x="19621" y="15602"/>
                </a:cubicBezTo>
                <a:cubicBezTo>
                  <a:pt x="19708" y="15581"/>
                  <a:pt x="19884" y="15692"/>
                  <a:pt x="19943" y="15726"/>
                </a:cubicBezTo>
                <a:cubicBezTo>
                  <a:pt x="19976" y="15745"/>
                  <a:pt x="20103" y="15879"/>
                  <a:pt x="20141" y="15875"/>
                </a:cubicBezTo>
                <a:cubicBezTo>
                  <a:pt x="20149" y="15867"/>
                  <a:pt x="20158" y="15858"/>
                  <a:pt x="20166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70000" y="2608200"/>
            <a:ext cx="446040" cy="785880"/>
          </a:xfrm>
          <a:custGeom>
            <a:avLst/>
            <a:gdLst/>
            <a:ahLst/>
            <a:rect l="l" t="t" r="r" b="b"/>
            <a:pathLst>
              <a:path w="1242" h="2184">
                <a:moveTo>
                  <a:pt x="3547" y="7293"/>
                </a:moveTo>
                <a:cubicBezTo>
                  <a:pt x="3567" y="7277"/>
                  <a:pt x="3576" y="7254"/>
                  <a:pt x="3621" y="7243"/>
                </a:cubicBezTo>
                <a:cubicBezTo>
                  <a:pt x="3686" y="7228"/>
                  <a:pt x="3738" y="7261"/>
                  <a:pt x="3795" y="7268"/>
                </a:cubicBezTo>
                <a:cubicBezTo>
                  <a:pt x="3846" y="7275"/>
                  <a:pt x="3898" y="7270"/>
                  <a:pt x="3944" y="7293"/>
                </a:cubicBezTo>
                <a:cubicBezTo>
                  <a:pt x="4021" y="7331"/>
                  <a:pt x="4032" y="7361"/>
                  <a:pt x="4068" y="7417"/>
                </a:cubicBezTo>
                <a:cubicBezTo>
                  <a:pt x="4104" y="7474"/>
                  <a:pt x="4090" y="7460"/>
                  <a:pt x="4068" y="7516"/>
                </a:cubicBezTo>
                <a:cubicBezTo>
                  <a:pt x="4051" y="7558"/>
                  <a:pt x="4021" y="7575"/>
                  <a:pt x="3994" y="7615"/>
                </a:cubicBezTo>
                <a:cubicBezTo>
                  <a:pt x="3972" y="7649"/>
                  <a:pt x="3936" y="7668"/>
                  <a:pt x="3919" y="7689"/>
                </a:cubicBezTo>
                <a:cubicBezTo>
                  <a:pt x="3897" y="7717"/>
                  <a:pt x="3882" y="7749"/>
                  <a:pt x="3894" y="7789"/>
                </a:cubicBezTo>
                <a:cubicBezTo>
                  <a:pt x="3901" y="7811"/>
                  <a:pt x="4005" y="7845"/>
                  <a:pt x="4043" y="7863"/>
                </a:cubicBezTo>
                <a:cubicBezTo>
                  <a:pt x="4103" y="7891"/>
                  <a:pt x="4145" y="7918"/>
                  <a:pt x="4192" y="7962"/>
                </a:cubicBezTo>
                <a:cubicBezTo>
                  <a:pt x="4237" y="8005"/>
                  <a:pt x="4295" y="8076"/>
                  <a:pt x="4316" y="8136"/>
                </a:cubicBezTo>
                <a:cubicBezTo>
                  <a:pt x="4354" y="8247"/>
                  <a:pt x="4333" y="8305"/>
                  <a:pt x="4316" y="8409"/>
                </a:cubicBezTo>
                <a:cubicBezTo>
                  <a:pt x="4306" y="8474"/>
                  <a:pt x="4287" y="8553"/>
                  <a:pt x="4242" y="8607"/>
                </a:cubicBezTo>
                <a:cubicBezTo>
                  <a:pt x="4197" y="8661"/>
                  <a:pt x="4132" y="8707"/>
                  <a:pt x="4093" y="8756"/>
                </a:cubicBezTo>
                <a:cubicBezTo>
                  <a:pt x="4039" y="8824"/>
                  <a:pt x="3977" y="8861"/>
                  <a:pt x="3894" y="8905"/>
                </a:cubicBezTo>
                <a:cubicBezTo>
                  <a:pt x="3813" y="8948"/>
                  <a:pt x="3735" y="8976"/>
                  <a:pt x="3646" y="8979"/>
                </a:cubicBezTo>
                <a:cubicBezTo>
                  <a:pt x="3559" y="8982"/>
                  <a:pt x="3488" y="9004"/>
                  <a:pt x="3398" y="9004"/>
                </a:cubicBezTo>
                <a:cubicBezTo>
                  <a:pt x="3348" y="9004"/>
                  <a:pt x="3299" y="9004"/>
                  <a:pt x="3249" y="9004"/>
                </a:cubicBezTo>
              </a:path>
              <a:path w="1242" h="2184">
                <a:moveTo>
                  <a:pt x="4465" y="8905"/>
                </a:moveTo>
                <a:cubicBezTo>
                  <a:pt x="4465" y="8930"/>
                  <a:pt x="4465" y="8938"/>
                  <a:pt x="4465" y="8954"/>
                </a:cubicBezTo>
                <a:cubicBezTo>
                  <a:pt x="4503" y="8967"/>
                  <a:pt x="4490" y="8984"/>
                  <a:pt x="4490" y="9029"/>
                </a:cubicBezTo>
                <a:cubicBezTo>
                  <a:pt x="4490" y="9042"/>
                  <a:pt x="4471" y="9139"/>
                  <a:pt x="4465" y="9153"/>
                </a:cubicBezTo>
                <a:cubicBezTo>
                  <a:pt x="4450" y="9189"/>
                  <a:pt x="4431" y="9244"/>
                  <a:pt x="4415" y="9277"/>
                </a:cubicBezTo>
                <a:cubicBezTo>
                  <a:pt x="4400" y="9306"/>
                  <a:pt x="4357" y="9353"/>
                  <a:pt x="4341" y="9376"/>
                </a:cubicBezTo>
                <a:cubicBezTo>
                  <a:pt x="4318" y="9399"/>
                  <a:pt x="4314" y="9407"/>
                  <a:pt x="4291" y="9401"/>
                </a:cubicBezTo>
                <a:cubicBezTo>
                  <a:pt x="4279" y="9436"/>
                  <a:pt x="4284" y="9426"/>
                  <a:pt x="4242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37080" y="2490840"/>
            <a:ext cx="480960" cy="1001520"/>
          </a:xfrm>
          <a:custGeom>
            <a:avLst/>
            <a:gdLst/>
            <a:ahLst/>
            <a:rect l="l" t="t" r="r" b="b"/>
            <a:pathLst>
              <a:path w="1340" h="2779">
                <a:moveTo>
                  <a:pt x="12601" y="6945"/>
                </a:moveTo>
                <a:cubicBezTo>
                  <a:pt x="12601" y="7185"/>
                  <a:pt x="12601" y="7425"/>
                  <a:pt x="12601" y="7665"/>
                </a:cubicBezTo>
              </a:path>
              <a:path w="1340" h="2779">
                <a:moveTo>
                  <a:pt x="12923" y="7020"/>
                </a:moveTo>
                <a:cubicBezTo>
                  <a:pt x="12879" y="7020"/>
                  <a:pt x="12874" y="7027"/>
                  <a:pt x="12849" y="7045"/>
                </a:cubicBezTo>
                <a:cubicBezTo>
                  <a:pt x="12815" y="7070"/>
                  <a:pt x="12819" y="7114"/>
                  <a:pt x="12799" y="7144"/>
                </a:cubicBezTo>
                <a:cubicBezTo>
                  <a:pt x="12791" y="7152"/>
                  <a:pt x="12782" y="7161"/>
                  <a:pt x="12774" y="7169"/>
                </a:cubicBezTo>
                <a:cubicBezTo>
                  <a:pt x="12795" y="7229"/>
                  <a:pt x="12799" y="7194"/>
                  <a:pt x="12874" y="7218"/>
                </a:cubicBezTo>
                <a:cubicBezTo>
                  <a:pt x="12940" y="7239"/>
                  <a:pt x="12983" y="7271"/>
                  <a:pt x="13047" y="7293"/>
                </a:cubicBezTo>
                <a:cubicBezTo>
                  <a:pt x="13089" y="7307"/>
                  <a:pt x="13149" y="7317"/>
                  <a:pt x="13171" y="7367"/>
                </a:cubicBezTo>
                <a:cubicBezTo>
                  <a:pt x="13196" y="7425"/>
                  <a:pt x="13188" y="7435"/>
                  <a:pt x="13171" y="7491"/>
                </a:cubicBezTo>
                <a:cubicBezTo>
                  <a:pt x="13156" y="7541"/>
                  <a:pt x="13165" y="7547"/>
                  <a:pt x="13122" y="7590"/>
                </a:cubicBezTo>
                <a:cubicBezTo>
                  <a:pt x="13092" y="7621"/>
                  <a:pt x="13053" y="7619"/>
                  <a:pt x="13022" y="7640"/>
                </a:cubicBezTo>
                <a:cubicBezTo>
                  <a:pt x="12988" y="7663"/>
                  <a:pt x="12956" y="7688"/>
                  <a:pt x="12923" y="7640"/>
                </a:cubicBezTo>
                <a:cubicBezTo>
                  <a:pt x="12915" y="7623"/>
                  <a:pt x="12906" y="7607"/>
                  <a:pt x="12898" y="7590"/>
                </a:cubicBezTo>
              </a:path>
              <a:path w="1340" h="2779">
                <a:moveTo>
                  <a:pt x="12898" y="7020"/>
                </a:moveTo>
                <a:cubicBezTo>
                  <a:pt x="12938" y="6960"/>
                  <a:pt x="12930" y="6970"/>
                  <a:pt x="12998" y="6970"/>
                </a:cubicBezTo>
                <a:cubicBezTo>
                  <a:pt x="13040" y="6970"/>
                  <a:pt x="13071" y="6945"/>
                  <a:pt x="13122" y="6945"/>
                </a:cubicBezTo>
                <a:cubicBezTo>
                  <a:pt x="13193" y="6945"/>
                  <a:pt x="13223" y="6928"/>
                  <a:pt x="13295" y="6921"/>
                </a:cubicBezTo>
              </a:path>
              <a:path w="1340" h="2779">
                <a:moveTo>
                  <a:pt x="13568" y="7169"/>
                </a:moveTo>
                <a:cubicBezTo>
                  <a:pt x="13550" y="7235"/>
                  <a:pt x="13542" y="7306"/>
                  <a:pt x="13519" y="7367"/>
                </a:cubicBezTo>
                <a:cubicBezTo>
                  <a:pt x="13490" y="7443"/>
                  <a:pt x="13448" y="7514"/>
                  <a:pt x="13419" y="7590"/>
                </a:cubicBezTo>
                <a:cubicBezTo>
                  <a:pt x="13382" y="7687"/>
                  <a:pt x="13389" y="7797"/>
                  <a:pt x="13345" y="7888"/>
                </a:cubicBezTo>
                <a:cubicBezTo>
                  <a:pt x="13261" y="8061"/>
                  <a:pt x="13205" y="8247"/>
                  <a:pt x="13146" y="8434"/>
                </a:cubicBezTo>
                <a:cubicBezTo>
                  <a:pt x="13098" y="8586"/>
                  <a:pt x="13024" y="8728"/>
                  <a:pt x="12973" y="8880"/>
                </a:cubicBezTo>
                <a:cubicBezTo>
                  <a:pt x="12934" y="8998"/>
                  <a:pt x="12874" y="9091"/>
                  <a:pt x="12824" y="9203"/>
                </a:cubicBezTo>
                <a:cubicBezTo>
                  <a:pt x="12789" y="9281"/>
                  <a:pt x="12780" y="9381"/>
                  <a:pt x="12725" y="9451"/>
                </a:cubicBezTo>
                <a:cubicBezTo>
                  <a:pt x="12700" y="9475"/>
                  <a:pt x="12691" y="9483"/>
                  <a:pt x="12675" y="9500"/>
                </a:cubicBezTo>
              </a:path>
              <a:path w="1340" h="2779">
                <a:moveTo>
                  <a:pt x="13146" y="9079"/>
                </a:moveTo>
                <a:cubicBezTo>
                  <a:pt x="13146" y="9054"/>
                  <a:pt x="13146" y="9046"/>
                  <a:pt x="13146" y="9029"/>
                </a:cubicBezTo>
                <a:cubicBezTo>
                  <a:pt x="13200" y="9029"/>
                  <a:pt x="13216" y="9007"/>
                  <a:pt x="13271" y="9004"/>
                </a:cubicBezTo>
                <a:cubicBezTo>
                  <a:pt x="13330" y="9001"/>
                  <a:pt x="13340" y="9007"/>
                  <a:pt x="13370" y="9029"/>
                </a:cubicBezTo>
                <a:cubicBezTo>
                  <a:pt x="13423" y="9068"/>
                  <a:pt x="13375" y="9083"/>
                  <a:pt x="13370" y="9128"/>
                </a:cubicBezTo>
                <a:cubicBezTo>
                  <a:pt x="13369" y="9135"/>
                  <a:pt x="13327" y="9199"/>
                  <a:pt x="13320" y="9203"/>
                </a:cubicBezTo>
                <a:cubicBezTo>
                  <a:pt x="13295" y="9203"/>
                  <a:pt x="13287" y="9203"/>
                  <a:pt x="13295" y="9227"/>
                </a:cubicBezTo>
                <a:cubicBezTo>
                  <a:pt x="13307" y="9264"/>
                  <a:pt x="13352" y="9251"/>
                  <a:pt x="13370" y="9277"/>
                </a:cubicBezTo>
                <a:cubicBezTo>
                  <a:pt x="13403" y="9327"/>
                  <a:pt x="13419" y="9311"/>
                  <a:pt x="13469" y="9351"/>
                </a:cubicBezTo>
                <a:cubicBezTo>
                  <a:pt x="13520" y="9391"/>
                  <a:pt x="13537" y="9436"/>
                  <a:pt x="13543" y="9500"/>
                </a:cubicBezTo>
                <a:cubicBezTo>
                  <a:pt x="13547" y="9541"/>
                  <a:pt x="13536" y="9553"/>
                  <a:pt x="13519" y="9575"/>
                </a:cubicBezTo>
                <a:cubicBezTo>
                  <a:pt x="13502" y="9597"/>
                  <a:pt x="13403" y="9638"/>
                  <a:pt x="13370" y="9649"/>
                </a:cubicBezTo>
                <a:cubicBezTo>
                  <a:pt x="13308" y="9670"/>
                  <a:pt x="13239" y="9693"/>
                  <a:pt x="13171" y="9699"/>
                </a:cubicBezTo>
                <a:cubicBezTo>
                  <a:pt x="13125" y="9703"/>
                  <a:pt x="13107" y="9701"/>
                  <a:pt x="13072" y="9674"/>
                </a:cubicBezTo>
              </a:path>
              <a:path w="1340" h="2779">
                <a:moveTo>
                  <a:pt x="13618" y="8880"/>
                </a:moveTo>
                <a:cubicBezTo>
                  <a:pt x="13618" y="8888"/>
                  <a:pt x="13618" y="8897"/>
                  <a:pt x="13618" y="8905"/>
                </a:cubicBezTo>
                <a:cubicBezTo>
                  <a:pt x="13679" y="8905"/>
                  <a:pt x="13911" y="8873"/>
                  <a:pt x="13940" y="8930"/>
                </a:cubicBezTo>
                <a:cubicBezTo>
                  <a:pt x="13947" y="8945"/>
                  <a:pt x="13940" y="8988"/>
                  <a:pt x="13940" y="9004"/>
                </a:cubicBezTo>
                <a:cubicBezTo>
                  <a:pt x="13917" y="9012"/>
                  <a:pt x="13902" y="9046"/>
                  <a:pt x="13891" y="9079"/>
                </a:cubicBezTo>
                <a:cubicBezTo>
                  <a:pt x="13880" y="9113"/>
                  <a:pt x="13880" y="9170"/>
                  <a:pt x="13866" y="9203"/>
                </a:cubicBezTo>
                <a:cubicBezTo>
                  <a:pt x="13849" y="9242"/>
                  <a:pt x="13828" y="9287"/>
                  <a:pt x="13816" y="9327"/>
                </a:cubicBezTo>
                <a:cubicBezTo>
                  <a:pt x="13805" y="9361"/>
                  <a:pt x="13801" y="9395"/>
                  <a:pt x="13791" y="9426"/>
                </a:cubicBezTo>
                <a:cubicBezTo>
                  <a:pt x="13781" y="9456"/>
                  <a:pt x="13770" y="9496"/>
                  <a:pt x="13767" y="9525"/>
                </a:cubicBezTo>
                <a:cubicBezTo>
                  <a:pt x="13767" y="9553"/>
                  <a:pt x="13765" y="9564"/>
                  <a:pt x="13742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98920" y="2463840"/>
            <a:ext cx="741240" cy="1135080"/>
          </a:xfrm>
          <a:custGeom>
            <a:avLst/>
            <a:gdLst/>
            <a:ahLst/>
            <a:rect l="l" t="t" r="r" b="b"/>
            <a:pathLst>
              <a:path w="2060" h="3151">
                <a:moveTo>
                  <a:pt x="9996" y="6970"/>
                </a:moveTo>
                <a:cubicBezTo>
                  <a:pt x="10043" y="6950"/>
                  <a:pt x="10066" y="6925"/>
                  <a:pt x="10096" y="6921"/>
                </a:cubicBezTo>
                <a:cubicBezTo>
                  <a:pt x="10151" y="6914"/>
                  <a:pt x="10175" y="6940"/>
                  <a:pt x="10220" y="6945"/>
                </a:cubicBezTo>
                <a:cubicBezTo>
                  <a:pt x="10256" y="6949"/>
                  <a:pt x="10298" y="6987"/>
                  <a:pt x="10319" y="7020"/>
                </a:cubicBezTo>
                <a:cubicBezTo>
                  <a:pt x="10356" y="7076"/>
                  <a:pt x="10388" y="7133"/>
                  <a:pt x="10418" y="7193"/>
                </a:cubicBezTo>
                <a:cubicBezTo>
                  <a:pt x="10451" y="7259"/>
                  <a:pt x="10464" y="7343"/>
                  <a:pt x="10468" y="7417"/>
                </a:cubicBezTo>
                <a:cubicBezTo>
                  <a:pt x="10472" y="7490"/>
                  <a:pt x="10475" y="7556"/>
                  <a:pt x="10443" y="7615"/>
                </a:cubicBezTo>
                <a:cubicBezTo>
                  <a:pt x="10415" y="7667"/>
                  <a:pt x="10399" y="7720"/>
                  <a:pt x="10344" y="7739"/>
                </a:cubicBezTo>
                <a:cubicBezTo>
                  <a:pt x="10318" y="7748"/>
                  <a:pt x="10251" y="7782"/>
                  <a:pt x="10220" y="7764"/>
                </a:cubicBezTo>
                <a:cubicBezTo>
                  <a:pt x="10179" y="7741"/>
                  <a:pt x="10165" y="7694"/>
                  <a:pt x="10145" y="7665"/>
                </a:cubicBezTo>
                <a:cubicBezTo>
                  <a:pt x="10105" y="7606"/>
                  <a:pt x="10129" y="7623"/>
                  <a:pt x="10145" y="7590"/>
                </a:cubicBezTo>
                <a:cubicBezTo>
                  <a:pt x="10160" y="7560"/>
                  <a:pt x="10180" y="7509"/>
                  <a:pt x="10220" y="7491"/>
                </a:cubicBezTo>
                <a:cubicBezTo>
                  <a:pt x="10259" y="7473"/>
                  <a:pt x="10317" y="7494"/>
                  <a:pt x="10344" y="7516"/>
                </a:cubicBezTo>
                <a:cubicBezTo>
                  <a:pt x="10405" y="7565"/>
                  <a:pt x="10454" y="7632"/>
                  <a:pt x="10492" y="7689"/>
                </a:cubicBezTo>
                <a:cubicBezTo>
                  <a:pt x="10500" y="7697"/>
                  <a:pt x="10509" y="7706"/>
                  <a:pt x="10517" y="7714"/>
                </a:cubicBezTo>
              </a:path>
              <a:path w="2060" h="3151">
                <a:moveTo>
                  <a:pt x="10740" y="6871"/>
                </a:moveTo>
                <a:cubicBezTo>
                  <a:pt x="10740" y="6931"/>
                  <a:pt x="10750" y="6970"/>
                  <a:pt x="10765" y="7020"/>
                </a:cubicBezTo>
                <a:cubicBezTo>
                  <a:pt x="10781" y="7075"/>
                  <a:pt x="10775" y="7143"/>
                  <a:pt x="10790" y="7193"/>
                </a:cubicBezTo>
                <a:cubicBezTo>
                  <a:pt x="10808" y="7252"/>
                  <a:pt x="10827" y="7243"/>
                  <a:pt x="10889" y="7243"/>
                </a:cubicBezTo>
                <a:cubicBezTo>
                  <a:pt x="10938" y="7243"/>
                  <a:pt x="10975" y="7226"/>
                  <a:pt x="11013" y="7218"/>
                </a:cubicBezTo>
                <a:cubicBezTo>
                  <a:pt x="11064" y="7208"/>
                  <a:pt x="11092" y="7204"/>
                  <a:pt x="11137" y="7193"/>
                </a:cubicBezTo>
              </a:path>
              <a:path w="2060" h="3151">
                <a:moveTo>
                  <a:pt x="11038" y="6846"/>
                </a:moveTo>
                <a:cubicBezTo>
                  <a:pt x="11038" y="7036"/>
                  <a:pt x="11021" y="7237"/>
                  <a:pt x="11063" y="7417"/>
                </a:cubicBezTo>
                <a:cubicBezTo>
                  <a:pt x="11076" y="7472"/>
                  <a:pt x="11043" y="7497"/>
                  <a:pt x="11038" y="7541"/>
                </a:cubicBezTo>
                <a:cubicBezTo>
                  <a:pt x="11038" y="7565"/>
                  <a:pt x="11038" y="7574"/>
                  <a:pt x="11038" y="7590"/>
                </a:cubicBezTo>
              </a:path>
              <a:path w="2060" h="3151">
                <a:moveTo>
                  <a:pt x="11509" y="6995"/>
                </a:moveTo>
                <a:cubicBezTo>
                  <a:pt x="11491" y="7049"/>
                  <a:pt x="11483" y="7086"/>
                  <a:pt x="11460" y="7144"/>
                </a:cubicBezTo>
                <a:cubicBezTo>
                  <a:pt x="11428" y="7225"/>
                  <a:pt x="11351" y="7332"/>
                  <a:pt x="11336" y="7417"/>
                </a:cubicBezTo>
                <a:cubicBezTo>
                  <a:pt x="11320" y="7508"/>
                  <a:pt x="11306" y="7602"/>
                  <a:pt x="11261" y="7689"/>
                </a:cubicBezTo>
                <a:cubicBezTo>
                  <a:pt x="11213" y="7782"/>
                  <a:pt x="11170" y="7861"/>
                  <a:pt x="11137" y="7962"/>
                </a:cubicBezTo>
                <a:cubicBezTo>
                  <a:pt x="11091" y="8104"/>
                  <a:pt x="11031" y="8242"/>
                  <a:pt x="10988" y="8384"/>
                </a:cubicBezTo>
                <a:cubicBezTo>
                  <a:pt x="10953" y="8500"/>
                  <a:pt x="10912" y="8618"/>
                  <a:pt x="10864" y="8731"/>
                </a:cubicBezTo>
                <a:cubicBezTo>
                  <a:pt x="10804" y="8873"/>
                  <a:pt x="10753" y="9015"/>
                  <a:pt x="10691" y="9153"/>
                </a:cubicBezTo>
                <a:cubicBezTo>
                  <a:pt x="10648" y="9250"/>
                  <a:pt x="10587" y="9336"/>
                  <a:pt x="10542" y="9426"/>
                </a:cubicBezTo>
                <a:cubicBezTo>
                  <a:pt x="10512" y="9485"/>
                  <a:pt x="10472" y="9521"/>
                  <a:pt x="10443" y="9575"/>
                </a:cubicBezTo>
                <a:cubicBezTo>
                  <a:pt x="10443" y="9583"/>
                  <a:pt x="10443" y="9591"/>
                  <a:pt x="10443" y="9599"/>
                </a:cubicBezTo>
              </a:path>
              <a:path w="2060" h="3151">
                <a:moveTo>
                  <a:pt x="10914" y="9054"/>
                </a:moveTo>
                <a:cubicBezTo>
                  <a:pt x="10963" y="9024"/>
                  <a:pt x="11015" y="8995"/>
                  <a:pt x="11063" y="8979"/>
                </a:cubicBezTo>
                <a:cubicBezTo>
                  <a:pt x="11129" y="8957"/>
                  <a:pt x="11170" y="9039"/>
                  <a:pt x="11187" y="9079"/>
                </a:cubicBezTo>
                <a:cubicBezTo>
                  <a:pt x="11221" y="9156"/>
                  <a:pt x="11201" y="9158"/>
                  <a:pt x="11187" y="9227"/>
                </a:cubicBezTo>
                <a:cubicBezTo>
                  <a:pt x="11173" y="9297"/>
                  <a:pt x="11152" y="9358"/>
                  <a:pt x="11137" y="9426"/>
                </a:cubicBezTo>
                <a:cubicBezTo>
                  <a:pt x="11125" y="9477"/>
                  <a:pt x="11115" y="9539"/>
                  <a:pt x="11063" y="9575"/>
                </a:cubicBezTo>
                <a:cubicBezTo>
                  <a:pt x="11006" y="9615"/>
                  <a:pt x="10981" y="9624"/>
                  <a:pt x="10914" y="9624"/>
                </a:cubicBezTo>
                <a:cubicBezTo>
                  <a:pt x="10889" y="9624"/>
                  <a:pt x="10881" y="9624"/>
                  <a:pt x="10864" y="9624"/>
                </a:cubicBezTo>
                <a:cubicBezTo>
                  <a:pt x="10871" y="9592"/>
                  <a:pt x="10880" y="9517"/>
                  <a:pt x="10914" y="9500"/>
                </a:cubicBezTo>
                <a:cubicBezTo>
                  <a:pt x="10955" y="9480"/>
                  <a:pt x="11014" y="9462"/>
                  <a:pt x="11063" y="9451"/>
                </a:cubicBezTo>
                <a:cubicBezTo>
                  <a:pt x="11095" y="9444"/>
                  <a:pt x="11140" y="9461"/>
                  <a:pt x="11162" y="9475"/>
                </a:cubicBezTo>
                <a:cubicBezTo>
                  <a:pt x="11195" y="9497"/>
                  <a:pt x="11224" y="9510"/>
                  <a:pt x="11237" y="9550"/>
                </a:cubicBezTo>
                <a:cubicBezTo>
                  <a:pt x="11246" y="9578"/>
                  <a:pt x="11237" y="9619"/>
                  <a:pt x="11237" y="9649"/>
                </a:cubicBezTo>
              </a:path>
              <a:path w="2060" h="3151">
                <a:moveTo>
                  <a:pt x="11038" y="8781"/>
                </a:moveTo>
                <a:cubicBezTo>
                  <a:pt x="11036" y="8789"/>
                  <a:pt x="11016" y="8878"/>
                  <a:pt x="11013" y="8880"/>
                </a:cubicBezTo>
                <a:cubicBezTo>
                  <a:pt x="10990" y="8899"/>
                  <a:pt x="10967" y="8953"/>
                  <a:pt x="10964" y="9004"/>
                </a:cubicBezTo>
                <a:cubicBezTo>
                  <a:pt x="10960" y="9061"/>
                  <a:pt x="10944" y="9081"/>
                  <a:pt x="10939" y="9128"/>
                </a:cubicBezTo>
                <a:cubicBezTo>
                  <a:pt x="10936" y="9159"/>
                  <a:pt x="10949" y="9195"/>
                  <a:pt x="10964" y="9203"/>
                </a:cubicBezTo>
                <a:cubicBezTo>
                  <a:pt x="11004" y="9224"/>
                  <a:pt x="11055" y="9182"/>
                  <a:pt x="11088" y="9178"/>
                </a:cubicBezTo>
                <a:cubicBezTo>
                  <a:pt x="11159" y="9168"/>
                  <a:pt x="11225" y="9140"/>
                  <a:pt x="11286" y="9128"/>
                </a:cubicBezTo>
                <a:cubicBezTo>
                  <a:pt x="11341" y="9117"/>
                  <a:pt x="11363" y="9119"/>
                  <a:pt x="11410" y="9103"/>
                </a:cubicBezTo>
                <a:cubicBezTo>
                  <a:pt x="11429" y="9097"/>
                  <a:pt x="11465" y="9103"/>
                  <a:pt x="11485" y="9103"/>
                </a:cubicBezTo>
              </a:path>
              <a:path w="2060" h="3151">
                <a:moveTo>
                  <a:pt x="11361" y="8756"/>
                </a:moveTo>
                <a:cubicBezTo>
                  <a:pt x="11332" y="8807"/>
                  <a:pt x="11301" y="8855"/>
                  <a:pt x="11286" y="8905"/>
                </a:cubicBezTo>
                <a:cubicBezTo>
                  <a:pt x="11275" y="8941"/>
                  <a:pt x="11263" y="8992"/>
                  <a:pt x="11261" y="9029"/>
                </a:cubicBezTo>
                <a:cubicBezTo>
                  <a:pt x="11249" y="9203"/>
                  <a:pt x="11283" y="9391"/>
                  <a:pt x="11237" y="9550"/>
                </a:cubicBezTo>
                <a:cubicBezTo>
                  <a:pt x="11225" y="9592"/>
                  <a:pt x="11222" y="9634"/>
                  <a:pt x="11212" y="9674"/>
                </a:cubicBezTo>
              </a:path>
              <a:path w="2060" h="3151">
                <a:moveTo>
                  <a:pt x="11658" y="8706"/>
                </a:moveTo>
                <a:cubicBezTo>
                  <a:pt x="11681" y="8714"/>
                  <a:pt x="11706" y="8715"/>
                  <a:pt x="11733" y="8731"/>
                </a:cubicBezTo>
                <a:cubicBezTo>
                  <a:pt x="11774" y="8755"/>
                  <a:pt x="11814" y="8762"/>
                  <a:pt x="11857" y="8781"/>
                </a:cubicBezTo>
                <a:cubicBezTo>
                  <a:pt x="11891" y="8796"/>
                  <a:pt x="11944" y="8824"/>
                  <a:pt x="11956" y="8830"/>
                </a:cubicBezTo>
                <a:cubicBezTo>
                  <a:pt x="12001" y="8852"/>
                  <a:pt x="12005" y="8811"/>
                  <a:pt x="12005" y="8880"/>
                </a:cubicBezTo>
                <a:cubicBezTo>
                  <a:pt x="12005" y="8891"/>
                  <a:pt x="11991" y="8936"/>
                  <a:pt x="11981" y="8954"/>
                </a:cubicBezTo>
                <a:cubicBezTo>
                  <a:pt x="11933" y="9040"/>
                  <a:pt x="11912" y="9021"/>
                  <a:pt x="11881" y="9153"/>
                </a:cubicBezTo>
                <a:cubicBezTo>
                  <a:pt x="11868" y="9207"/>
                  <a:pt x="11873" y="9274"/>
                  <a:pt x="11857" y="9327"/>
                </a:cubicBezTo>
                <a:cubicBezTo>
                  <a:pt x="11844" y="9371"/>
                  <a:pt x="11813" y="9437"/>
                  <a:pt x="11807" y="9475"/>
                </a:cubicBezTo>
                <a:cubicBezTo>
                  <a:pt x="11796" y="9545"/>
                  <a:pt x="11797" y="9567"/>
                  <a:pt x="11782" y="9624"/>
                </a:cubicBezTo>
              </a:path>
              <a:path w="2060" h="3151">
                <a:moveTo>
                  <a:pt x="12055" y="9575"/>
                </a:moveTo>
                <a:cubicBezTo>
                  <a:pt x="12055" y="9646"/>
                  <a:pt x="12042" y="9683"/>
                  <a:pt x="12030" y="9748"/>
                </a:cubicBezTo>
                <a:cubicBezTo>
                  <a:pt x="12021" y="9801"/>
                  <a:pt x="12028" y="9850"/>
                  <a:pt x="12005" y="9897"/>
                </a:cubicBezTo>
                <a:cubicBezTo>
                  <a:pt x="11989" y="9931"/>
                  <a:pt x="11966" y="9934"/>
                  <a:pt x="11956" y="9971"/>
                </a:cubicBezTo>
                <a:cubicBezTo>
                  <a:pt x="11931" y="9971"/>
                  <a:pt x="11923" y="9971"/>
                  <a:pt x="11931" y="99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6680" y="2509920"/>
            <a:ext cx="679320" cy="1170000"/>
          </a:xfrm>
          <a:custGeom>
            <a:avLst/>
            <a:gdLst/>
            <a:ahLst/>
            <a:rect l="l" t="t" r="r" b="b"/>
            <a:pathLst>
              <a:path w="1886" h="3251">
                <a:moveTo>
                  <a:pt x="8111" y="7020"/>
                </a:moveTo>
                <a:cubicBezTo>
                  <a:pt x="8071" y="6960"/>
                  <a:pt x="8080" y="6970"/>
                  <a:pt x="8012" y="6970"/>
                </a:cubicBezTo>
                <a:cubicBezTo>
                  <a:pt x="7987" y="6970"/>
                  <a:pt x="7964" y="6997"/>
                  <a:pt x="7938" y="7020"/>
                </a:cubicBezTo>
                <a:cubicBezTo>
                  <a:pt x="7865" y="7086"/>
                  <a:pt x="7827" y="7141"/>
                  <a:pt x="7789" y="7218"/>
                </a:cubicBezTo>
                <a:cubicBezTo>
                  <a:pt x="7759" y="7278"/>
                  <a:pt x="7759" y="7332"/>
                  <a:pt x="7739" y="7392"/>
                </a:cubicBezTo>
                <a:cubicBezTo>
                  <a:pt x="7720" y="7447"/>
                  <a:pt x="7720" y="7510"/>
                  <a:pt x="7789" y="7541"/>
                </a:cubicBezTo>
                <a:cubicBezTo>
                  <a:pt x="7835" y="7562"/>
                  <a:pt x="7880" y="7527"/>
                  <a:pt x="7913" y="7516"/>
                </a:cubicBezTo>
                <a:cubicBezTo>
                  <a:pt x="7964" y="7499"/>
                  <a:pt x="7961" y="7479"/>
                  <a:pt x="7987" y="7441"/>
                </a:cubicBezTo>
                <a:cubicBezTo>
                  <a:pt x="8014" y="7401"/>
                  <a:pt x="8044" y="7384"/>
                  <a:pt x="8062" y="7342"/>
                </a:cubicBezTo>
                <a:cubicBezTo>
                  <a:pt x="8082" y="7294"/>
                  <a:pt x="8091" y="7233"/>
                  <a:pt x="8111" y="7193"/>
                </a:cubicBezTo>
                <a:cubicBezTo>
                  <a:pt x="8131" y="7154"/>
                  <a:pt x="8148" y="7110"/>
                  <a:pt x="8161" y="7069"/>
                </a:cubicBezTo>
                <a:cubicBezTo>
                  <a:pt x="8173" y="7030"/>
                  <a:pt x="8178" y="7006"/>
                  <a:pt x="8210" y="6995"/>
                </a:cubicBezTo>
                <a:cubicBezTo>
                  <a:pt x="8210" y="7180"/>
                  <a:pt x="8208" y="7363"/>
                  <a:pt x="8186" y="7541"/>
                </a:cubicBezTo>
                <a:cubicBezTo>
                  <a:pt x="8172" y="7650"/>
                  <a:pt x="8179" y="7758"/>
                  <a:pt x="8161" y="7863"/>
                </a:cubicBezTo>
                <a:cubicBezTo>
                  <a:pt x="8155" y="7901"/>
                  <a:pt x="8161" y="7948"/>
                  <a:pt x="8161" y="7987"/>
                </a:cubicBezTo>
              </a:path>
              <a:path w="1886" h="3251">
                <a:moveTo>
                  <a:pt x="8682" y="7169"/>
                </a:moveTo>
                <a:cubicBezTo>
                  <a:pt x="8669" y="7204"/>
                  <a:pt x="8667" y="7230"/>
                  <a:pt x="8657" y="7268"/>
                </a:cubicBezTo>
                <a:cubicBezTo>
                  <a:pt x="8644" y="7316"/>
                  <a:pt x="8624" y="7389"/>
                  <a:pt x="8607" y="7441"/>
                </a:cubicBezTo>
                <a:cubicBezTo>
                  <a:pt x="8570" y="7553"/>
                  <a:pt x="8563" y="7655"/>
                  <a:pt x="8533" y="7764"/>
                </a:cubicBezTo>
                <a:cubicBezTo>
                  <a:pt x="8508" y="7856"/>
                  <a:pt x="8485" y="7945"/>
                  <a:pt x="8458" y="8037"/>
                </a:cubicBezTo>
                <a:cubicBezTo>
                  <a:pt x="8427" y="8145"/>
                  <a:pt x="8390" y="8251"/>
                  <a:pt x="8359" y="8359"/>
                </a:cubicBezTo>
                <a:cubicBezTo>
                  <a:pt x="8328" y="8468"/>
                  <a:pt x="8283" y="8602"/>
                  <a:pt x="8235" y="8706"/>
                </a:cubicBezTo>
                <a:cubicBezTo>
                  <a:pt x="8189" y="8805"/>
                  <a:pt x="8153" y="8902"/>
                  <a:pt x="8111" y="9004"/>
                </a:cubicBezTo>
                <a:cubicBezTo>
                  <a:pt x="8079" y="9082"/>
                  <a:pt x="8025" y="9151"/>
                  <a:pt x="7987" y="9227"/>
                </a:cubicBezTo>
                <a:cubicBezTo>
                  <a:pt x="7954" y="9292"/>
                  <a:pt x="7938" y="9333"/>
                  <a:pt x="7913" y="9401"/>
                </a:cubicBezTo>
              </a:path>
              <a:path w="1886" h="3251">
                <a:moveTo>
                  <a:pt x="8508" y="8731"/>
                </a:moveTo>
                <a:cubicBezTo>
                  <a:pt x="8508" y="8843"/>
                  <a:pt x="8500" y="8925"/>
                  <a:pt x="8483" y="9029"/>
                </a:cubicBezTo>
                <a:cubicBezTo>
                  <a:pt x="8471" y="9103"/>
                  <a:pt x="8470" y="9181"/>
                  <a:pt x="8458" y="9252"/>
                </a:cubicBezTo>
                <a:cubicBezTo>
                  <a:pt x="8449" y="9307"/>
                  <a:pt x="8454" y="9400"/>
                  <a:pt x="8434" y="9451"/>
                </a:cubicBezTo>
                <a:cubicBezTo>
                  <a:pt x="8419" y="9490"/>
                  <a:pt x="8409" y="9479"/>
                  <a:pt x="8409" y="9525"/>
                </a:cubicBezTo>
              </a:path>
              <a:path w="1886" h="3251">
                <a:moveTo>
                  <a:pt x="8830" y="8582"/>
                </a:moveTo>
                <a:cubicBezTo>
                  <a:pt x="8969" y="8601"/>
                  <a:pt x="9001" y="8577"/>
                  <a:pt x="9079" y="8657"/>
                </a:cubicBezTo>
                <a:cubicBezTo>
                  <a:pt x="9131" y="8710"/>
                  <a:pt x="9093" y="8748"/>
                  <a:pt x="9079" y="8806"/>
                </a:cubicBezTo>
                <a:cubicBezTo>
                  <a:pt x="9067" y="8853"/>
                  <a:pt x="9023" y="8862"/>
                  <a:pt x="9004" y="8905"/>
                </a:cubicBezTo>
                <a:cubicBezTo>
                  <a:pt x="8987" y="8943"/>
                  <a:pt x="9024" y="8969"/>
                  <a:pt x="9054" y="8979"/>
                </a:cubicBezTo>
                <a:cubicBezTo>
                  <a:pt x="9096" y="8993"/>
                  <a:pt x="9133" y="9007"/>
                  <a:pt x="9178" y="9029"/>
                </a:cubicBezTo>
                <a:cubicBezTo>
                  <a:pt x="9214" y="9046"/>
                  <a:pt x="9284" y="9088"/>
                  <a:pt x="9302" y="9128"/>
                </a:cubicBezTo>
                <a:cubicBezTo>
                  <a:pt x="9326" y="9181"/>
                  <a:pt x="9308" y="9192"/>
                  <a:pt x="9302" y="9252"/>
                </a:cubicBezTo>
                <a:cubicBezTo>
                  <a:pt x="9297" y="9304"/>
                  <a:pt x="9258" y="9359"/>
                  <a:pt x="9227" y="9401"/>
                </a:cubicBezTo>
                <a:cubicBezTo>
                  <a:pt x="9201" y="9436"/>
                  <a:pt x="9121" y="9486"/>
                  <a:pt x="9079" y="9500"/>
                </a:cubicBezTo>
                <a:cubicBezTo>
                  <a:pt x="9039" y="9513"/>
                  <a:pt x="8993" y="9547"/>
                  <a:pt x="8954" y="9550"/>
                </a:cubicBezTo>
                <a:cubicBezTo>
                  <a:pt x="8903" y="9554"/>
                  <a:pt x="8898" y="9564"/>
                  <a:pt x="8855" y="9575"/>
                </a:cubicBezTo>
              </a:path>
              <a:path w="1886" h="3251">
                <a:moveTo>
                  <a:pt x="9599" y="9475"/>
                </a:moveTo>
                <a:cubicBezTo>
                  <a:pt x="9599" y="9549"/>
                  <a:pt x="9588" y="9612"/>
                  <a:pt x="9575" y="9674"/>
                </a:cubicBezTo>
                <a:cubicBezTo>
                  <a:pt x="9561" y="9739"/>
                  <a:pt x="9545" y="9782"/>
                  <a:pt x="9525" y="9847"/>
                </a:cubicBezTo>
                <a:cubicBezTo>
                  <a:pt x="9508" y="9903"/>
                  <a:pt x="9486" y="9970"/>
                  <a:pt x="9451" y="10021"/>
                </a:cubicBezTo>
                <a:cubicBezTo>
                  <a:pt x="9413" y="10076"/>
                  <a:pt x="9375" y="10121"/>
                  <a:pt x="9327" y="10170"/>
                </a:cubicBezTo>
                <a:cubicBezTo>
                  <a:pt x="9302" y="10195"/>
                  <a:pt x="9294" y="10203"/>
                  <a:pt x="9277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84240" y="2581200"/>
            <a:ext cx="642960" cy="936720"/>
          </a:xfrm>
          <a:custGeom>
            <a:avLst/>
            <a:gdLst/>
            <a:ahLst/>
            <a:rect l="l" t="t" r="r" b="b"/>
            <a:pathLst>
              <a:path w="1787" h="2605">
                <a:moveTo>
                  <a:pt x="5432" y="7193"/>
                </a:moveTo>
                <a:cubicBezTo>
                  <a:pt x="5448" y="7257"/>
                  <a:pt x="5452" y="7234"/>
                  <a:pt x="5432" y="7293"/>
                </a:cubicBezTo>
                <a:cubicBezTo>
                  <a:pt x="5419" y="7330"/>
                  <a:pt x="5422" y="7379"/>
                  <a:pt x="5407" y="7417"/>
                </a:cubicBezTo>
                <a:cubicBezTo>
                  <a:pt x="5381" y="7484"/>
                  <a:pt x="5345" y="7546"/>
                  <a:pt x="5333" y="7615"/>
                </a:cubicBezTo>
                <a:cubicBezTo>
                  <a:pt x="5321" y="7687"/>
                  <a:pt x="5278" y="7735"/>
                  <a:pt x="5259" y="7813"/>
                </a:cubicBezTo>
                <a:cubicBezTo>
                  <a:pt x="5252" y="7843"/>
                  <a:pt x="5241" y="7858"/>
                  <a:pt x="5234" y="7888"/>
                </a:cubicBezTo>
              </a:path>
              <a:path w="1787" h="2605">
                <a:moveTo>
                  <a:pt x="5730" y="7169"/>
                </a:moveTo>
                <a:cubicBezTo>
                  <a:pt x="5790" y="7169"/>
                  <a:pt x="5859" y="7152"/>
                  <a:pt x="5904" y="7193"/>
                </a:cubicBezTo>
                <a:cubicBezTo>
                  <a:pt x="5939" y="7224"/>
                  <a:pt x="6007" y="7247"/>
                  <a:pt x="6028" y="7293"/>
                </a:cubicBezTo>
                <a:cubicBezTo>
                  <a:pt x="6048" y="7337"/>
                  <a:pt x="6069" y="7418"/>
                  <a:pt x="6077" y="7466"/>
                </a:cubicBezTo>
                <a:cubicBezTo>
                  <a:pt x="6091" y="7549"/>
                  <a:pt x="6087" y="7672"/>
                  <a:pt x="6052" y="7739"/>
                </a:cubicBezTo>
                <a:cubicBezTo>
                  <a:pt x="6017" y="7807"/>
                  <a:pt x="6016" y="7884"/>
                  <a:pt x="5953" y="7938"/>
                </a:cubicBezTo>
                <a:cubicBezTo>
                  <a:pt x="5918" y="7968"/>
                  <a:pt x="5845" y="7984"/>
                  <a:pt x="5804" y="7987"/>
                </a:cubicBezTo>
                <a:cubicBezTo>
                  <a:pt x="5782" y="7989"/>
                  <a:pt x="5716" y="7960"/>
                  <a:pt x="5705" y="7938"/>
                </a:cubicBezTo>
                <a:cubicBezTo>
                  <a:pt x="5677" y="7882"/>
                  <a:pt x="5717" y="7789"/>
                  <a:pt x="5730" y="7739"/>
                </a:cubicBezTo>
                <a:cubicBezTo>
                  <a:pt x="5746" y="7676"/>
                  <a:pt x="5782" y="7693"/>
                  <a:pt x="5829" y="7665"/>
                </a:cubicBezTo>
                <a:cubicBezTo>
                  <a:pt x="5876" y="7637"/>
                  <a:pt x="5908" y="7636"/>
                  <a:pt x="5953" y="7665"/>
                </a:cubicBezTo>
                <a:cubicBezTo>
                  <a:pt x="5988" y="7688"/>
                  <a:pt x="6039" y="7773"/>
                  <a:pt x="6052" y="7813"/>
                </a:cubicBezTo>
                <a:cubicBezTo>
                  <a:pt x="6064" y="7851"/>
                  <a:pt x="6074" y="7882"/>
                  <a:pt x="6102" y="7913"/>
                </a:cubicBezTo>
                <a:cubicBezTo>
                  <a:pt x="6124" y="7935"/>
                  <a:pt x="6133" y="7940"/>
                  <a:pt x="6127" y="7962"/>
                </a:cubicBezTo>
              </a:path>
              <a:path w="1787" h="2605">
                <a:moveTo>
                  <a:pt x="6598" y="7392"/>
                </a:moveTo>
                <a:cubicBezTo>
                  <a:pt x="6571" y="7422"/>
                  <a:pt x="6534" y="7454"/>
                  <a:pt x="6524" y="7491"/>
                </a:cubicBezTo>
                <a:cubicBezTo>
                  <a:pt x="6507" y="7553"/>
                  <a:pt x="6470" y="7599"/>
                  <a:pt x="6449" y="7665"/>
                </a:cubicBezTo>
                <a:cubicBezTo>
                  <a:pt x="6420" y="7754"/>
                  <a:pt x="6384" y="7827"/>
                  <a:pt x="6350" y="7913"/>
                </a:cubicBezTo>
                <a:cubicBezTo>
                  <a:pt x="6314" y="8003"/>
                  <a:pt x="6304" y="8077"/>
                  <a:pt x="6276" y="8161"/>
                </a:cubicBezTo>
                <a:cubicBezTo>
                  <a:pt x="6252" y="8232"/>
                  <a:pt x="6217" y="8347"/>
                  <a:pt x="6176" y="8409"/>
                </a:cubicBezTo>
                <a:cubicBezTo>
                  <a:pt x="6128" y="8482"/>
                  <a:pt x="6064" y="8550"/>
                  <a:pt x="6028" y="8632"/>
                </a:cubicBezTo>
                <a:cubicBezTo>
                  <a:pt x="5990" y="8719"/>
                  <a:pt x="5945" y="8792"/>
                  <a:pt x="5904" y="8880"/>
                </a:cubicBezTo>
                <a:cubicBezTo>
                  <a:pt x="5872" y="8949"/>
                  <a:pt x="5819" y="9012"/>
                  <a:pt x="5779" y="9079"/>
                </a:cubicBezTo>
                <a:cubicBezTo>
                  <a:pt x="5741" y="9142"/>
                  <a:pt x="5709" y="9183"/>
                  <a:pt x="5680" y="9252"/>
                </a:cubicBezTo>
              </a:path>
              <a:path w="1787" h="2605">
                <a:moveTo>
                  <a:pt x="6400" y="8508"/>
                </a:moveTo>
                <a:cubicBezTo>
                  <a:pt x="6400" y="8576"/>
                  <a:pt x="6386" y="8619"/>
                  <a:pt x="6375" y="8682"/>
                </a:cubicBezTo>
                <a:cubicBezTo>
                  <a:pt x="6365" y="8739"/>
                  <a:pt x="6353" y="8798"/>
                  <a:pt x="6350" y="8855"/>
                </a:cubicBezTo>
                <a:cubicBezTo>
                  <a:pt x="6346" y="8919"/>
                  <a:pt x="6325" y="8963"/>
                  <a:pt x="6325" y="9029"/>
                </a:cubicBezTo>
                <a:cubicBezTo>
                  <a:pt x="6325" y="9085"/>
                  <a:pt x="6300" y="9098"/>
                  <a:pt x="6300" y="9153"/>
                </a:cubicBezTo>
                <a:cubicBezTo>
                  <a:pt x="6300" y="9210"/>
                  <a:pt x="6298" y="9228"/>
                  <a:pt x="6350" y="9203"/>
                </a:cubicBezTo>
              </a:path>
              <a:path w="1787" h="2605">
                <a:moveTo>
                  <a:pt x="6697" y="8483"/>
                </a:moveTo>
                <a:cubicBezTo>
                  <a:pt x="6697" y="8545"/>
                  <a:pt x="6687" y="8560"/>
                  <a:pt x="6722" y="8582"/>
                </a:cubicBezTo>
                <a:cubicBezTo>
                  <a:pt x="6686" y="8642"/>
                  <a:pt x="6697" y="8707"/>
                  <a:pt x="6697" y="8781"/>
                </a:cubicBezTo>
                <a:cubicBezTo>
                  <a:pt x="6697" y="8900"/>
                  <a:pt x="6707" y="9024"/>
                  <a:pt x="6672" y="9128"/>
                </a:cubicBezTo>
                <a:cubicBezTo>
                  <a:pt x="6672" y="9156"/>
                  <a:pt x="6674" y="9167"/>
                  <a:pt x="6697" y="9178"/>
                </a:cubicBezTo>
              </a:path>
              <a:path w="1787" h="2605">
                <a:moveTo>
                  <a:pt x="7020" y="9054"/>
                </a:moveTo>
                <a:cubicBezTo>
                  <a:pt x="7020" y="9130"/>
                  <a:pt x="7013" y="9181"/>
                  <a:pt x="6995" y="9252"/>
                </a:cubicBezTo>
                <a:cubicBezTo>
                  <a:pt x="6983" y="9301"/>
                  <a:pt x="6973" y="9352"/>
                  <a:pt x="6970" y="9401"/>
                </a:cubicBezTo>
                <a:cubicBezTo>
                  <a:pt x="6967" y="9459"/>
                  <a:pt x="6932" y="9524"/>
                  <a:pt x="6896" y="9575"/>
                </a:cubicBezTo>
                <a:cubicBezTo>
                  <a:pt x="6855" y="9633"/>
                  <a:pt x="6828" y="9657"/>
                  <a:pt x="6772" y="9699"/>
                </a:cubicBezTo>
                <a:cubicBezTo>
                  <a:pt x="6732" y="9728"/>
                  <a:pt x="6719" y="9761"/>
                  <a:pt x="6672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7960" y="3009960"/>
            <a:ext cx="1393920" cy="446040"/>
          </a:xfrm>
          <a:custGeom>
            <a:avLst/>
            <a:gdLst/>
            <a:ahLst/>
            <a:rect l="l" t="t" r="r" b="b"/>
            <a:pathLst>
              <a:path w="3870" h="1241">
                <a:moveTo>
                  <a:pt x="15280" y="8434"/>
                </a:moveTo>
                <a:cubicBezTo>
                  <a:pt x="15272" y="8426"/>
                  <a:pt x="15236" y="8388"/>
                  <a:pt x="15230" y="8384"/>
                </a:cubicBezTo>
                <a:cubicBezTo>
                  <a:pt x="15202" y="8366"/>
                  <a:pt x="15168" y="8361"/>
                  <a:pt x="15131" y="8359"/>
                </a:cubicBezTo>
                <a:cubicBezTo>
                  <a:pt x="15068" y="8355"/>
                  <a:pt x="15034" y="8365"/>
                  <a:pt x="14982" y="8384"/>
                </a:cubicBezTo>
                <a:cubicBezTo>
                  <a:pt x="14858" y="8429"/>
                  <a:pt x="14771" y="8516"/>
                  <a:pt x="14684" y="8607"/>
                </a:cubicBezTo>
                <a:cubicBezTo>
                  <a:pt x="14607" y="8688"/>
                  <a:pt x="14565" y="8756"/>
                  <a:pt x="14511" y="8855"/>
                </a:cubicBezTo>
                <a:cubicBezTo>
                  <a:pt x="14458" y="8952"/>
                  <a:pt x="14417" y="9070"/>
                  <a:pt x="14412" y="9178"/>
                </a:cubicBezTo>
                <a:cubicBezTo>
                  <a:pt x="14410" y="9228"/>
                  <a:pt x="14424" y="9294"/>
                  <a:pt x="14461" y="9327"/>
                </a:cubicBezTo>
                <a:cubicBezTo>
                  <a:pt x="14516" y="9378"/>
                  <a:pt x="14585" y="9346"/>
                  <a:pt x="14635" y="9327"/>
                </a:cubicBezTo>
                <a:cubicBezTo>
                  <a:pt x="14719" y="9295"/>
                  <a:pt x="14771" y="9240"/>
                  <a:pt x="14833" y="9178"/>
                </a:cubicBezTo>
                <a:cubicBezTo>
                  <a:pt x="14913" y="9098"/>
                  <a:pt x="14962" y="9041"/>
                  <a:pt x="15032" y="8954"/>
                </a:cubicBezTo>
                <a:cubicBezTo>
                  <a:pt x="15084" y="8889"/>
                  <a:pt x="15118" y="8832"/>
                  <a:pt x="15156" y="8756"/>
                </a:cubicBezTo>
                <a:cubicBezTo>
                  <a:pt x="15197" y="8674"/>
                  <a:pt x="15219" y="8656"/>
                  <a:pt x="15230" y="8582"/>
                </a:cubicBezTo>
                <a:cubicBezTo>
                  <a:pt x="15233" y="8558"/>
                  <a:pt x="15230" y="8583"/>
                  <a:pt x="15230" y="8558"/>
                </a:cubicBezTo>
                <a:cubicBezTo>
                  <a:pt x="15188" y="8593"/>
                  <a:pt x="15193" y="8608"/>
                  <a:pt x="15156" y="8657"/>
                </a:cubicBezTo>
                <a:cubicBezTo>
                  <a:pt x="15104" y="8726"/>
                  <a:pt x="15065" y="8796"/>
                  <a:pt x="15032" y="8880"/>
                </a:cubicBezTo>
                <a:cubicBezTo>
                  <a:pt x="15003" y="8954"/>
                  <a:pt x="14966" y="9128"/>
                  <a:pt x="14982" y="9203"/>
                </a:cubicBezTo>
                <a:cubicBezTo>
                  <a:pt x="14995" y="9266"/>
                  <a:pt x="14992" y="9337"/>
                  <a:pt x="15007" y="9401"/>
                </a:cubicBezTo>
                <a:cubicBezTo>
                  <a:pt x="15014" y="9432"/>
                  <a:pt x="15047" y="9475"/>
                  <a:pt x="15081" y="9475"/>
                </a:cubicBezTo>
                <a:cubicBezTo>
                  <a:pt x="15133" y="9475"/>
                  <a:pt x="15157" y="9441"/>
                  <a:pt x="15180" y="9401"/>
                </a:cubicBezTo>
                <a:cubicBezTo>
                  <a:pt x="15201" y="9365"/>
                  <a:pt x="15232" y="9317"/>
                  <a:pt x="15255" y="9277"/>
                </a:cubicBezTo>
                <a:cubicBezTo>
                  <a:pt x="15287" y="9222"/>
                  <a:pt x="15320" y="9179"/>
                  <a:pt x="15354" y="9128"/>
                </a:cubicBezTo>
                <a:cubicBezTo>
                  <a:pt x="15374" y="9098"/>
                  <a:pt x="15374" y="9100"/>
                  <a:pt x="15404" y="9079"/>
                </a:cubicBezTo>
                <a:cubicBezTo>
                  <a:pt x="15404" y="9169"/>
                  <a:pt x="15393" y="9243"/>
                  <a:pt x="15379" y="9327"/>
                </a:cubicBezTo>
                <a:cubicBezTo>
                  <a:pt x="15375" y="9351"/>
                  <a:pt x="15382" y="9377"/>
                  <a:pt x="15379" y="9401"/>
                </a:cubicBezTo>
                <a:cubicBezTo>
                  <a:pt x="15413" y="9401"/>
                  <a:pt x="15378" y="9448"/>
                  <a:pt x="15429" y="9351"/>
                </a:cubicBezTo>
                <a:cubicBezTo>
                  <a:pt x="15450" y="9311"/>
                  <a:pt x="15470" y="9267"/>
                  <a:pt x="15503" y="9227"/>
                </a:cubicBezTo>
                <a:cubicBezTo>
                  <a:pt x="15538" y="9184"/>
                  <a:pt x="15581" y="9146"/>
                  <a:pt x="15627" y="9128"/>
                </a:cubicBezTo>
                <a:cubicBezTo>
                  <a:pt x="15635" y="9128"/>
                  <a:pt x="15644" y="9128"/>
                  <a:pt x="15652" y="9128"/>
                </a:cubicBezTo>
                <a:cubicBezTo>
                  <a:pt x="15666" y="9164"/>
                  <a:pt x="15675" y="9185"/>
                  <a:pt x="15677" y="9227"/>
                </a:cubicBezTo>
                <a:cubicBezTo>
                  <a:pt x="15681" y="9303"/>
                  <a:pt x="15663" y="9357"/>
                  <a:pt x="15652" y="9426"/>
                </a:cubicBezTo>
                <a:cubicBezTo>
                  <a:pt x="15647" y="9457"/>
                  <a:pt x="15652" y="9494"/>
                  <a:pt x="15652" y="9525"/>
                </a:cubicBezTo>
                <a:cubicBezTo>
                  <a:pt x="15673" y="9483"/>
                  <a:pt x="15683" y="9443"/>
                  <a:pt x="15701" y="9401"/>
                </a:cubicBezTo>
                <a:cubicBezTo>
                  <a:pt x="15715" y="9369"/>
                  <a:pt x="15736" y="9332"/>
                  <a:pt x="15751" y="9302"/>
                </a:cubicBezTo>
              </a:path>
              <a:path w="3870" h="1241">
                <a:moveTo>
                  <a:pt x="15801" y="9351"/>
                </a:moveTo>
                <a:cubicBezTo>
                  <a:pt x="15806" y="9406"/>
                  <a:pt x="15818" y="9428"/>
                  <a:pt x="15825" y="9475"/>
                </a:cubicBezTo>
                <a:cubicBezTo>
                  <a:pt x="15825" y="9500"/>
                  <a:pt x="15825" y="9508"/>
                  <a:pt x="15825" y="9525"/>
                </a:cubicBezTo>
                <a:cubicBezTo>
                  <a:pt x="15876" y="9520"/>
                  <a:pt x="15882" y="9524"/>
                  <a:pt x="15925" y="9500"/>
                </a:cubicBezTo>
                <a:cubicBezTo>
                  <a:pt x="15975" y="9472"/>
                  <a:pt x="15994" y="9438"/>
                  <a:pt x="16024" y="9401"/>
                </a:cubicBezTo>
                <a:cubicBezTo>
                  <a:pt x="16058" y="9360"/>
                  <a:pt x="16095" y="9322"/>
                  <a:pt x="16123" y="9277"/>
                </a:cubicBezTo>
                <a:cubicBezTo>
                  <a:pt x="16155" y="9226"/>
                  <a:pt x="16144" y="9238"/>
                  <a:pt x="16197" y="9227"/>
                </a:cubicBezTo>
                <a:cubicBezTo>
                  <a:pt x="16241" y="9217"/>
                  <a:pt x="16281" y="9272"/>
                  <a:pt x="16321" y="9252"/>
                </a:cubicBezTo>
                <a:cubicBezTo>
                  <a:pt x="16368" y="9229"/>
                  <a:pt x="16316" y="9233"/>
                  <a:pt x="16346" y="9203"/>
                </a:cubicBezTo>
                <a:cubicBezTo>
                  <a:pt x="16313" y="9196"/>
                  <a:pt x="16307" y="9151"/>
                  <a:pt x="16247" y="9178"/>
                </a:cubicBezTo>
                <a:cubicBezTo>
                  <a:pt x="16186" y="9205"/>
                  <a:pt x="16193" y="9259"/>
                  <a:pt x="16173" y="9302"/>
                </a:cubicBezTo>
                <a:cubicBezTo>
                  <a:pt x="16151" y="9349"/>
                  <a:pt x="16150" y="9366"/>
                  <a:pt x="16148" y="9426"/>
                </a:cubicBezTo>
                <a:cubicBezTo>
                  <a:pt x="16146" y="9487"/>
                  <a:pt x="16140" y="9509"/>
                  <a:pt x="16197" y="9525"/>
                </a:cubicBezTo>
                <a:cubicBezTo>
                  <a:pt x="16239" y="9537"/>
                  <a:pt x="16266" y="9521"/>
                  <a:pt x="16297" y="9500"/>
                </a:cubicBezTo>
                <a:cubicBezTo>
                  <a:pt x="16372" y="9449"/>
                  <a:pt x="16411" y="9368"/>
                  <a:pt x="16396" y="9277"/>
                </a:cubicBezTo>
                <a:cubicBezTo>
                  <a:pt x="16391" y="9247"/>
                  <a:pt x="16372" y="9229"/>
                  <a:pt x="16371" y="9227"/>
                </a:cubicBezTo>
                <a:cubicBezTo>
                  <a:pt x="16366" y="9264"/>
                  <a:pt x="16344" y="9295"/>
                  <a:pt x="16346" y="9327"/>
                </a:cubicBezTo>
                <a:cubicBezTo>
                  <a:pt x="16348" y="9353"/>
                  <a:pt x="16374" y="9475"/>
                  <a:pt x="16396" y="9500"/>
                </a:cubicBezTo>
                <a:cubicBezTo>
                  <a:pt x="16419" y="9523"/>
                  <a:pt x="16423" y="9531"/>
                  <a:pt x="16446" y="9525"/>
                </a:cubicBezTo>
                <a:cubicBezTo>
                  <a:pt x="16489" y="9498"/>
                  <a:pt x="16515" y="9468"/>
                  <a:pt x="16545" y="9426"/>
                </a:cubicBezTo>
                <a:cubicBezTo>
                  <a:pt x="16587" y="9368"/>
                  <a:pt x="16595" y="9319"/>
                  <a:pt x="16619" y="9252"/>
                </a:cubicBezTo>
                <a:cubicBezTo>
                  <a:pt x="16635" y="9207"/>
                  <a:pt x="16654" y="9174"/>
                  <a:pt x="16669" y="9153"/>
                </a:cubicBezTo>
                <a:cubicBezTo>
                  <a:pt x="16677" y="9145"/>
                  <a:pt x="16686" y="9136"/>
                  <a:pt x="16694" y="9128"/>
                </a:cubicBezTo>
                <a:cubicBezTo>
                  <a:pt x="16731" y="9155"/>
                  <a:pt x="16744" y="9162"/>
                  <a:pt x="16768" y="9203"/>
                </a:cubicBezTo>
                <a:cubicBezTo>
                  <a:pt x="16787" y="9236"/>
                  <a:pt x="16802" y="9283"/>
                  <a:pt x="16793" y="9327"/>
                </a:cubicBezTo>
                <a:cubicBezTo>
                  <a:pt x="16787" y="9357"/>
                  <a:pt x="16777" y="9419"/>
                  <a:pt x="16768" y="9451"/>
                </a:cubicBezTo>
                <a:cubicBezTo>
                  <a:pt x="16745" y="9473"/>
                  <a:pt x="16737" y="9478"/>
                  <a:pt x="16743" y="9500"/>
                </a:cubicBezTo>
                <a:cubicBezTo>
                  <a:pt x="16761" y="9465"/>
                  <a:pt x="16776" y="9414"/>
                  <a:pt x="16793" y="9376"/>
                </a:cubicBezTo>
                <a:cubicBezTo>
                  <a:pt x="16812" y="9332"/>
                  <a:pt x="16835" y="9325"/>
                  <a:pt x="16867" y="9302"/>
                </a:cubicBezTo>
                <a:cubicBezTo>
                  <a:pt x="16887" y="9342"/>
                  <a:pt x="16909" y="9381"/>
                  <a:pt x="16917" y="9426"/>
                </a:cubicBezTo>
                <a:cubicBezTo>
                  <a:pt x="16925" y="9474"/>
                  <a:pt x="16906" y="9486"/>
                  <a:pt x="16942" y="9525"/>
                </a:cubicBezTo>
                <a:cubicBezTo>
                  <a:pt x="16966" y="9551"/>
                  <a:pt x="17014" y="9543"/>
                  <a:pt x="17041" y="9525"/>
                </a:cubicBezTo>
                <a:cubicBezTo>
                  <a:pt x="17089" y="9493"/>
                  <a:pt x="17106" y="9442"/>
                  <a:pt x="17140" y="9401"/>
                </a:cubicBezTo>
                <a:cubicBezTo>
                  <a:pt x="17173" y="9361"/>
                  <a:pt x="17217" y="9312"/>
                  <a:pt x="17264" y="9302"/>
                </a:cubicBezTo>
                <a:cubicBezTo>
                  <a:pt x="17334" y="9287"/>
                  <a:pt x="17361" y="9328"/>
                  <a:pt x="17413" y="9351"/>
                </a:cubicBezTo>
                <a:cubicBezTo>
                  <a:pt x="17435" y="9361"/>
                  <a:pt x="17440" y="9365"/>
                  <a:pt x="17462" y="9376"/>
                </a:cubicBezTo>
                <a:cubicBezTo>
                  <a:pt x="17439" y="9330"/>
                  <a:pt x="17433" y="9289"/>
                  <a:pt x="17388" y="9252"/>
                </a:cubicBezTo>
                <a:cubicBezTo>
                  <a:pt x="17352" y="9222"/>
                  <a:pt x="17372" y="9224"/>
                  <a:pt x="17314" y="9252"/>
                </a:cubicBezTo>
                <a:cubicBezTo>
                  <a:pt x="17236" y="9289"/>
                  <a:pt x="17226" y="9304"/>
                  <a:pt x="17190" y="9401"/>
                </a:cubicBezTo>
                <a:cubicBezTo>
                  <a:pt x="17177" y="9437"/>
                  <a:pt x="17137" y="9484"/>
                  <a:pt x="17140" y="9525"/>
                </a:cubicBezTo>
                <a:cubicBezTo>
                  <a:pt x="17140" y="9550"/>
                  <a:pt x="17140" y="9558"/>
                  <a:pt x="17165" y="9550"/>
                </a:cubicBezTo>
                <a:cubicBezTo>
                  <a:pt x="17222" y="9565"/>
                  <a:pt x="17171" y="9578"/>
                  <a:pt x="17239" y="9550"/>
                </a:cubicBezTo>
                <a:cubicBezTo>
                  <a:pt x="17286" y="9530"/>
                  <a:pt x="17327" y="9497"/>
                  <a:pt x="17363" y="9451"/>
                </a:cubicBezTo>
                <a:cubicBezTo>
                  <a:pt x="17414" y="9386"/>
                  <a:pt x="17413" y="9331"/>
                  <a:pt x="17438" y="9252"/>
                </a:cubicBezTo>
                <a:cubicBezTo>
                  <a:pt x="17467" y="9161"/>
                  <a:pt x="17472" y="9072"/>
                  <a:pt x="17487" y="8979"/>
                </a:cubicBezTo>
                <a:cubicBezTo>
                  <a:pt x="17499" y="8907"/>
                  <a:pt x="17512" y="8842"/>
                  <a:pt x="17537" y="8781"/>
                </a:cubicBezTo>
                <a:cubicBezTo>
                  <a:pt x="17547" y="8758"/>
                  <a:pt x="17551" y="8728"/>
                  <a:pt x="17562" y="8706"/>
                </a:cubicBezTo>
                <a:cubicBezTo>
                  <a:pt x="17562" y="8802"/>
                  <a:pt x="17548" y="8890"/>
                  <a:pt x="17537" y="8979"/>
                </a:cubicBezTo>
                <a:cubicBezTo>
                  <a:pt x="17526" y="9070"/>
                  <a:pt x="17515" y="9163"/>
                  <a:pt x="17512" y="9252"/>
                </a:cubicBezTo>
                <a:cubicBezTo>
                  <a:pt x="17509" y="9330"/>
                  <a:pt x="17474" y="9396"/>
                  <a:pt x="17487" y="9475"/>
                </a:cubicBezTo>
                <a:cubicBezTo>
                  <a:pt x="17492" y="9506"/>
                  <a:pt x="17524" y="9570"/>
                  <a:pt x="17537" y="9599"/>
                </a:cubicBezTo>
                <a:cubicBezTo>
                  <a:pt x="17579" y="9580"/>
                  <a:pt x="17592" y="9580"/>
                  <a:pt x="17636" y="9550"/>
                </a:cubicBezTo>
                <a:cubicBezTo>
                  <a:pt x="17703" y="9503"/>
                  <a:pt x="17717" y="9470"/>
                  <a:pt x="17760" y="9401"/>
                </a:cubicBezTo>
                <a:cubicBezTo>
                  <a:pt x="17797" y="9341"/>
                  <a:pt x="17833" y="9247"/>
                  <a:pt x="17909" y="9227"/>
                </a:cubicBezTo>
                <a:cubicBezTo>
                  <a:pt x="17950" y="9216"/>
                  <a:pt x="17979" y="9229"/>
                  <a:pt x="18008" y="9252"/>
                </a:cubicBezTo>
                <a:cubicBezTo>
                  <a:pt x="18017" y="9259"/>
                  <a:pt x="18027" y="9314"/>
                  <a:pt x="18033" y="9327"/>
                </a:cubicBezTo>
                <a:cubicBezTo>
                  <a:pt x="18015" y="9306"/>
                  <a:pt x="17979" y="9235"/>
                  <a:pt x="17959" y="9227"/>
                </a:cubicBezTo>
                <a:cubicBezTo>
                  <a:pt x="17920" y="9211"/>
                  <a:pt x="17887" y="9234"/>
                  <a:pt x="17859" y="9252"/>
                </a:cubicBezTo>
                <a:cubicBezTo>
                  <a:pt x="17818" y="9278"/>
                  <a:pt x="17778" y="9334"/>
                  <a:pt x="17760" y="9376"/>
                </a:cubicBezTo>
                <a:cubicBezTo>
                  <a:pt x="17743" y="9415"/>
                  <a:pt x="17742" y="9458"/>
                  <a:pt x="17735" y="9500"/>
                </a:cubicBezTo>
                <a:cubicBezTo>
                  <a:pt x="17735" y="9525"/>
                  <a:pt x="17735" y="9533"/>
                  <a:pt x="17735" y="9550"/>
                </a:cubicBezTo>
                <a:cubicBezTo>
                  <a:pt x="17792" y="9564"/>
                  <a:pt x="17742" y="9578"/>
                  <a:pt x="17810" y="9550"/>
                </a:cubicBezTo>
                <a:cubicBezTo>
                  <a:pt x="17849" y="9534"/>
                  <a:pt x="17904" y="9536"/>
                  <a:pt x="17934" y="9500"/>
                </a:cubicBezTo>
                <a:cubicBezTo>
                  <a:pt x="17940" y="9493"/>
                  <a:pt x="18003" y="9369"/>
                  <a:pt x="18008" y="9351"/>
                </a:cubicBezTo>
                <a:cubicBezTo>
                  <a:pt x="18008" y="9327"/>
                  <a:pt x="18008" y="9318"/>
                  <a:pt x="18008" y="9302"/>
                </a:cubicBezTo>
                <a:cubicBezTo>
                  <a:pt x="18006" y="9306"/>
                  <a:pt x="17964" y="9350"/>
                  <a:pt x="17959" y="9376"/>
                </a:cubicBezTo>
                <a:cubicBezTo>
                  <a:pt x="17951" y="9421"/>
                  <a:pt x="17953" y="9468"/>
                  <a:pt x="17983" y="9500"/>
                </a:cubicBezTo>
                <a:cubicBezTo>
                  <a:pt x="18019" y="9538"/>
                  <a:pt x="18068" y="9567"/>
                  <a:pt x="18132" y="9575"/>
                </a:cubicBezTo>
                <a:cubicBezTo>
                  <a:pt x="18217" y="9575"/>
                  <a:pt x="18237" y="9581"/>
                  <a:pt x="18281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29680" y="3625920"/>
            <a:ext cx="152280" cy="196920"/>
          </a:xfrm>
          <a:custGeom>
            <a:avLst/>
            <a:gdLst/>
            <a:ahLst/>
            <a:rect l="l" t="t" r="r" b="b"/>
            <a:pathLst>
              <a:path w="422" h="546">
                <a:moveTo>
                  <a:pt x="20638" y="10220"/>
                </a:moveTo>
                <a:cubicBezTo>
                  <a:pt x="20638" y="10241"/>
                  <a:pt x="20620" y="10462"/>
                  <a:pt x="20662" y="10418"/>
                </a:cubicBezTo>
                <a:cubicBezTo>
                  <a:pt x="20686" y="10395"/>
                  <a:pt x="20709" y="10324"/>
                  <a:pt x="20712" y="10269"/>
                </a:cubicBezTo>
                <a:cubicBezTo>
                  <a:pt x="20716" y="10210"/>
                  <a:pt x="20727" y="10140"/>
                  <a:pt x="20762" y="10096"/>
                </a:cubicBezTo>
                <a:cubicBezTo>
                  <a:pt x="20798" y="10051"/>
                  <a:pt x="20834" y="10078"/>
                  <a:pt x="20861" y="10120"/>
                </a:cubicBezTo>
                <a:cubicBezTo>
                  <a:pt x="20901" y="10182"/>
                  <a:pt x="20935" y="10251"/>
                  <a:pt x="20960" y="10319"/>
                </a:cubicBezTo>
                <a:cubicBezTo>
                  <a:pt x="20985" y="10389"/>
                  <a:pt x="21028" y="10448"/>
                  <a:pt x="21034" y="10517"/>
                </a:cubicBezTo>
                <a:cubicBezTo>
                  <a:pt x="21036" y="10540"/>
                  <a:pt x="21070" y="10603"/>
                  <a:pt x="21034" y="10616"/>
                </a:cubicBezTo>
                <a:cubicBezTo>
                  <a:pt x="21018" y="10616"/>
                  <a:pt x="21001" y="10616"/>
                  <a:pt x="20985" y="106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960" y="1366920"/>
            <a:ext cx="669960" cy="669960"/>
          </a:xfrm>
          <a:custGeom>
            <a:avLst/>
            <a:gdLst/>
            <a:ahLst/>
            <a:rect l="l" t="t" r="r" b="b"/>
            <a:pathLst>
              <a:path w="1861" h="1861">
                <a:moveTo>
                  <a:pt x="1811" y="4614"/>
                </a:moveTo>
                <a:cubicBezTo>
                  <a:pt x="1811" y="4680"/>
                  <a:pt x="1808" y="4572"/>
                  <a:pt x="1811" y="4564"/>
                </a:cubicBezTo>
                <a:cubicBezTo>
                  <a:pt x="1837" y="4491"/>
                  <a:pt x="1868" y="4460"/>
                  <a:pt x="1910" y="4390"/>
                </a:cubicBezTo>
                <a:cubicBezTo>
                  <a:pt x="1933" y="4352"/>
                  <a:pt x="1975" y="4296"/>
                  <a:pt x="2034" y="4316"/>
                </a:cubicBezTo>
                <a:cubicBezTo>
                  <a:pt x="2109" y="4341"/>
                  <a:pt x="2129" y="4401"/>
                  <a:pt x="2158" y="4465"/>
                </a:cubicBezTo>
                <a:cubicBezTo>
                  <a:pt x="2203" y="4563"/>
                  <a:pt x="2183" y="4680"/>
                  <a:pt x="2183" y="4787"/>
                </a:cubicBezTo>
                <a:cubicBezTo>
                  <a:pt x="2183" y="4910"/>
                  <a:pt x="2124" y="5029"/>
                  <a:pt x="2059" y="5135"/>
                </a:cubicBezTo>
                <a:cubicBezTo>
                  <a:pt x="1996" y="5239"/>
                  <a:pt x="1907" y="5324"/>
                  <a:pt x="1786" y="5333"/>
                </a:cubicBezTo>
                <a:cubicBezTo>
                  <a:pt x="1722" y="5338"/>
                  <a:pt x="1716" y="5321"/>
                  <a:pt x="1712" y="5259"/>
                </a:cubicBezTo>
                <a:cubicBezTo>
                  <a:pt x="1708" y="5185"/>
                  <a:pt x="1699" y="5100"/>
                  <a:pt x="1736" y="5035"/>
                </a:cubicBezTo>
                <a:cubicBezTo>
                  <a:pt x="1776" y="4965"/>
                  <a:pt x="1845" y="4962"/>
                  <a:pt x="1910" y="4986"/>
                </a:cubicBezTo>
                <a:cubicBezTo>
                  <a:pt x="1965" y="5006"/>
                  <a:pt x="2027" y="5062"/>
                  <a:pt x="2059" y="5110"/>
                </a:cubicBezTo>
                <a:cubicBezTo>
                  <a:pt x="2085" y="5149"/>
                  <a:pt x="2111" y="5201"/>
                  <a:pt x="2133" y="5234"/>
                </a:cubicBezTo>
                <a:cubicBezTo>
                  <a:pt x="2175" y="5296"/>
                  <a:pt x="2176" y="5167"/>
                  <a:pt x="2183" y="5135"/>
                </a:cubicBezTo>
              </a:path>
              <a:path w="1861" h="1861">
                <a:moveTo>
                  <a:pt x="2580" y="4316"/>
                </a:moveTo>
                <a:cubicBezTo>
                  <a:pt x="2686" y="4297"/>
                  <a:pt x="2774" y="4261"/>
                  <a:pt x="2877" y="4242"/>
                </a:cubicBezTo>
                <a:cubicBezTo>
                  <a:pt x="2940" y="4230"/>
                  <a:pt x="2996" y="4208"/>
                  <a:pt x="3051" y="4192"/>
                </a:cubicBezTo>
                <a:cubicBezTo>
                  <a:pt x="3088" y="4181"/>
                  <a:pt x="3086" y="4179"/>
                  <a:pt x="3051" y="4167"/>
                </a:cubicBezTo>
              </a:path>
              <a:path w="1861" h="1861">
                <a:moveTo>
                  <a:pt x="2530" y="4440"/>
                </a:moveTo>
                <a:cubicBezTo>
                  <a:pt x="2522" y="4463"/>
                  <a:pt x="2442" y="4636"/>
                  <a:pt x="2480" y="4688"/>
                </a:cubicBezTo>
                <a:cubicBezTo>
                  <a:pt x="2497" y="4712"/>
                  <a:pt x="2517" y="4700"/>
                  <a:pt x="2530" y="4738"/>
                </a:cubicBezTo>
                <a:cubicBezTo>
                  <a:pt x="2560" y="4728"/>
                  <a:pt x="2571" y="4717"/>
                  <a:pt x="2604" y="4688"/>
                </a:cubicBezTo>
                <a:cubicBezTo>
                  <a:pt x="2646" y="4650"/>
                  <a:pt x="2696" y="4568"/>
                  <a:pt x="2753" y="4564"/>
                </a:cubicBezTo>
                <a:cubicBezTo>
                  <a:pt x="2831" y="4558"/>
                  <a:pt x="2862" y="4570"/>
                  <a:pt x="2902" y="4638"/>
                </a:cubicBezTo>
                <a:cubicBezTo>
                  <a:pt x="2940" y="4703"/>
                  <a:pt x="2994" y="4857"/>
                  <a:pt x="2977" y="4936"/>
                </a:cubicBezTo>
                <a:cubicBezTo>
                  <a:pt x="2960" y="5017"/>
                  <a:pt x="2924" y="5072"/>
                  <a:pt x="2853" y="5110"/>
                </a:cubicBezTo>
                <a:cubicBezTo>
                  <a:pt x="2753" y="5163"/>
                  <a:pt x="2705" y="5169"/>
                  <a:pt x="2604" y="5159"/>
                </a:cubicBezTo>
                <a:cubicBezTo>
                  <a:pt x="2522" y="5151"/>
                  <a:pt x="2509" y="5119"/>
                  <a:pt x="2505" y="5035"/>
                </a:cubicBezTo>
                <a:cubicBezTo>
                  <a:pt x="2505" y="4967"/>
                  <a:pt x="2502" y="4948"/>
                  <a:pt x="2530" y="4911"/>
                </a:cubicBezTo>
              </a:path>
              <a:path w="1861" h="1861">
                <a:moveTo>
                  <a:pt x="2853" y="3795"/>
                </a:moveTo>
                <a:cubicBezTo>
                  <a:pt x="3023" y="3873"/>
                  <a:pt x="3188" y="3978"/>
                  <a:pt x="3324" y="4118"/>
                </a:cubicBezTo>
                <a:cubicBezTo>
                  <a:pt x="3477" y="4275"/>
                  <a:pt x="3566" y="4471"/>
                  <a:pt x="3572" y="4688"/>
                </a:cubicBezTo>
                <a:cubicBezTo>
                  <a:pt x="3576" y="4844"/>
                  <a:pt x="3487" y="4962"/>
                  <a:pt x="3398" y="5085"/>
                </a:cubicBezTo>
                <a:cubicBezTo>
                  <a:pt x="3270" y="5262"/>
                  <a:pt x="3105" y="5402"/>
                  <a:pt x="2977" y="5581"/>
                </a:cubicBezTo>
                <a:cubicBezTo>
                  <a:pt x="2960" y="5606"/>
                  <a:pt x="2944" y="5630"/>
                  <a:pt x="2927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87680" y="1285920"/>
            <a:ext cx="992160" cy="527040"/>
          </a:xfrm>
          <a:custGeom>
            <a:avLst/>
            <a:gdLst/>
            <a:ahLst/>
            <a:rect l="l" t="t" r="r" b="b"/>
            <a:pathLst>
              <a:path w="2754" h="1464">
                <a:moveTo>
                  <a:pt x="4812" y="3721"/>
                </a:moveTo>
                <a:cubicBezTo>
                  <a:pt x="4812" y="4018"/>
                  <a:pt x="4829" y="4323"/>
                  <a:pt x="4787" y="4614"/>
                </a:cubicBezTo>
                <a:cubicBezTo>
                  <a:pt x="4780" y="4662"/>
                  <a:pt x="4715" y="4796"/>
                  <a:pt x="4787" y="4688"/>
                </a:cubicBezTo>
              </a:path>
              <a:path w="2754" h="1464">
                <a:moveTo>
                  <a:pt x="5308" y="3820"/>
                </a:moveTo>
                <a:cubicBezTo>
                  <a:pt x="5274" y="3983"/>
                  <a:pt x="5231" y="4153"/>
                  <a:pt x="5209" y="4316"/>
                </a:cubicBezTo>
                <a:cubicBezTo>
                  <a:pt x="5197" y="4409"/>
                  <a:pt x="5198" y="4530"/>
                  <a:pt x="5234" y="4614"/>
                </a:cubicBezTo>
                <a:cubicBezTo>
                  <a:pt x="5277" y="4716"/>
                  <a:pt x="5339" y="4721"/>
                  <a:pt x="5432" y="4688"/>
                </a:cubicBezTo>
                <a:cubicBezTo>
                  <a:pt x="5531" y="4654"/>
                  <a:pt x="5601" y="4557"/>
                  <a:pt x="5655" y="4465"/>
                </a:cubicBezTo>
                <a:cubicBezTo>
                  <a:pt x="5714" y="4363"/>
                  <a:pt x="5752" y="4237"/>
                  <a:pt x="5730" y="4118"/>
                </a:cubicBezTo>
                <a:cubicBezTo>
                  <a:pt x="5712" y="4021"/>
                  <a:pt x="5641" y="3943"/>
                  <a:pt x="5581" y="3870"/>
                </a:cubicBezTo>
                <a:cubicBezTo>
                  <a:pt x="5538" y="3818"/>
                  <a:pt x="5455" y="3802"/>
                  <a:pt x="5407" y="3770"/>
                </a:cubicBezTo>
                <a:cubicBezTo>
                  <a:pt x="5399" y="3762"/>
                  <a:pt x="5391" y="3754"/>
                  <a:pt x="5383" y="3746"/>
                </a:cubicBezTo>
              </a:path>
              <a:path w="2754" h="1464">
                <a:moveTo>
                  <a:pt x="5829" y="3721"/>
                </a:moveTo>
                <a:cubicBezTo>
                  <a:pt x="5924" y="3689"/>
                  <a:pt x="6010" y="3668"/>
                  <a:pt x="6102" y="3646"/>
                </a:cubicBezTo>
                <a:cubicBezTo>
                  <a:pt x="6213" y="3620"/>
                  <a:pt x="6251" y="3615"/>
                  <a:pt x="6350" y="3671"/>
                </a:cubicBezTo>
                <a:cubicBezTo>
                  <a:pt x="6425" y="3713"/>
                  <a:pt x="6446" y="3750"/>
                  <a:pt x="6424" y="3845"/>
                </a:cubicBezTo>
                <a:cubicBezTo>
                  <a:pt x="6400" y="3950"/>
                  <a:pt x="6310" y="4054"/>
                  <a:pt x="6251" y="4142"/>
                </a:cubicBezTo>
                <a:cubicBezTo>
                  <a:pt x="6171" y="4262"/>
                  <a:pt x="6081" y="4368"/>
                  <a:pt x="6003" y="4490"/>
                </a:cubicBezTo>
                <a:cubicBezTo>
                  <a:pt x="5966" y="4549"/>
                  <a:pt x="5953" y="4650"/>
                  <a:pt x="6028" y="4688"/>
                </a:cubicBezTo>
                <a:cubicBezTo>
                  <a:pt x="6095" y="4722"/>
                  <a:pt x="6216" y="4658"/>
                  <a:pt x="6276" y="4638"/>
                </a:cubicBezTo>
                <a:cubicBezTo>
                  <a:pt x="6394" y="4599"/>
                  <a:pt x="6495" y="4539"/>
                  <a:pt x="6573" y="4440"/>
                </a:cubicBezTo>
                <a:cubicBezTo>
                  <a:pt x="6590" y="4415"/>
                  <a:pt x="6606" y="4391"/>
                  <a:pt x="6623" y="4366"/>
                </a:cubicBezTo>
              </a:path>
              <a:path w="2754" h="1464">
                <a:moveTo>
                  <a:pt x="6821" y="3746"/>
                </a:moveTo>
                <a:cubicBezTo>
                  <a:pt x="6803" y="3856"/>
                  <a:pt x="6775" y="3941"/>
                  <a:pt x="6821" y="4043"/>
                </a:cubicBezTo>
                <a:cubicBezTo>
                  <a:pt x="6841" y="4088"/>
                  <a:pt x="6895" y="4157"/>
                  <a:pt x="6945" y="4167"/>
                </a:cubicBezTo>
                <a:cubicBezTo>
                  <a:pt x="7021" y="4182"/>
                  <a:pt x="7122" y="4168"/>
                  <a:pt x="7193" y="4142"/>
                </a:cubicBezTo>
                <a:cubicBezTo>
                  <a:pt x="7243" y="4118"/>
                  <a:pt x="7260" y="4110"/>
                  <a:pt x="7268" y="4068"/>
                </a:cubicBezTo>
              </a:path>
              <a:path w="2754" h="1464">
                <a:moveTo>
                  <a:pt x="7367" y="3572"/>
                </a:moveTo>
                <a:cubicBezTo>
                  <a:pt x="7346" y="3718"/>
                  <a:pt x="7342" y="3846"/>
                  <a:pt x="7342" y="3994"/>
                </a:cubicBezTo>
                <a:cubicBezTo>
                  <a:pt x="7342" y="4109"/>
                  <a:pt x="7352" y="4206"/>
                  <a:pt x="7367" y="4316"/>
                </a:cubicBezTo>
                <a:cubicBezTo>
                  <a:pt x="7376" y="4383"/>
                  <a:pt x="7390" y="4479"/>
                  <a:pt x="7417" y="4539"/>
                </a:cubicBezTo>
                <a:cubicBezTo>
                  <a:pt x="7445" y="4568"/>
                  <a:pt x="7453" y="4581"/>
                  <a:pt x="7441" y="4614"/>
                </a:cubicBezTo>
              </a:path>
              <a:path w="2754" h="1464">
                <a:moveTo>
                  <a:pt x="4688" y="5035"/>
                </a:moveTo>
                <a:cubicBezTo>
                  <a:pt x="4853" y="5035"/>
                  <a:pt x="5021" y="5029"/>
                  <a:pt x="5184" y="5011"/>
                </a:cubicBezTo>
                <a:cubicBezTo>
                  <a:pt x="5388" y="4988"/>
                  <a:pt x="5599" y="4949"/>
                  <a:pt x="5804" y="4936"/>
                </a:cubicBezTo>
                <a:cubicBezTo>
                  <a:pt x="6052" y="4921"/>
                  <a:pt x="6299" y="4911"/>
                  <a:pt x="6548" y="4911"/>
                </a:cubicBezTo>
                <a:cubicBezTo>
                  <a:pt x="6812" y="4911"/>
                  <a:pt x="7557" y="4911"/>
                  <a:pt x="7293" y="4911"/>
                </a:cubicBezTo>
                <a:cubicBezTo>
                  <a:pt x="7216" y="4911"/>
                  <a:pt x="7288" y="4911"/>
                  <a:pt x="7243" y="49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21040" y="1204920"/>
            <a:ext cx="528840" cy="430200"/>
          </a:xfrm>
          <a:custGeom>
            <a:avLst/>
            <a:gdLst/>
            <a:ahLst/>
            <a:rect l="l" t="t" r="r" b="b"/>
            <a:pathLst>
              <a:path w="1465" h="1191">
                <a:moveTo>
                  <a:pt x="10616" y="3349"/>
                </a:moveTo>
                <a:cubicBezTo>
                  <a:pt x="10616" y="3437"/>
                  <a:pt x="10630" y="3515"/>
                  <a:pt x="10641" y="3597"/>
                </a:cubicBezTo>
                <a:cubicBezTo>
                  <a:pt x="10671" y="3827"/>
                  <a:pt x="10625" y="4063"/>
                  <a:pt x="10666" y="4291"/>
                </a:cubicBezTo>
                <a:cubicBezTo>
                  <a:pt x="10666" y="4324"/>
                  <a:pt x="10666" y="4324"/>
                  <a:pt x="10666" y="4266"/>
                </a:cubicBezTo>
              </a:path>
              <a:path w="1465" h="1191">
                <a:moveTo>
                  <a:pt x="10939" y="3398"/>
                </a:moveTo>
                <a:cubicBezTo>
                  <a:pt x="11081" y="3369"/>
                  <a:pt x="11206" y="3292"/>
                  <a:pt x="11261" y="3448"/>
                </a:cubicBezTo>
                <a:cubicBezTo>
                  <a:pt x="11283" y="3511"/>
                  <a:pt x="11273" y="3581"/>
                  <a:pt x="11237" y="3646"/>
                </a:cubicBezTo>
                <a:cubicBezTo>
                  <a:pt x="11190" y="3730"/>
                  <a:pt x="11108" y="3791"/>
                  <a:pt x="11063" y="3870"/>
                </a:cubicBezTo>
                <a:cubicBezTo>
                  <a:pt x="11033" y="3923"/>
                  <a:pt x="10975" y="4046"/>
                  <a:pt x="11038" y="4093"/>
                </a:cubicBezTo>
                <a:cubicBezTo>
                  <a:pt x="11071" y="4117"/>
                  <a:pt x="11141" y="4128"/>
                  <a:pt x="11187" y="4118"/>
                </a:cubicBezTo>
                <a:cubicBezTo>
                  <a:pt x="11268" y="4100"/>
                  <a:pt x="11361" y="4083"/>
                  <a:pt x="11435" y="4043"/>
                </a:cubicBezTo>
                <a:cubicBezTo>
                  <a:pt x="11460" y="4027"/>
                  <a:pt x="11484" y="4010"/>
                  <a:pt x="11509" y="3994"/>
                </a:cubicBezTo>
              </a:path>
              <a:path w="1465" h="1191">
                <a:moveTo>
                  <a:pt x="12080" y="3423"/>
                </a:moveTo>
                <a:cubicBezTo>
                  <a:pt x="12064" y="3398"/>
                  <a:pt x="12005" y="3384"/>
                  <a:pt x="11956" y="3398"/>
                </a:cubicBezTo>
                <a:cubicBezTo>
                  <a:pt x="11896" y="3416"/>
                  <a:pt x="11801" y="3458"/>
                  <a:pt x="11757" y="3497"/>
                </a:cubicBezTo>
                <a:cubicBezTo>
                  <a:pt x="11678" y="3567"/>
                  <a:pt x="11673" y="3581"/>
                  <a:pt x="11683" y="3671"/>
                </a:cubicBezTo>
                <a:cubicBezTo>
                  <a:pt x="11693" y="3763"/>
                  <a:pt x="11746" y="3788"/>
                  <a:pt x="11782" y="3870"/>
                </a:cubicBezTo>
                <a:cubicBezTo>
                  <a:pt x="11813" y="3941"/>
                  <a:pt x="11853" y="4017"/>
                  <a:pt x="11857" y="4093"/>
                </a:cubicBezTo>
                <a:cubicBezTo>
                  <a:pt x="11860" y="4149"/>
                  <a:pt x="11830" y="4176"/>
                  <a:pt x="11782" y="4192"/>
                </a:cubicBezTo>
                <a:cubicBezTo>
                  <a:pt x="11744" y="4205"/>
                  <a:pt x="11685" y="4169"/>
                  <a:pt x="11683" y="4142"/>
                </a:cubicBezTo>
                <a:cubicBezTo>
                  <a:pt x="11678" y="4084"/>
                  <a:pt x="11734" y="3999"/>
                  <a:pt x="11757" y="3944"/>
                </a:cubicBezTo>
                <a:cubicBezTo>
                  <a:pt x="11801" y="3840"/>
                  <a:pt x="11882" y="3754"/>
                  <a:pt x="11931" y="3646"/>
                </a:cubicBezTo>
                <a:cubicBezTo>
                  <a:pt x="11963" y="3576"/>
                  <a:pt x="12011" y="3521"/>
                  <a:pt x="12030" y="3448"/>
                </a:cubicBezTo>
                <a:cubicBezTo>
                  <a:pt x="12042" y="3400"/>
                  <a:pt x="11975" y="3413"/>
                  <a:pt x="11956" y="3423"/>
                </a:cubicBezTo>
              </a:path>
              <a:path w="1465" h="1191">
                <a:moveTo>
                  <a:pt x="10641" y="4539"/>
                </a:moveTo>
                <a:cubicBezTo>
                  <a:pt x="10769" y="4539"/>
                  <a:pt x="10889" y="4535"/>
                  <a:pt x="11013" y="4514"/>
                </a:cubicBezTo>
                <a:cubicBezTo>
                  <a:pt x="11153" y="4491"/>
                  <a:pt x="11292" y="4469"/>
                  <a:pt x="11435" y="4465"/>
                </a:cubicBezTo>
                <a:cubicBezTo>
                  <a:pt x="11585" y="4461"/>
                  <a:pt x="11732" y="4446"/>
                  <a:pt x="11881" y="4440"/>
                </a:cubicBezTo>
                <a:cubicBezTo>
                  <a:pt x="11923" y="4438"/>
                  <a:pt x="12014" y="4440"/>
                  <a:pt x="11981" y="4415"/>
                </a:cubicBezTo>
                <a:cubicBezTo>
                  <a:pt x="11973" y="4415"/>
                  <a:pt x="11964" y="4415"/>
                  <a:pt x="11956" y="44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4760" y="1677960"/>
            <a:ext cx="1714320" cy="662040"/>
          </a:xfrm>
          <a:custGeom>
            <a:avLst/>
            <a:gdLst/>
            <a:ahLst/>
            <a:rect l="l" t="t" r="r" b="b"/>
            <a:pathLst>
              <a:path w="4764" h="1837">
                <a:moveTo>
                  <a:pt x="4291" y="5680"/>
                </a:moveTo>
                <a:cubicBezTo>
                  <a:pt x="4338" y="5643"/>
                  <a:pt x="4386" y="5609"/>
                  <a:pt x="4440" y="5581"/>
                </a:cubicBezTo>
                <a:cubicBezTo>
                  <a:pt x="4527" y="5535"/>
                  <a:pt x="4592" y="5531"/>
                  <a:pt x="4688" y="5531"/>
                </a:cubicBezTo>
                <a:cubicBezTo>
                  <a:pt x="4752" y="5531"/>
                  <a:pt x="4782" y="5568"/>
                  <a:pt x="4762" y="5631"/>
                </a:cubicBezTo>
                <a:cubicBezTo>
                  <a:pt x="4742" y="5692"/>
                  <a:pt x="4664" y="5788"/>
                  <a:pt x="4614" y="5829"/>
                </a:cubicBezTo>
                <a:cubicBezTo>
                  <a:pt x="4567" y="5868"/>
                  <a:pt x="4468" y="5952"/>
                  <a:pt x="4415" y="5978"/>
                </a:cubicBezTo>
                <a:cubicBezTo>
                  <a:pt x="4407" y="5978"/>
                  <a:pt x="4398" y="5978"/>
                  <a:pt x="4390" y="5978"/>
                </a:cubicBezTo>
                <a:cubicBezTo>
                  <a:pt x="4500" y="5978"/>
                  <a:pt x="4605" y="5972"/>
                  <a:pt x="4713" y="6003"/>
                </a:cubicBezTo>
                <a:cubicBezTo>
                  <a:pt x="4802" y="6029"/>
                  <a:pt x="4842" y="6124"/>
                  <a:pt x="4787" y="6201"/>
                </a:cubicBezTo>
                <a:cubicBezTo>
                  <a:pt x="4709" y="6310"/>
                  <a:pt x="4577" y="6382"/>
                  <a:pt x="4465" y="6449"/>
                </a:cubicBezTo>
                <a:cubicBezTo>
                  <a:pt x="4404" y="6486"/>
                  <a:pt x="4361" y="6499"/>
                  <a:pt x="4291" y="6499"/>
                </a:cubicBezTo>
                <a:cubicBezTo>
                  <a:pt x="4291" y="6422"/>
                  <a:pt x="4314" y="6373"/>
                  <a:pt x="4341" y="6300"/>
                </a:cubicBezTo>
              </a:path>
              <a:path w="4764" h="1837">
                <a:moveTo>
                  <a:pt x="5110" y="5531"/>
                </a:moveTo>
                <a:cubicBezTo>
                  <a:pt x="5131" y="5615"/>
                  <a:pt x="5108" y="5686"/>
                  <a:pt x="5085" y="5779"/>
                </a:cubicBezTo>
                <a:cubicBezTo>
                  <a:pt x="5056" y="5895"/>
                  <a:pt x="5016" y="6008"/>
                  <a:pt x="5011" y="6127"/>
                </a:cubicBezTo>
                <a:cubicBezTo>
                  <a:pt x="5009" y="6172"/>
                  <a:pt x="5031" y="6260"/>
                  <a:pt x="5085" y="6276"/>
                </a:cubicBezTo>
                <a:cubicBezTo>
                  <a:pt x="5170" y="6300"/>
                  <a:pt x="5226" y="6254"/>
                  <a:pt x="5283" y="6201"/>
                </a:cubicBezTo>
                <a:cubicBezTo>
                  <a:pt x="5339" y="6148"/>
                  <a:pt x="5412" y="6054"/>
                  <a:pt x="5432" y="5978"/>
                </a:cubicBezTo>
                <a:cubicBezTo>
                  <a:pt x="5446" y="5925"/>
                  <a:pt x="5436" y="5868"/>
                  <a:pt x="5407" y="5829"/>
                </a:cubicBezTo>
                <a:cubicBezTo>
                  <a:pt x="5344" y="5868"/>
                  <a:pt x="5309" y="5879"/>
                  <a:pt x="5259" y="5953"/>
                </a:cubicBezTo>
                <a:cubicBezTo>
                  <a:pt x="5179" y="6073"/>
                  <a:pt x="5159" y="6117"/>
                  <a:pt x="5159" y="6251"/>
                </a:cubicBezTo>
                <a:cubicBezTo>
                  <a:pt x="5159" y="6285"/>
                  <a:pt x="5146" y="6331"/>
                  <a:pt x="5184" y="6350"/>
                </a:cubicBezTo>
                <a:cubicBezTo>
                  <a:pt x="5212" y="6350"/>
                  <a:pt x="5223" y="6348"/>
                  <a:pt x="5234" y="6325"/>
                </a:cubicBezTo>
              </a:path>
              <a:path w="4764" h="1837">
                <a:moveTo>
                  <a:pt x="5556" y="5606"/>
                </a:moveTo>
                <a:cubicBezTo>
                  <a:pt x="5640" y="5543"/>
                  <a:pt x="5735" y="5424"/>
                  <a:pt x="5854" y="5457"/>
                </a:cubicBezTo>
                <a:cubicBezTo>
                  <a:pt x="5917" y="5474"/>
                  <a:pt x="5968" y="5539"/>
                  <a:pt x="5953" y="5606"/>
                </a:cubicBezTo>
                <a:cubicBezTo>
                  <a:pt x="5936" y="5683"/>
                  <a:pt x="5879" y="5773"/>
                  <a:pt x="5829" y="5829"/>
                </a:cubicBezTo>
                <a:cubicBezTo>
                  <a:pt x="5771" y="5894"/>
                  <a:pt x="5617" y="5985"/>
                  <a:pt x="5581" y="6052"/>
                </a:cubicBezTo>
                <a:cubicBezTo>
                  <a:pt x="5573" y="6066"/>
                  <a:pt x="5581" y="6131"/>
                  <a:pt x="5581" y="6152"/>
                </a:cubicBezTo>
                <a:cubicBezTo>
                  <a:pt x="5647" y="6152"/>
                  <a:pt x="5716" y="6142"/>
                  <a:pt x="5779" y="6127"/>
                </a:cubicBezTo>
                <a:cubicBezTo>
                  <a:pt x="5854" y="6110"/>
                  <a:pt x="5912" y="6064"/>
                  <a:pt x="5978" y="6028"/>
                </a:cubicBezTo>
              </a:path>
              <a:path w="4764" h="1837">
                <a:moveTo>
                  <a:pt x="6623" y="5407"/>
                </a:moveTo>
                <a:cubicBezTo>
                  <a:pt x="6521" y="5391"/>
                  <a:pt x="6452" y="5400"/>
                  <a:pt x="6350" y="5432"/>
                </a:cubicBezTo>
                <a:cubicBezTo>
                  <a:pt x="6262" y="5459"/>
                  <a:pt x="6187" y="5488"/>
                  <a:pt x="6152" y="5581"/>
                </a:cubicBezTo>
                <a:cubicBezTo>
                  <a:pt x="6130" y="5640"/>
                  <a:pt x="6219" y="5764"/>
                  <a:pt x="6251" y="5804"/>
                </a:cubicBezTo>
                <a:cubicBezTo>
                  <a:pt x="6307" y="5873"/>
                  <a:pt x="6382" y="5951"/>
                  <a:pt x="6424" y="6028"/>
                </a:cubicBezTo>
                <a:cubicBezTo>
                  <a:pt x="6424" y="6063"/>
                  <a:pt x="6429" y="6080"/>
                  <a:pt x="6449" y="6102"/>
                </a:cubicBezTo>
                <a:cubicBezTo>
                  <a:pt x="6410" y="6112"/>
                  <a:pt x="6374" y="6143"/>
                  <a:pt x="6325" y="6127"/>
                </a:cubicBezTo>
                <a:cubicBezTo>
                  <a:pt x="6258" y="6104"/>
                  <a:pt x="6208" y="6076"/>
                  <a:pt x="6201" y="6003"/>
                </a:cubicBezTo>
                <a:cubicBezTo>
                  <a:pt x="6196" y="5958"/>
                  <a:pt x="6293" y="5863"/>
                  <a:pt x="6325" y="5829"/>
                </a:cubicBezTo>
                <a:cubicBezTo>
                  <a:pt x="6396" y="5754"/>
                  <a:pt x="6449" y="5650"/>
                  <a:pt x="6524" y="5581"/>
                </a:cubicBezTo>
                <a:cubicBezTo>
                  <a:pt x="6549" y="5564"/>
                  <a:pt x="6573" y="5548"/>
                  <a:pt x="6598" y="5531"/>
                </a:cubicBezTo>
              </a:path>
              <a:path w="4764" h="1837">
                <a:moveTo>
                  <a:pt x="6871" y="5457"/>
                </a:moveTo>
                <a:cubicBezTo>
                  <a:pt x="6746" y="5536"/>
                  <a:pt x="6631" y="5542"/>
                  <a:pt x="6697" y="5680"/>
                </a:cubicBezTo>
                <a:cubicBezTo>
                  <a:pt x="6733" y="5757"/>
                  <a:pt x="6815" y="5840"/>
                  <a:pt x="6871" y="5904"/>
                </a:cubicBezTo>
                <a:cubicBezTo>
                  <a:pt x="6934" y="5967"/>
                  <a:pt x="6951" y="5977"/>
                  <a:pt x="6970" y="6028"/>
                </a:cubicBezTo>
                <a:cubicBezTo>
                  <a:pt x="6940" y="6057"/>
                  <a:pt x="6884" y="6119"/>
                  <a:pt x="6846" y="6127"/>
                </a:cubicBezTo>
                <a:cubicBezTo>
                  <a:pt x="6765" y="6143"/>
                  <a:pt x="6683" y="6113"/>
                  <a:pt x="6672" y="6052"/>
                </a:cubicBezTo>
                <a:cubicBezTo>
                  <a:pt x="6656" y="5968"/>
                  <a:pt x="6694" y="5913"/>
                  <a:pt x="6747" y="5854"/>
                </a:cubicBezTo>
                <a:cubicBezTo>
                  <a:pt x="6833" y="5759"/>
                  <a:pt x="6919" y="5656"/>
                  <a:pt x="7020" y="5581"/>
                </a:cubicBezTo>
                <a:cubicBezTo>
                  <a:pt x="7079" y="5538"/>
                  <a:pt x="7132" y="5495"/>
                  <a:pt x="7193" y="5457"/>
                </a:cubicBezTo>
              </a:path>
              <a:path w="4764" h="1837">
                <a:moveTo>
                  <a:pt x="7243" y="5556"/>
                </a:moveTo>
                <a:cubicBezTo>
                  <a:pt x="7185" y="5667"/>
                  <a:pt x="7088" y="5799"/>
                  <a:pt x="7069" y="5928"/>
                </a:cubicBezTo>
                <a:cubicBezTo>
                  <a:pt x="7049" y="6060"/>
                  <a:pt x="7132" y="6097"/>
                  <a:pt x="7243" y="6102"/>
                </a:cubicBezTo>
                <a:cubicBezTo>
                  <a:pt x="7344" y="6107"/>
                  <a:pt x="7463" y="6067"/>
                  <a:pt x="7541" y="6003"/>
                </a:cubicBezTo>
                <a:cubicBezTo>
                  <a:pt x="7645" y="5918"/>
                  <a:pt x="7792" y="5752"/>
                  <a:pt x="7739" y="5606"/>
                </a:cubicBezTo>
                <a:cubicBezTo>
                  <a:pt x="7720" y="5554"/>
                  <a:pt x="7617" y="5494"/>
                  <a:pt x="7565" y="5482"/>
                </a:cubicBezTo>
                <a:cubicBezTo>
                  <a:pt x="7544" y="5477"/>
                  <a:pt x="7383" y="5431"/>
                  <a:pt x="7367" y="5457"/>
                </a:cubicBezTo>
                <a:cubicBezTo>
                  <a:pt x="7375" y="5465"/>
                  <a:pt x="7384" y="5474"/>
                  <a:pt x="7392" y="5482"/>
                </a:cubicBezTo>
              </a:path>
              <a:path w="4764" h="1837">
                <a:moveTo>
                  <a:pt x="7987" y="5680"/>
                </a:moveTo>
                <a:cubicBezTo>
                  <a:pt x="7959" y="5816"/>
                  <a:pt x="7892" y="5924"/>
                  <a:pt x="7863" y="6052"/>
                </a:cubicBezTo>
                <a:cubicBezTo>
                  <a:pt x="7844" y="6137"/>
                  <a:pt x="7869" y="6164"/>
                  <a:pt x="7938" y="6201"/>
                </a:cubicBezTo>
                <a:cubicBezTo>
                  <a:pt x="8030" y="6250"/>
                  <a:pt x="8199" y="6189"/>
                  <a:pt x="8285" y="6127"/>
                </a:cubicBezTo>
                <a:cubicBezTo>
                  <a:pt x="8383" y="6057"/>
                  <a:pt x="8448" y="5941"/>
                  <a:pt x="8458" y="5829"/>
                </a:cubicBezTo>
                <a:cubicBezTo>
                  <a:pt x="8466" y="5742"/>
                  <a:pt x="8424" y="5638"/>
                  <a:pt x="8359" y="5581"/>
                </a:cubicBezTo>
                <a:cubicBezTo>
                  <a:pt x="8276" y="5509"/>
                  <a:pt x="8170" y="5467"/>
                  <a:pt x="8086" y="5407"/>
                </a:cubicBezTo>
                <a:cubicBezTo>
                  <a:pt x="8052" y="5383"/>
                  <a:pt x="8018" y="5339"/>
                  <a:pt x="7987" y="5308"/>
                </a:cubicBezTo>
              </a:path>
              <a:path w="4764" h="1837">
                <a:moveTo>
                  <a:pt x="8558" y="4713"/>
                </a:moveTo>
                <a:cubicBezTo>
                  <a:pt x="8695" y="4682"/>
                  <a:pt x="8796" y="4673"/>
                  <a:pt x="8930" y="4688"/>
                </a:cubicBezTo>
              </a:path>
              <a:path w="4764" h="1837">
                <a:moveTo>
                  <a:pt x="8756" y="4936"/>
                </a:moveTo>
                <a:cubicBezTo>
                  <a:pt x="8863" y="4965"/>
                  <a:pt x="8944" y="4986"/>
                  <a:pt x="9054" y="49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13120" y="1108080"/>
            <a:ext cx="2446560" cy="1008000"/>
          </a:xfrm>
          <a:custGeom>
            <a:avLst/>
            <a:gdLst/>
            <a:ahLst/>
            <a:rect l="l" t="t" r="r" b="b"/>
            <a:pathLst>
              <a:path w="6797" h="2804">
                <a:moveTo>
                  <a:pt x="10691" y="5060"/>
                </a:moveTo>
                <a:cubicBezTo>
                  <a:pt x="10691" y="5133"/>
                  <a:pt x="10655" y="5192"/>
                  <a:pt x="10641" y="5259"/>
                </a:cubicBezTo>
                <a:cubicBezTo>
                  <a:pt x="10628" y="5322"/>
                  <a:pt x="10596" y="5395"/>
                  <a:pt x="10592" y="5457"/>
                </a:cubicBezTo>
                <a:cubicBezTo>
                  <a:pt x="10590" y="5489"/>
                  <a:pt x="10592" y="5523"/>
                  <a:pt x="10592" y="5556"/>
                </a:cubicBezTo>
                <a:cubicBezTo>
                  <a:pt x="10672" y="5556"/>
                  <a:pt x="10741" y="5541"/>
                  <a:pt x="10815" y="5531"/>
                </a:cubicBezTo>
                <a:cubicBezTo>
                  <a:pt x="10883" y="5522"/>
                  <a:pt x="10985" y="5514"/>
                  <a:pt x="11038" y="5457"/>
                </a:cubicBezTo>
                <a:cubicBezTo>
                  <a:pt x="11046" y="5440"/>
                  <a:pt x="11055" y="5424"/>
                  <a:pt x="11063" y="5407"/>
                </a:cubicBezTo>
              </a:path>
              <a:path w="6797" h="2804">
                <a:moveTo>
                  <a:pt x="11112" y="5135"/>
                </a:moveTo>
                <a:cubicBezTo>
                  <a:pt x="11083" y="5274"/>
                  <a:pt x="11082" y="5416"/>
                  <a:pt x="11063" y="5556"/>
                </a:cubicBezTo>
                <a:cubicBezTo>
                  <a:pt x="11045" y="5687"/>
                  <a:pt x="11043" y="5708"/>
                  <a:pt x="11063" y="5829"/>
                </a:cubicBezTo>
                <a:cubicBezTo>
                  <a:pt x="11095" y="5818"/>
                  <a:pt x="11102" y="5795"/>
                  <a:pt x="11112" y="5755"/>
                </a:cubicBezTo>
              </a:path>
              <a:path w="6797" h="2804">
                <a:moveTo>
                  <a:pt x="11435" y="5135"/>
                </a:moveTo>
                <a:cubicBezTo>
                  <a:pt x="11541" y="5077"/>
                  <a:pt x="11640" y="5010"/>
                  <a:pt x="11757" y="4986"/>
                </a:cubicBezTo>
              </a:path>
              <a:path w="6797" h="2804">
                <a:moveTo>
                  <a:pt x="11385" y="5209"/>
                </a:moveTo>
                <a:cubicBezTo>
                  <a:pt x="11365" y="5262"/>
                  <a:pt x="11309" y="5354"/>
                  <a:pt x="11410" y="5383"/>
                </a:cubicBezTo>
                <a:cubicBezTo>
                  <a:pt x="11511" y="5412"/>
                  <a:pt x="11593" y="5391"/>
                  <a:pt x="11683" y="5457"/>
                </a:cubicBezTo>
                <a:cubicBezTo>
                  <a:pt x="11750" y="5506"/>
                  <a:pt x="11811" y="5618"/>
                  <a:pt x="11782" y="5705"/>
                </a:cubicBezTo>
                <a:cubicBezTo>
                  <a:pt x="11759" y="5772"/>
                  <a:pt x="11692" y="5799"/>
                  <a:pt x="11633" y="5829"/>
                </a:cubicBezTo>
                <a:cubicBezTo>
                  <a:pt x="11580" y="5856"/>
                  <a:pt x="11542" y="5854"/>
                  <a:pt x="11485" y="5854"/>
                </a:cubicBezTo>
                <a:cubicBezTo>
                  <a:pt x="11485" y="5807"/>
                  <a:pt x="11489" y="5804"/>
                  <a:pt x="11509" y="5755"/>
                </a:cubicBezTo>
              </a:path>
              <a:path w="6797" h="2804">
                <a:moveTo>
                  <a:pt x="11906" y="5209"/>
                </a:moveTo>
                <a:cubicBezTo>
                  <a:pt x="11982" y="5175"/>
                  <a:pt x="12105" y="5098"/>
                  <a:pt x="12204" y="5135"/>
                </a:cubicBezTo>
                <a:cubicBezTo>
                  <a:pt x="12261" y="5156"/>
                  <a:pt x="12228" y="5275"/>
                  <a:pt x="12204" y="5308"/>
                </a:cubicBezTo>
                <a:cubicBezTo>
                  <a:pt x="12165" y="5362"/>
                  <a:pt x="12084" y="5425"/>
                  <a:pt x="12030" y="5457"/>
                </a:cubicBezTo>
                <a:cubicBezTo>
                  <a:pt x="12014" y="5465"/>
                  <a:pt x="11997" y="5474"/>
                  <a:pt x="11981" y="5482"/>
                </a:cubicBezTo>
                <a:cubicBezTo>
                  <a:pt x="11995" y="5539"/>
                  <a:pt x="12026" y="5530"/>
                  <a:pt x="12080" y="5556"/>
                </a:cubicBezTo>
                <a:cubicBezTo>
                  <a:pt x="12156" y="5592"/>
                  <a:pt x="12203" y="5619"/>
                  <a:pt x="12229" y="5705"/>
                </a:cubicBezTo>
                <a:cubicBezTo>
                  <a:pt x="12238" y="5734"/>
                  <a:pt x="12179" y="5814"/>
                  <a:pt x="12154" y="5829"/>
                </a:cubicBezTo>
                <a:cubicBezTo>
                  <a:pt x="12085" y="5873"/>
                  <a:pt x="12021" y="5906"/>
                  <a:pt x="11956" y="5854"/>
                </a:cubicBezTo>
                <a:cubicBezTo>
                  <a:pt x="11916" y="5822"/>
                  <a:pt x="11931" y="5777"/>
                  <a:pt x="11931" y="5730"/>
                </a:cubicBezTo>
              </a:path>
              <a:path w="6797" h="2804">
                <a:moveTo>
                  <a:pt x="12576" y="5060"/>
                </a:moveTo>
                <a:cubicBezTo>
                  <a:pt x="12545" y="5197"/>
                  <a:pt x="12507" y="5304"/>
                  <a:pt x="12452" y="5432"/>
                </a:cubicBezTo>
                <a:cubicBezTo>
                  <a:pt x="12412" y="5525"/>
                  <a:pt x="12351" y="5648"/>
                  <a:pt x="12378" y="5755"/>
                </a:cubicBezTo>
                <a:cubicBezTo>
                  <a:pt x="12394" y="5819"/>
                  <a:pt x="12439" y="5845"/>
                  <a:pt x="12502" y="5829"/>
                </a:cubicBezTo>
                <a:cubicBezTo>
                  <a:pt x="12585" y="5808"/>
                  <a:pt x="12694" y="5770"/>
                  <a:pt x="12750" y="5705"/>
                </a:cubicBezTo>
                <a:cubicBezTo>
                  <a:pt x="12818" y="5626"/>
                  <a:pt x="12840" y="5547"/>
                  <a:pt x="12874" y="5457"/>
                </a:cubicBezTo>
                <a:cubicBezTo>
                  <a:pt x="12808" y="5391"/>
                  <a:pt x="12734" y="5397"/>
                  <a:pt x="12675" y="5482"/>
                </a:cubicBezTo>
                <a:cubicBezTo>
                  <a:pt x="12616" y="5568"/>
                  <a:pt x="12534" y="5671"/>
                  <a:pt x="12526" y="5779"/>
                </a:cubicBezTo>
                <a:cubicBezTo>
                  <a:pt x="12523" y="5823"/>
                  <a:pt x="12582" y="5866"/>
                  <a:pt x="12626" y="5854"/>
                </a:cubicBezTo>
                <a:cubicBezTo>
                  <a:pt x="12642" y="5846"/>
                  <a:pt x="12659" y="5837"/>
                  <a:pt x="12675" y="5829"/>
                </a:cubicBezTo>
              </a:path>
              <a:path w="6797" h="2804">
                <a:moveTo>
                  <a:pt x="13072" y="5283"/>
                </a:moveTo>
                <a:cubicBezTo>
                  <a:pt x="13041" y="5401"/>
                  <a:pt x="13002" y="5509"/>
                  <a:pt x="12998" y="5631"/>
                </a:cubicBezTo>
                <a:cubicBezTo>
                  <a:pt x="12995" y="5714"/>
                  <a:pt x="12990" y="5766"/>
                  <a:pt x="13047" y="5829"/>
                </a:cubicBezTo>
                <a:cubicBezTo>
                  <a:pt x="13100" y="5888"/>
                  <a:pt x="13164" y="5832"/>
                  <a:pt x="13221" y="5804"/>
                </a:cubicBezTo>
                <a:cubicBezTo>
                  <a:pt x="13324" y="5753"/>
                  <a:pt x="13335" y="5685"/>
                  <a:pt x="13370" y="5581"/>
                </a:cubicBezTo>
                <a:cubicBezTo>
                  <a:pt x="13404" y="5481"/>
                  <a:pt x="13403" y="5403"/>
                  <a:pt x="13370" y="5308"/>
                </a:cubicBezTo>
                <a:cubicBezTo>
                  <a:pt x="13343" y="5232"/>
                  <a:pt x="13307" y="5190"/>
                  <a:pt x="13221" y="5184"/>
                </a:cubicBezTo>
                <a:cubicBezTo>
                  <a:pt x="13164" y="5180"/>
                  <a:pt x="13105" y="5184"/>
                  <a:pt x="13047" y="5184"/>
                </a:cubicBezTo>
              </a:path>
              <a:path w="6797" h="2804">
                <a:moveTo>
                  <a:pt x="13618" y="5184"/>
                </a:moveTo>
                <a:cubicBezTo>
                  <a:pt x="13583" y="5303"/>
                  <a:pt x="13488" y="5461"/>
                  <a:pt x="13469" y="5581"/>
                </a:cubicBezTo>
                <a:cubicBezTo>
                  <a:pt x="13453" y="5682"/>
                  <a:pt x="13478" y="5722"/>
                  <a:pt x="13568" y="5730"/>
                </a:cubicBezTo>
                <a:cubicBezTo>
                  <a:pt x="13630" y="5735"/>
                  <a:pt x="13721" y="5726"/>
                  <a:pt x="13767" y="5680"/>
                </a:cubicBezTo>
                <a:cubicBezTo>
                  <a:pt x="13830" y="5617"/>
                  <a:pt x="13869" y="5509"/>
                  <a:pt x="13891" y="5432"/>
                </a:cubicBezTo>
                <a:cubicBezTo>
                  <a:pt x="13918" y="5338"/>
                  <a:pt x="13899" y="5293"/>
                  <a:pt x="13816" y="5234"/>
                </a:cubicBezTo>
                <a:cubicBezTo>
                  <a:pt x="13752" y="5189"/>
                  <a:pt x="13666" y="5181"/>
                  <a:pt x="13593" y="5135"/>
                </a:cubicBezTo>
              </a:path>
              <a:path w="6797" h="2804">
                <a:moveTo>
                  <a:pt x="14163" y="4390"/>
                </a:moveTo>
                <a:cubicBezTo>
                  <a:pt x="14234" y="4390"/>
                  <a:pt x="14272" y="4370"/>
                  <a:pt x="14337" y="4366"/>
                </a:cubicBezTo>
                <a:cubicBezTo>
                  <a:pt x="14403" y="4362"/>
                  <a:pt x="14450" y="4378"/>
                  <a:pt x="14511" y="4390"/>
                </a:cubicBezTo>
              </a:path>
              <a:path w="6797" h="2804">
                <a:moveTo>
                  <a:pt x="14263" y="4688"/>
                </a:moveTo>
                <a:cubicBezTo>
                  <a:pt x="14420" y="4688"/>
                  <a:pt x="14639" y="4523"/>
                  <a:pt x="14709" y="4663"/>
                </a:cubicBezTo>
                <a:cubicBezTo>
                  <a:pt x="14725" y="4694"/>
                  <a:pt x="14667" y="4677"/>
                  <a:pt x="14635" y="4663"/>
                </a:cubicBezTo>
              </a:path>
              <a:path w="6797" h="2804">
                <a:moveTo>
                  <a:pt x="15875" y="3249"/>
                </a:moveTo>
                <a:cubicBezTo>
                  <a:pt x="15849" y="3341"/>
                  <a:pt x="15819" y="3412"/>
                  <a:pt x="15776" y="3497"/>
                </a:cubicBezTo>
                <a:cubicBezTo>
                  <a:pt x="15750" y="3549"/>
                  <a:pt x="15726" y="3564"/>
                  <a:pt x="15726" y="3621"/>
                </a:cubicBezTo>
                <a:cubicBezTo>
                  <a:pt x="15726" y="3629"/>
                  <a:pt x="15726" y="3638"/>
                  <a:pt x="15726" y="3646"/>
                </a:cubicBezTo>
                <a:cubicBezTo>
                  <a:pt x="15846" y="3646"/>
                  <a:pt x="15957" y="3634"/>
                  <a:pt x="16073" y="3621"/>
                </a:cubicBezTo>
                <a:cubicBezTo>
                  <a:pt x="16159" y="3611"/>
                  <a:pt x="16191" y="3587"/>
                  <a:pt x="16272" y="3547"/>
                </a:cubicBezTo>
              </a:path>
              <a:path w="6797" h="2804">
                <a:moveTo>
                  <a:pt x="16197" y="3076"/>
                </a:moveTo>
                <a:cubicBezTo>
                  <a:pt x="16197" y="3278"/>
                  <a:pt x="16188" y="3475"/>
                  <a:pt x="16173" y="3671"/>
                </a:cubicBezTo>
                <a:cubicBezTo>
                  <a:pt x="16164" y="3793"/>
                  <a:pt x="16173" y="3921"/>
                  <a:pt x="16173" y="4043"/>
                </a:cubicBezTo>
              </a:path>
              <a:path w="6797" h="2804">
                <a:moveTo>
                  <a:pt x="15429" y="4341"/>
                </a:moveTo>
                <a:cubicBezTo>
                  <a:pt x="15581" y="4368"/>
                  <a:pt x="15699" y="4345"/>
                  <a:pt x="15850" y="4341"/>
                </a:cubicBezTo>
                <a:cubicBezTo>
                  <a:pt x="15977" y="4337"/>
                  <a:pt x="16441" y="4341"/>
                  <a:pt x="16396" y="4341"/>
                </a:cubicBezTo>
              </a:path>
              <a:path w="6797" h="2804">
                <a:moveTo>
                  <a:pt x="15180" y="4713"/>
                </a:moveTo>
                <a:cubicBezTo>
                  <a:pt x="15159" y="4812"/>
                  <a:pt x="15147" y="4921"/>
                  <a:pt x="15106" y="5011"/>
                </a:cubicBezTo>
                <a:cubicBezTo>
                  <a:pt x="15076" y="5078"/>
                  <a:pt x="15037" y="5134"/>
                  <a:pt x="15032" y="5209"/>
                </a:cubicBezTo>
                <a:cubicBezTo>
                  <a:pt x="15024" y="5344"/>
                  <a:pt x="15047" y="5486"/>
                  <a:pt x="15007" y="5606"/>
                </a:cubicBezTo>
                <a:cubicBezTo>
                  <a:pt x="14993" y="5648"/>
                  <a:pt x="15007" y="5669"/>
                  <a:pt x="15007" y="5606"/>
                </a:cubicBezTo>
              </a:path>
              <a:path w="6797" h="2804">
                <a:moveTo>
                  <a:pt x="15453" y="4837"/>
                </a:moveTo>
                <a:cubicBezTo>
                  <a:pt x="15432" y="4946"/>
                  <a:pt x="15403" y="5034"/>
                  <a:pt x="15379" y="5135"/>
                </a:cubicBezTo>
                <a:cubicBezTo>
                  <a:pt x="15368" y="5183"/>
                  <a:pt x="15382" y="5192"/>
                  <a:pt x="15404" y="5209"/>
                </a:cubicBezTo>
                <a:cubicBezTo>
                  <a:pt x="15432" y="5230"/>
                  <a:pt x="15509" y="5212"/>
                  <a:pt x="15553" y="5184"/>
                </a:cubicBezTo>
                <a:cubicBezTo>
                  <a:pt x="15611" y="5126"/>
                  <a:pt x="15636" y="5101"/>
                  <a:pt x="15677" y="5060"/>
                </a:cubicBezTo>
              </a:path>
              <a:path w="6797" h="2804">
                <a:moveTo>
                  <a:pt x="15701" y="4738"/>
                </a:moveTo>
                <a:cubicBezTo>
                  <a:pt x="15669" y="4869"/>
                  <a:pt x="15638" y="5002"/>
                  <a:pt x="15627" y="5135"/>
                </a:cubicBezTo>
                <a:cubicBezTo>
                  <a:pt x="15618" y="5247"/>
                  <a:pt x="15593" y="5348"/>
                  <a:pt x="15577" y="5457"/>
                </a:cubicBezTo>
                <a:cubicBezTo>
                  <a:pt x="15576" y="5465"/>
                  <a:pt x="15565" y="5618"/>
                  <a:pt x="15602" y="5606"/>
                </a:cubicBezTo>
                <a:cubicBezTo>
                  <a:pt x="15602" y="5578"/>
                  <a:pt x="15604" y="5567"/>
                  <a:pt x="15627" y="5556"/>
                </a:cubicBezTo>
              </a:path>
              <a:path w="6797" h="2804">
                <a:moveTo>
                  <a:pt x="16024" y="4837"/>
                </a:moveTo>
                <a:cubicBezTo>
                  <a:pt x="15991" y="5022"/>
                  <a:pt x="15964" y="5224"/>
                  <a:pt x="15925" y="5407"/>
                </a:cubicBezTo>
                <a:cubicBezTo>
                  <a:pt x="15911" y="5473"/>
                  <a:pt x="15875" y="5514"/>
                  <a:pt x="15875" y="5581"/>
                </a:cubicBezTo>
                <a:cubicBezTo>
                  <a:pt x="15875" y="5618"/>
                  <a:pt x="15895" y="5567"/>
                  <a:pt x="15900" y="5531"/>
                </a:cubicBezTo>
              </a:path>
              <a:path w="6797" h="2804">
                <a:moveTo>
                  <a:pt x="16247" y="4887"/>
                </a:moveTo>
                <a:cubicBezTo>
                  <a:pt x="16315" y="4881"/>
                  <a:pt x="16404" y="4880"/>
                  <a:pt x="16470" y="4862"/>
                </a:cubicBezTo>
                <a:cubicBezTo>
                  <a:pt x="16534" y="4844"/>
                  <a:pt x="16575" y="4837"/>
                  <a:pt x="16644" y="4837"/>
                </a:cubicBezTo>
                <a:cubicBezTo>
                  <a:pt x="16652" y="4837"/>
                  <a:pt x="16661" y="4837"/>
                  <a:pt x="16669" y="4837"/>
                </a:cubicBezTo>
                <a:cubicBezTo>
                  <a:pt x="16669" y="4870"/>
                  <a:pt x="16655" y="4966"/>
                  <a:pt x="16644" y="4986"/>
                </a:cubicBezTo>
                <a:cubicBezTo>
                  <a:pt x="16594" y="5076"/>
                  <a:pt x="16555" y="5155"/>
                  <a:pt x="16520" y="5259"/>
                </a:cubicBezTo>
                <a:cubicBezTo>
                  <a:pt x="16497" y="5326"/>
                  <a:pt x="16474" y="5412"/>
                  <a:pt x="16470" y="5482"/>
                </a:cubicBezTo>
                <a:cubicBezTo>
                  <a:pt x="16466" y="5544"/>
                  <a:pt x="16464" y="5572"/>
                  <a:pt x="16495" y="5531"/>
                </a:cubicBezTo>
                <a:cubicBezTo>
                  <a:pt x="16503" y="5523"/>
                  <a:pt x="16512" y="5515"/>
                  <a:pt x="16520" y="5507"/>
                </a:cubicBezTo>
              </a:path>
              <a:path w="6797" h="2804">
                <a:moveTo>
                  <a:pt x="17016" y="4862"/>
                </a:moveTo>
                <a:cubicBezTo>
                  <a:pt x="17087" y="4849"/>
                  <a:pt x="17222" y="4843"/>
                  <a:pt x="17289" y="4812"/>
                </a:cubicBezTo>
                <a:cubicBezTo>
                  <a:pt x="17324" y="4777"/>
                  <a:pt x="17346" y="4764"/>
                  <a:pt x="17388" y="4762"/>
                </a:cubicBezTo>
              </a:path>
              <a:path w="6797" h="2804">
                <a:moveTo>
                  <a:pt x="17016" y="4837"/>
                </a:moveTo>
                <a:cubicBezTo>
                  <a:pt x="16999" y="4860"/>
                  <a:pt x="16884" y="4977"/>
                  <a:pt x="16917" y="5035"/>
                </a:cubicBezTo>
                <a:cubicBezTo>
                  <a:pt x="16937" y="5071"/>
                  <a:pt x="17002" y="5126"/>
                  <a:pt x="17041" y="5135"/>
                </a:cubicBezTo>
                <a:cubicBezTo>
                  <a:pt x="17109" y="5151"/>
                  <a:pt x="17181" y="5124"/>
                  <a:pt x="17239" y="5184"/>
                </a:cubicBezTo>
                <a:cubicBezTo>
                  <a:pt x="17316" y="5263"/>
                  <a:pt x="17375" y="5393"/>
                  <a:pt x="17338" y="5507"/>
                </a:cubicBezTo>
                <a:cubicBezTo>
                  <a:pt x="17317" y="5573"/>
                  <a:pt x="17248" y="5602"/>
                  <a:pt x="17190" y="5631"/>
                </a:cubicBezTo>
                <a:cubicBezTo>
                  <a:pt x="17121" y="5665"/>
                  <a:pt x="17042" y="5677"/>
                  <a:pt x="16966" y="5680"/>
                </a:cubicBezTo>
                <a:cubicBezTo>
                  <a:pt x="16892" y="5680"/>
                  <a:pt x="16867" y="5680"/>
                  <a:pt x="16818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9760" y="2884320"/>
            <a:ext cx="615600" cy="536760"/>
          </a:xfrm>
          <a:custGeom>
            <a:avLst/>
            <a:gdLst/>
            <a:ahLst/>
            <a:rect l="l" t="t" r="r" b="b"/>
            <a:pathLst>
              <a:path w="1712" h="1489">
                <a:moveTo>
                  <a:pt x="1612" y="8508"/>
                </a:moveTo>
                <a:cubicBezTo>
                  <a:pt x="1619" y="8480"/>
                  <a:pt x="1652" y="8419"/>
                  <a:pt x="1687" y="8409"/>
                </a:cubicBezTo>
                <a:cubicBezTo>
                  <a:pt x="1747" y="8392"/>
                  <a:pt x="1810" y="8430"/>
                  <a:pt x="1836" y="8483"/>
                </a:cubicBezTo>
                <a:cubicBezTo>
                  <a:pt x="1882" y="8576"/>
                  <a:pt x="1903" y="8704"/>
                  <a:pt x="1885" y="8806"/>
                </a:cubicBezTo>
                <a:cubicBezTo>
                  <a:pt x="1859" y="8949"/>
                  <a:pt x="1805" y="9088"/>
                  <a:pt x="1712" y="9203"/>
                </a:cubicBezTo>
                <a:cubicBezTo>
                  <a:pt x="1660" y="9267"/>
                  <a:pt x="1591" y="9296"/>
                  <a:pt x="1513" y="9302"/>
                </a:cubicBezTo>
                <a:cubicBezTo>
                  <a:pt x="1477" y="9305"/>
                  <a:pt x="1426" y="9294"/>
                  <a:pt x="1414" y="9252"/>
                </a:cubicBezTo>
                <a:cubicBezTo>
                  <a:pt x="1395" y="9187"/>
                  <a:pt x="1421" y="9126"/>
                  <a:pt x="1463" y="9079"/>
                </a:cubicBezTo>
                <a:cubicBezTo>
                  <a:pt x="1506" y="9031"/>
                  <a:pt x="1587" y="9049"/>
                  <a:pt x="1637" y="9079"/>
                </a:cubicBezTo>
                <a:cubicBezTo>
                  <a:pt x="1697" y="9115"/>
                  <a:pt x="1710" y="9159"/>
                  <a:pt x="1736" y="9203"/>
                </a:cubicBezTo>
                <a:cubicBezTo>
                  <a:pt x="1769" y="9258"/>
                  <a:pt x="1768" y="9263"/>
                  <a:pt x="1811" y="9252"/>
                </a:cubicBezTo>
              </a:path>
              <a:path w="1712" h="1489">
                <a:moveTo>
                  <a:pt x="2059" y="8533"/>
                </a:moveTo>
                <a:cubicBezTo>
                  <a:pt x="2138" y="8511"/>
                  <a:pt x="2229" y="8493"/>
                  <a:pt x="2307" y="8483"/>
                </a:cubicBezTo>
                <a:cubicBezTo>
                  <a:pt x="2387" y="8473"/>
                  <a:pt x="2541" y="8460"/>
                  <a:pt x="2604" y="8508"/>
                </a:cubicBezTo>
                <a:cubicBezTo>
                  <a:pt x="2593" y="8563"/>
                  <a:pt x="2574" y="8611"/>
                  <a:pt x="2555" y="8657"/>
                </a:cubicBezTo>
                <a:cubicBezTo>
                  <a:pt x="2501" y="8790"/>
                  <a:pt x="2489" y="8859"/>
                  <a:pt x="2456" y="9004"/>
                </a:cubicBezTo>
                <a:cubicBezTo>
                  <a:pt x="2445" y="9051"/>
                  <a:pt x="2405" y="9151"/>
                  <a:pt x="2431" y="9203"/>
                </a:cubicBezTo>
                <a:cubicBezTo>
                  <a:pt x="2452" y="9245"/>
                  <a:pt x="2468" y="9263"/>
                  <a:pt x="2480" y="9203"/>
                </a:cubicBezTo>
                <a:cubicBezTo>
                  <a:pt x="2496" y="9128"/>
                  <a:pt x="2480" y="9031"/>
                  <a:pt x="2480" y="8954"/>
                </a:cubicBezTo>
              </a:path>
              <a:path w="1712" h="1489">
                <a:moveTo>
                  <a:pt x="2431" y="8012"/>
                </a:moveTo>
                <a:cubicBezTo>
                  <a:pt x="2594" y="8074"/>
                  <a:pt x="2710" y="8126"/>
                  <a:pt x="2828" y="8260"/>
                </a:cubicBezTo>
                <a:cubicBezTo>
                  <a:pt x="2957" y="8406"/>
                  <a:pt x="3125" y="8596"/>
                  <a:pt x="3125" y="8806"/>
                </a:cubicBezTo>
                <a:cubicBezTo>
                  <a:pt x="3125" y="8956"/>
                  <a:pt x="3061" y="9107"/>
                  <a:pt x="2977" y="9227"/>
                </a:cubicBezTo>
                <a:cubicBezTo>
                  <a:pt x="2919" y="9311"/>
                  <a:pt x="2837" y="9414"/>
                  <a:pt x="2753" y="9475"/>
                </a:cubicBezTo>
                <a:cubicBezTo>
                  <a:pt x="2737" y="9483"/>
                  <a:pt x="2720" y="9492"/>
                  <a:pt x="2704" y="95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47840" y="3027240"/>
            <a:ext cx="911160" cy="465120"/>
          </a:xfrm>
          <a:custGeom>
            <a:avLst/>
            <a:gdLst/>
            <a:ahLst/>
            <a:rect l="l" t="t" r="r" b="b"/>
            <a:pathLst>
              <a:path w="2531" h="1291">
                <a:moveTo>
                  <a:pt x="4291" y="8731"/>
                </a:moveTo>
                <a:cubicBezTo>
                  <a:pt x="4291" y="8698"/>
                  <a:pt x="4305" y="8712"/>
                  <a:pt x="4291" y="8682"/>
                </a:cubicBezTo>
                <a:cubicBezTo>
                  <a:pt x="4267" y="8631"/>
                  <a:pt x="4261" y="8586"/>
                  <a:pt x="4242" y="8533"/>
                </a:cubicBezTo>
                <a:cubicBezTo>
                  <a:pt x="4218" y="8465"/>
                  <a:pt x="4184" y="8466"/>
                  <a:pt x="4142" y="8434"/>
                </a:cubicBezTo>
                <a:cubicBezTo>
                  <a:pt x="4083" y="8389"/>
                  <a:pt x="4018" y="8463"/>
                  <a:pt x="3969" y="8508"/>
                </a:cubicBezTo>
                <a:cubicBezTo>
                  <a:pt x="3908" y="8565"/>
                  <a:pt x="3826" y="8679"/>
                  <a:pt x="3795" y="8756"/>
                </a:cubicBezTo>
                <a:cubicBezTo>
                  <a:pt x="3751" y="8863"/>
                  <a:pt x="3763" y="8975"/>
                  <a:pt x="3770" y="9079"/>
                </a:cubicBezTo>
                <a:cubicBezTo>
                  <a:pt x="3775" y="9154"/>
                  <a:pt x="3843" y="9283"/>
                  <a:pt x="3944" y="9277"/>
                </a:cubicBezTo>
                <a:cubicBezTo>
                  <a:pt x="4003" y="9274"/>
                  <a:pt x="4104" y="9223"/>
                  <a:pt x="4142" y="9178"/>
                </a:cubicBezTo>
                <a:cubicBezTo>
                  <a:pt x="4202" y="9108"/>
                  <a:pt x="4231" y="9013"/>
                  <a:pt x="4266" y="8930"/>
                </a:cubicBezTo>
                <a:cubicBezTo>
                  <a:pt x="4295" y="8862"/>
                  <a:pt x="4309" y="8829"/>
                  <a:pt x="4316" y="8756"/>
                </a:cubicBezTo>
                <a:cubicBezTo>
                  <a:pt x="4316" y="8821"/>
                  <a:pt x="4332" y="8867"/>
                  <a:pt x="4341" y="8930"/>
                </a:cubicBezTo>
                <a:cubicBezTo>
                  <a:pt x="4352" y="9005"/>
                  <a:pt x="4365" y="9089"/>
                  <a:pt x="4415" y="9153"/>
                </a:cubicBezTo>
                <a:cubicBezTo>
                  <a:pt x="4449" y="9197"/>
                  <a:pt x="4507" y="9287"/>
                  <a:pt x="4564" y="9302"/>
                </a:cubicBezTo>
                <a:cubicBezTo>
                  <a:pt x="4605" y="9302"/>
                  <a:pt x="4613" y="9302"/>
                  <a:pt x="4638" y="9302"/>
                </a:cubicBezTo>
              </a:path>
              <a:path w="2531" h="1291">
                <a:moveTo>
                  <a:pt x="4837" y="9227"/>
                </a:moveTo>
                <a:cubicBezTo>
                  <a:pt x="4837" y="9359"/>
                  <a:pt x="4833" y="9476"/>
                  <a:pt x="4862" y="9599"/>
                </a:cubicBezTo>
                <a:cubicBezTo>
                  <a:pt x="4869" y="9630"/>
                  <a:pt x="4862" y="9667"/>
                  <a:pt x="4862" y="9699"/>
                </a:cubicBezTo>
              </a:path>
              <a:path w="2531" h="1291">
                <a:moveTo>
                  <a:pt x="5159" y="9227"/>
                </a:moveTo>
                <a:cubicBezTo>
                  <a:pt x="5227" y="9227"/>
                  <a:pt x="5299" y="9213"/>
                  <a:pt x="5358" y="9252"/>
                </a:cubicBezTo>
                <a:cubicBezTo>
                  <a:pt x="5392" y="9274"/>
                  <a:pt x="5395" y="9340"/>
                  <a:pt x="5383" y="9376"/>
                </a:cubicBezTo>
                <a:cubicBezTo>
                  <a:pt x="5363" y="9435"/>
                  <a:pt x="5296" y="9499"/>
                  <a:pt x="5259" y="9550"/>
                </a:cubicBezTo>
                <a:cubicBezTo>
                  <a:pt x="5234" y="9575"/>
                  <a:pt x="5226" y="9583"/>
                  <a:pt x="5209" y="9599"/>
                </a:cubicBezTo>
                <a:cubicBezTo>
                  <a:pt x="5254" y="9644"/>
                  <a:pt x="5266" y="9656"/>
                  <a:pt x="5333" y="9649"/>
                </a:cubicBezTo>
                <a:cubicBezTo>
                  <a:pt x="5519" y="9629"/>
                  <a:pt x="5524" y="9633"/>
                  <a:pt x="5655" y="9550"/>
                </a:cubicBezTo>
              </a:path>
              <a:path w="2531" h="1291">
                <a:moveTo>
                  <a:pt x="5879" y="8682"/>
                </a:moveTo>
                <a:cubicBezTo>
                  <a:pt x="5995" y="8682"/>
                  <a:pt x="6110" y="8682"/>
                  <a:pt x="6226" y="8682"/>
                </a:cubicBezTo>
              </a:path>
              <a:path w="2531" h="1291">
                <a:moveTo>
                  <a:pt x="6028" y="8979"/>
                </a:moveTo>
                <a:cubicBezTo>
                  <a:pt x="6125" y="8984"/>
                  <a:pt x="6193" y="8998"/>
                  <a:pt x="6276" y="89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98840" y="2786040"/>
            <a:ext cx="401400" cy="428760"/>
          </a:xfrm>
          <a:custGeom>
            <a:avLst/>
            <a:gdLst/>
            <a:ahLst/>
            <a:rect l="l" t="t" r="r" b="b"/>
            <a:pathLst>
              <a:path w="1117" h="1192">
                <a:moveTo>
                  <a:pt x="7367" y="7813"/>
                </a:moveTo>
                <a:cubicBezTo>
                  <a:pt x="7457" y="7823"/>
                  <a:pt x="7461" y="7835"/>
                  <a:pt x="7466" y="7938"/>
                </a:cubicBezTo>
                <a:cubicBezTo>
                  <a:pt x="7474" y="8114"/>
                  <a:pt x="7455" y="8286"/>
                  <a:pt x="7441" y="8458"/>
                </a:cubicBezTo>
                <a:cubicBezTo>
                  <a:pt x="7434" y="8548"/>
                  <a:pt x="7382" y="8696"/>
                  <a:pt x="7392" y="8781"/>
                </a:cubicBezTo>
                <a:cubicBezTo>
                  <a:pt x="7392" y="8782"/>
                  <a:pt x="7417" y="8894"/>
                  <a:pt x="7417" y="8830"/>
                </a:cubicBezTo>
                <a:cubicBezTo>
                  <a:pt x="7417" y="8822"/>
                  <a:pt x="7417" y="8814"/>
                  <a:pt x="7417" y="8806"/>
                </a:cubicBezTo>
              </a:path>
              <a:path w="1117" h="1192">
                <a:moveTo>
                  <a:pt x="7913" y="7739"/>
                </a:moveTo>
                <a:cubicBezTo>
                  <a:pt x="7913" y="7838"/>
                  <a:pt x="7904" y="7919"/>
                  <a:pt x="7863" y="8012"/>
                </a:cubicBezTo>
                <a:cubicBezTo>
                  <a:pt x="7806" y="8141"/>
                  <a:pt x="7737" y="8294"/>
                  <a:pt x="7714" y="8434"/>
                </a:cubicBezTo>
                <a:cubicBezTo>
                  <a:pt x="7697" y="8541"/>
                  <a:pt x="7770" y="8590"/>
                  <a:pt x="7838" y="8657"/>
                </a:cubicBezTo>
                <a:cubicBezTo>
                  <a:pt x="7928" y="8746"/>
                  <a:pt x="8051" y="8752"/>
                  <a:pt x="8161" y="8682"/>
                </a:cubicBezTo>
                <a:cubicBezTo>
                  <a:pt x="8240" y="8631"/>
                  <a:pt x="8275" y="8550"/>
                  <a:pt x="8310" y="8483"/>
                </a:cubicBezTo>
                <a:cubicBezTo>
                  <a:pt x="8332" y="8461"/>
                  <a:pt x="8343" y="8452"/>
                  <a:pt x="8310" y="8458"/>
                </a:cubicBezTo>
                <a:cubicBezTo>
                  <a:pt x="8195" y="8433"/>
                  <a:pt x="8107" y="8477"/>
                  <a:pt x="8012" y="8558"/>
                </a:cubicBezTo>
                <a:cubicBezTo>
                  <a:pt x="7963" y="8600"/>
                  <a:pt x="7916" y="8661"/>
                  <a:pt x="7938" y="8731"/>
                </a:cubicBezTo>
                <a:cubicBezTo>
                  <a:pt x="7958" y="8772"/>
                  <a:pt x="7955" y="8789"/>
                  <a:pt x="7987" y="8781"/>
                </a:cubicBezTo>
              </a:path>
              <a:path w="1117" h="1192">
                <a:moveTo>
                  <a:pt x="7218" y="8930"/>
                </a:moveTo>
                <a:cubicBezTo>
                  <a:pt x="7377" y="8906"/>
                  <a:pt x="7527" y="8905"/>
                  <a:pt x="7689" y="8905"/>
                </a:cubicBezTo>
                <a:cubicBezTo>
                  <a:pt x="7835" y="8905"/>
                  <a:pt x="7969" y="8894"/>
                  <a:pt x="8111" y="8880"/>
                </a:cubicBezTo>
                <a:cubicBezTo>
                  <a:pt x="8180" y="8873"/>
                  <a:pt x="8242" y="8863"/>
                  <a:pt x="8310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5840" y="3295800"/>
            <a:ext cx="500040" cy="463320"/>
          </a:xfrm>
          <a:custGeom>
            <a:avLst/>
            <a:gdLst/>
            <a:ahLst/>
            <a:rect l="l" t="t" r="r" b="b"/>
            <a:pathLst>
              <a:path w="1390" h="1291">
                <a:moveTo>
                  <a:pt x="7739" y="9376"/>
                </a:moveTo>
                <a:cubicBezTo>
                  <a:pt x="7739" y="9307"/>
                  <a:pt x="7744" y="9259"/>
                  <a:pt x="7714" y="9203"/>
                </a:cubicBezTo>
                <a:cubicBezTo>
                  <a:pt x="7706" y="9186"/>
                  <a:pt x="7697" y="9170"/>
                  <a:pt x="7689" y="9153"/>
                </a:cubicBezTo>
                <a:cubicBezTo>
                  <a:pt x="7616" y="9193"/>
                  <a:pt x="7574" y="9230"/>
                  <a:pt x="7516" y="9302"/>
                </a:cubicBezTo>
                <a:cubicBezTo>
                  <a:pt x="7436" y="9402"/>
                  <a:pt x="7287" y="9587"/>
                  <a:pt x="7293" y="9723"/>
                </a:cubicBezTo>
                <a:cubicBezTo>
                  <a:pt x="7296" y="9791"/>
                  <a:pt x="7367" y="9820"/>
                  <a:pt x="7417" y="9823"/>
                </a:cubicBezTo>
                <a:cubicBezTo>
                  <a:pt x="7491" y="9827"/>
                  <a:pt x="7570" y="9781"/>
                  <a:pt x="7615" y="9723"/>
                </a:cubicBezTo>
                <a:cubicBezTo>
                  <a:pt x="7670" y="9652"/>
                  <a:pt x="7700" y="9581"/>
                  <a:pt x="7739" y="9500"/>
                </a:cubicBezTo>
                <a:cubicBezTo>
                  <a:pt x="7747" y="9484"/>
                  <a:pt x="7756" y="9467"/>
                  <a:pt x="7764" y="9451"/>
                </a:cubicBezTo>
                <a:cubicBezTo>
                  <a:pt x="7757" y="9533"/>
                  <a:pt x="7753" y="9618"/>
                  <a:pt x="7739" y="9699"/>
                </a:cubicBezTo>
                <a:cubicBezTo>
                  <a:pt x="7714" y="9845"/>
                  <a:pt x="7680" y="9983"/>
                  <a:pt x="7640" y="10120"/>
                </a:cubicBezTo>
                <a:cubicBezTo>
                  <a:pt x="7609" y="10224"/>
                  <a:pt x="7602" y="10337"/>
                  <a:pt x="7590" y="10443"/>
                </a:cubicBezTo>
                <a:cubicBezTo>
                  <a:pt x="7609" y="10397"/>
                  <a:pt x="7660" y="10272"/>
                  <a:pt x="7689" y="10195"/>
                </a:cubicBezTo>
                <a:cubicBezTo>
                  <a:pt x="7739" y="10063"/>
                  <a:pt x="7788" y="9930"/>
                  <a:pt x="7838" y="9798"/>
                </a:cubicBezTo>
              </a:path>
              <a:path w="1390" h="1291">
                <a:moveTo>
                  <a:pt x="8285" y="9376"/>
                </a:moveTo>
                <a:cubicBezTo>
                  <a:pt x="8376" y="9365"/>
                  <a:pt x="8563" y="9379"/>
                  <a:pt x="8657" y="9351"/>
                </a:cubicBezTo>
                <a:cubicBezTo>
                  <a:pt x="8665" y="9343"/>
                  <a:pt x="8674" y="9335"/>
                  <a:pt x="8682" y="9327"/>
                </a:cubicBezTo>
              </a:path>
              <a:path w="1390" h="1291">
                <a:moveTo>
                  <a:pt x="8111" y="9475"/>
                </a:moveTo>
                <a:cubicBezTo>
                  <a:pt x="8057" y="9565"/>
                  <a:pt x="8033" y="9566"/>
                  <a:pt x="8037" y="9624"/>
                </a:cubicBezTo>
                <a:cubicBezTo>
                  <a:pt x="8093" y="9635"/>
                  <a:pt x="8127" y="9649"/>
                  <a:pt x="8186" y="9649"/>
                </a:cubicBezTo>
                <a:cubicBezTo>
                  <a:pt x="8267" y="9649"/>
                  <a:pt x="8359" y="9610"/>
                  <a:pt x="8434" y="9624"/>
                </a:cubicBezTo>
                <a:cubicBezTo>
                  <a:pt x="8525" y="9642"/>
                  <a:pt x="8600" y="9775"/>
                  <a:pt x="8632" y="9847"/>
                </a:cubicBezTo>
                <a:cubicBezTo>
                  <a:pt x="8667" y="9926"/>
                  <a:pt x="8681" y="10066"/>
                  <a:pt x="8632" y="10145"/>
                </a:cubicBezTo>
                <a:cubicBezTo>
                  <a:pt x="8598" y="10200"/>
                  <a:pt x="8495" y="10257"/>
                  <a:pt x="8434" y="10269"/>
                </a:cubicBezTo>
                <a:cubicBezTo>
                  <a:pt x="8354" y="10285"/>
                  <a:pt x="8189" y="10172"/>
                  <a:pt x="8136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7240" y="1330200"/>
            <a:ext cx="696960" cy="563760"/>
          </a:xfrm>
          <a:custGeom>
            <a:avLst/>
            <a:gdLst/>
            <a:ahLst/>
            <a:rect l="l" t="t" r="r" b="b"/>
            <a:pathLst>
              <a:path w="1936" h="1564">
                <a:moveTo>
                  <a:pt x="1960" y="4490"/>
                </a:moveTo>
                <a:cubicBezTo>
                  <a:pt x="1966" y="4442"/>
                  <a:pt x="1967" y="4432"/>
                  <a:pt x="1984" y="4390"/>
                </a:cubicBezTo>
                <a:cubicBezTo>
                  <a:pt x="2009" y="4327"/>
                  <a:pt x="2038" y="4294"/>
                  <a:pt x="2084" y="4242"/>
                </a:cubicBezTo>
                <a:cubicBezTo>
                  <a:pt x="2137" y="4182"/>
                  <a:pt x="2226" y="4130"/>
                  <a:pt x="2307" y="4118"/>
                </a:cubicBezTo>
                <a:cubicBezTo>
                  <a:pt x="2380" y="4107"/>
                  <a:pt x="2435" y="4133"/>
                  <a:pt x="2480" y="4192"/>
                </a:cubicBezTo>
                <a:cubicBezTo>
                  <a:pt x="2543" y="4275"/>
                  <a:pt x="2530" y="4366"/>
                  <a:pt x="2530" y="4465"/>
                </a:cubicBezTo>
                <a:cubicBezTo>
                  <a:pt x="2530" y="4587"/>
                  <a:pt x="2484" y="4728"/>
                  <a:pt x="2431" y="4837"/>
                </a:cubicBezTo>
                <a:cubicBezTo>
                  <a:pt x="2369" y="4964"/>
                  <a:pt x="2269" y="5096"/>
                  <a:pt x="2158" y="5184"/>
                </a:cubicBezTo>
                <a:cubicBezTo>
                  <a:pt x="2100" y="5230"/>
                  <a:pt x="2037" y="5274"/>
                  <a:pt x="1960" y="5259"/>
                </a:cubicBezTo>
                <a:cubicBezTo>
                  <a:pt x="1891" y="5246"/>
                  <a:pt x="1910" y="5197"/>
                  <a:pt x="1910" y="5135"/>
                </a:cubicBezTo>
                <a:cubicBezTo>
                  <a:pt x="1910" y="5083"/>
                  <a:pt x="1940" y="4943"/>
                  <a:pt x="1984" y="4911"/>
                </a:cubicBezTo>
                <a:cubicBezTo>
                  <a:pt x="2072" y="4847"/>
                  <a:pt x="2140" y="4874"/>
                  <a:pt x="2232" y="4887"/>
                </a:cubicBezTo>
                <a:cubicBezTo>
                  <a:pt x="2314" y="4899"/>
                  <a:pt x="2343" y="4939"/>
                  <a:pt x="2381" y="5011"/>
                </a:cubicBezTo>
                <a:cubicBezTo>
                  <a:pt x="2401" y="5049"/>
                  <a:pt x="2434" y="5106"/>
                  <a:pt x="2456" y="5135"/>
                </a:cubicBezTo>
                <a:cubicBezTo>
                  <a:pt x="2483" y="5171"/>
                  <a:pt x="2454" y="5160"/>
                  <a:pt x="2505" y="5135"/>
                </a:cubicBezTo>
              </a:path>
              <a:path w="1936" h="1564">
                <a:moveTo>
                  <a:pt x="3225" y="4266"/>
                </a:moveTo>
                <a:cubicBezTo>
                  <a:pt x="3225" y="4118"/>
                  <a:pt x="3268" y="4109"/>
                  <a:pt x="3175" y="4093"/>
                </a:cubicBezTo>
                <a:cubicBezTo>
                  <a:pt x="3110" y="4093"/>
                  <a:pt x="3067" y="4115"/>
                  <a:pt x="3026" y="4167"/>
                </a:cubicBezTo>
                <a:cubicBezTo>
                  <a:pt x="2974" y="4232"/>
                  <a:pt x="2923" y="4335"/>
                  <a:pt x="2902" y="4415"/>
                </a:cubicBezTo>
                <a:cubicBezTo>
                  <a:pt x="2886" y="4476"/>
                  <a:pt x="2863" y="4614"/>
                  <a:pt x="2927" y="4663"/>
                </a:cubicBezTo>
                <a:cubicBezTo>
                  <a:pt x="2971" y="4696"/>
                  <a:pt x="3059" y="4689"/>
                  <a:pt x="3101" y="4663"/>
                </a:cubicBezTo>
                <a:cubicBezTo>
                  <a:pt x="3170" y="4621"/>
                  <a:pt x="3235" y="4560"/>
                  <a:pt x="3274" y="4490"/>
                </a:cubicBezTo>
                <a:cubicBezTo>
                  <a:pt x="3304" y="4436"/>
                  <a:pt x="3359" y="4350"/>
                  <a:pt x="3373" y="4291"/>
                </a:cubicBezTo>
                <a:cubicBezTo>
                  <a:pt x="3383" y="4246"/>
                  <a:pt x="3381" y="4203"/>
                  <a:pt x="3349" y="4192"/>
                </a:cubicBezTo>
                <a:cubicBezTo>
                  <a:pt x="3337" y="4238"/>
                  <a:pt x="3338" y="4291"/>
                  <a:pt x="3324" y="4341"/>
                </a:cubicBezTo>
                <a:cubicBezTo>
                  <a:pt x="3298" y="4433"/>
                  <a:pt x="3299" y="4515"/>
                  <a:pt x="3299" y="4614"/>
                </a:cubicBezTo>
                <a:cubicBezTo>
                  <a:pt x="3299" y="4764"/>
                  <a:pt x="3349" y="5037"/>
                  <a:pt x="3274" y="5159"/>
                </a:cubicBezTo>
                <a:cubicBezTo>
                  <a:pt x="3274" y="5095"/>
                  <a:pt x="3291" y="5047"/>
                  <a:pt x="3299" y="4986"/>
                </a:cubicBezTo>
              </a:path>
              <a:path w="1936" h="1564">
                <a:moveTo>
                  <a:pt x="3249" y="3696"/>
                </a:moveTo>
                <a:cubicBezTo>
                  <a:pt x="3289" y="3736"/>
                  <a:pt x="3331" y="3760"/>
                  <a:pt x="3373" y="3795"/>
                </a:cubicBezTo>
                <a:cubicBezTo>
                  <a:pt x="3453" y="3861"/>
                  <a:pt x="3528" y="3985"/>
                  <a:pt x="3597" y="4068"/>
                </a:cubicBezTo>
                <a:cubicBezTo>
                  <a:pt x="3678" y="4164"/>
                  <a:pt x="3774" y="4298"/>
                  <a:pt x="3820" y="4415"/>
                </a:cubicBezTo>
                <a:cubicBezTo>
                  <a:pt x="3852" y="4497"/>
                  <a:pt x="3865" y="4650"/>
                  <a:pt x="3845" y="4738"/>
                </a:cubicBezTo>
                <a:cubicBezTo>
                  <a:pt x="3829" y="4807"/>
                  <a:pt x="3762" y="4883"/>
                  <a:pt x="3721" y="4936"/>
                </a:cubicBezTo>
                <a:cubicBezTo>
                  <a:pt x="3686" y="4982"/>
                  <a:pt x="3635" y="5007"/>
                  <a:pt x="3597" y="5035"/>
                </a:cubicBezTo>
                <a:cubicBezTo>
                  <a:pt x="3597" y="5060"/>
                  <a:pt x="3597" y="5068"/>
                  <a:pt x="3572" y="50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43040" y="1419120"/>
            <a:ext cx="723960" cy="455760"/>
          </a:xfrm>
          <a:custGeom>
            <a:avLst/>
            <a:gdLst/>
            <a:ahLst/>
            <a:rect l="l" t="t" r="r" b="b"/>
            <a:pathLst>
              <a:path w="2010" h="1266">
                <a:moveTo>
                  <a:pt x="5259" y="4217"/>
                </a:moveTo>
                <a:cubicBezTo>
                  <a:pt x="5252" y="4137"/>
                  <a:pt x="5236" y="4085"/>
                  <a:pt x="5209" y="4018"/>
                </a:cubicBezTo>
                <a:cubicBezTo>
                  <a:pt x="5157" y="3889"/>
                  <a:pt x="5127" y="3951"/>
                  <a:pt x="5035" y="3994"/>
                </a:cubicBezTo>
                <a:cubicBezTo>
                  <a:pt x="4903" y="4057"/>
                  <a:pt x="4814" y="4138"/>
                  <a:pt x="4713" y="4242"/>
                </a:cubicBezTo>
                <a:cubicBezTo>
                  <a:pt x="4603" y="4355"/>
                  <a:pt x="4532" y="4495"/>
                  <a:pt x="4564" y="4663"/>
                </a:cubicBezTo>
                <a:cubicBezTo>
                  <a:pt x="4575" y="4721"/>
                  <a:pt x="4673" y="4722"/>
                  <a:pt x="4713" y="4713"/>
                </a:cubicBezTo>
                <a:cubicBezTo>
                  <a:pt x="4810" y="4692"/>
                  <a:pt x="4911" y="4626"/>
                  <a:pt x="4986" y="4564"/>
                </a:cubicBezTo>
                <a:cubicBezTo>
                  <a:pt x="5054" y="4508"/>
                  <a:pt x="5117" y="4417"/>
                  <a:pt x="5159" y="4341"/>
                </a:cubicBezTo>
                <a:cubicBezTo>
                  <a:pt x="5187" y="4291"/>
                  <a:pt x="5179" y="4270"/>
                  <a:pt x="5184" y="4217"/>
                </a:cubicBezTo>
                <a:cubicBezTo>
                  <a:pt x="5154" y="4276"/>
                  <a:pt x="5159" y="4314"/>
                  <a:pt x="5159" y="4390"/>
                </a:cubicBezTo>
                <a:cubicBezTo>
                  <a:pt x="5159" y="4496"/>
                  <a:pt x="5163" y="4566"/>
                  <a:pt x="5209" y="4663"/>
                </a:cubicBezTo>
                <a:cubicBezTo>
                  <a:pt x="5240" y="4728"/>
                  <a:pt x="5263" y="4748"/>
                  <a:pt x="5333" y="4762"/>
                </a:cubicBezTo>
                <a:cubicBezTo>
                  <a:pt x="5390" y="4773"/>
                  <a:pt x="5456" y="4713"/>
                  <a:pt x="5507" y="4688"/>
                </a:cubicBezTo>
              </a:path>
              <a:path w="2010" h="1266">
                <a:moveTo>
                  <a:pt x="5631" y="4564"/>
                </a:moveTo>
                <a:cubicBezTo>
                  <a:pt x="5654" y="4698"/>
                  <a:pt x="5648" y="4758"/>
                  <a:pt x="5631" y="4887"/>
                </a:cubicBezTo>
                <a:cubicBezTo>
                  <a:pt x="5626" y="4923"/>
                  <a:pt x="5640" y="5150"/>
                  <a:pt x="5655" y="5085"/>
                </a:cubicBezTo>
                <a:cubicBezTo>
                  <a:pt x="5655" y="5068"/>
                  <a:pt x="5655" y="5052"/>
                  <a:pt x="5655" y="5035"/>
                </a:cubicBezTo>
              </a:path>
              <a:path w="2010" h="1266">
                <a:moveTo>
                  <a:pt x="5854" y="4614"/>
                </a:moveTo>
                <a:cubicBezTo>
                  <a:pt x="5794" y="4722"/>
                  <a:pt x="5700" y="4810"/>
                  <a:pt x="5655" y="4887"/>
                </a:cubicBezTo>
                <a:cubicBezTo>
                  <a:pt x="5616" y="4953"/>
                  <a:pt x="5708" y="4950"/>
                  <a:pt x="5730" y="4961"/>
                </a:cubicBezTo>
                <a:cubicBezTo>
                  <a:pt x="5785" y="4989"/>
                  <a:pt x="5839" y="5046"/>
                  <a:pt x="5904" y="5060"/>
                </a:cubicBezTo>
                <a:cubicBezTo>
                  <a:pt x="5951" y="5070"/>
                  <a:pt x="5981" y="5121"/>
                  <a:pt x="6028" y="5110"/>
                </a:cubicBezTo>
                <a:cubicBezTo>
                  <a:pt x="6036" y="5102"/>
                  <a:pt x="6044" y="5093"/>
                  <a:pt x="6052" y="5085"/>
                </a:cubicBezTo>
              </a:path>
              <a:path w="2010" h="1266">
                <a:moveTo>
                  <a:pt x="6176" y="4564"/>
                </a:moveTo>
                <a:cubicBezTo>
                  <a:pt x="6160" y="4665"/>
                  <a:pt x="6143" y="4766"/>
                  <a:pt x="6127" y="4862"/>
                </a:cubicBezTo>
                <a:cubicBezTo>
                  <a:pt x="6116" y="4926"/>
                  <a:pt x="6146" y="4959"/>
                  <a:pt x="6152" y="5011"/>
                </a:cubicBezTo>
                <a:cubicBezTo>
                  <a:pt x="6152" y="5045"/>
                  <a:pt x="6147" y="5044"/>
                  <a:pt x="6127" y="4986"/>
                </a:cubicBezTo>
              </a:path>
              <a:path w="2010" h="1266">
                <a:moveTo>
                  <a:pt x="6003" y="4862"/>
                </a:moveTo>
                <a:cubicBezTo>
                  <a:pt x="6085" y="4862"/>
                  <a:pt x="6150" y="4864"/>
                  <a:pt x="6226" y="4837"/>
                </a:cubicBezTo>
                <a:cubicBezTo>
                  <a:pt x="6293" y="4814"/>
                  <a:pt x="6311" y="4809"/>
                  <a:pt x="6350" y="4787"/>
                </a:cubicBezTo>
              </a:path>
              <a:path w="2010" h="1266">
                <a:moveTo>
                  <a:pt x="6474" y="4638"/>
                </a:moveTo>
                <a:cubicBezTo>
                  <a:pt x="6437" y="4901"/>
                  <a:pt x="6438" y="4894"/>
                  <a:pt x="6474" y="5085"/>
                </a:cubicBezTo>
                <a:cubicBezTo>
                  <a:pt x="6475" y="5093"/>
                  <a:pt x="6501" y="5257"/>
                  <a:pt x="6548" y="5209"/>
                </a:cubicBezTo>
                <a:cubicBezTo>
                  <a:pt x="6548" y="5181"/>
                  <a:pt x="6550" y="5170"/>
                  <a:pt x="6573" y="51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920" y="1143000"/>
            <a:ext cx="1776240" cy="608040"/>
          </a:xfrm>
          <a:custGeom>
            <a:avLst/>
            <a:gdLst/>
            <a:ahLst/>
            <a:rect l="l" t="t" r="r" b="b"/>
            <a:pathLst>
              <a:path w="4937" h="1688">
                <a:moveTo>
                  <a:pt x="6970" y="4093"/>
                </a:moveTo>
                <a:cubicBezTo>
                  <a:pt x="7039" y="4078"/>
                  <a:pt x="7125" y="4048"/>
                  <a:pt x="7193" y="4043"/>
                </a:cubicBezTo>
                <a:cubicBezTo>
                  <a:pt x="7235" y="4043"/>
                  <a:pt x="7243" y="4043"/>
                  <a:pt x="7268" y="4043"/>
                </a:cubicBezTo>
              </a:path>
              <a:path w="4937" h="1688">
                <a:moveTo>
                  <a:pt x="6995" y="4291"/>
                </a:moveTo>
                <a:cubicBezTo>
                  <a:pt x="7080" y="4283"/>
                  <a:pt x="7184" y="4285"/>
                  <a:pt x="7268" y="4266"/>
                </a:cubicBezTo>
                <a:cubicBezTo>
                  <a:pt x="7324" y="4238"/>
                  <a:pt x="7348" y="4228"/>
                  <a:pt x="7392" y="4217"/>
                </a:cubicBezTo>
              </a:path>
              <a:path w="4937" h="1688">
                <a:moveTo>
                  <a:pt x="8285" y="3795"/>
                </a:moveTo>
                <a:cubicBezTo>
                  <a:pt x="8285" y="3738"/>
                  <a:pt x="8293" y="3696"/>
                  <a:pt x="8260" y="3646"/>
                </a:cubicBezTo>
                <a:cubicBezTo>
                  <a:pt x="8239" y="3614"/>
                  <a:pt x="8169" y="3556"/>
                  <a:pt x="8136" y="3547"/>
                </a:cubicBezTo>
                <a:cubicBezTo>
                  <a:pt x="8054" y="3525"/>
                  <a:pt x="7974" y="3572"/>
                  <a:pt x="7913" y="3621"/>
                </a:cubicBezTo>
                <a:cubicBezTo>
                  <a:pt x="7804" y="3709"/>
                  <a:pt x="7725" y="3810"/>
                  <a:pt x="7689" y="3944"/>
                </a:cubicBezTo>
                <a:cubicBezTo>
                  <a:pt x="7661" y="4049"/>
                  <a:pt x="7617" y="4149"/>
                  <a:pt x="7689" y="4242"/>
                </a:cubicBezTo>
                <a:cubicBezTo>
                  <a:pt x="7736" y="4302"/>
                  <a:pt x="7812" y="4337"/>
                  <a:pt x="7888" y="4316"/>
                </a:cubicBezTo>
                <a:cubicBezTo>
                  <a:pt x="7991" y="4287"/>
                  <a:pt x="8066" y="4188"/>
                  <a:pt x="8136" y="4118"/>
                </a:cubicBezTo>
                <a:cubicBezTo>
                  <a:pt x="8203" y="4052"/>
                  <a:pt x="8222" y="3962"/>
                  <a:pt x="8235" y="3870"/>
                </a:cubicBezTo>
                <a:cubicBezTo>
                  <a:pt x="8242" y="3822"/>
                  <a:pt x="8219" y="3790"/>
                  <a:pt x="8210" y="3746"/>
                </a:cubicBezTo>
                <a:cubicBezTo>
                  <a:pt x="8163" y="3762"/>
                  <a:pt x="8179" y="3795"/>
                  <a:pt x="8161" y="3845"/>
                </a:cubicBezTo>
                <a:cubicBezTo>
                  <a:pt x="8131" y="3928"/>
                  <a:pt x="8079" y="4058"/>
                  <a:pt x="8086" y="4142"/>
                </a:cubicBezTo>
                <a:cubicBezTo>
                  <a:pt x="8093" y="4227"/>
                  <a:pt x="8119" y="4297"/>
                  <a:pt x="8161" y="4366"/>
                </a:cubicBezTo>
                <a:cubicBezTo>
                  <a:pt x="8190" y="4413"/>
                  <a:pt x="8175" y="4458"/>
                  <a:pt x="8235" y="4465"/>
                </a:cubicBezTo>
                <a:cubicBezTo>
                  <a:pt x="8263" y="4465"/>
                  <a:pt x="8274" y="4463"/>
                  <a:pt x="8285" y="4440"/>
                </a:cubicBezTo>
              </a:path>
              <a:path w="4937" h="1688">
                <a:moveTo>
                  <a:pt x="8483" y="4217"/>
                </a:moveTo>
                <a:cubicBezTo>
                  <a:pt x="8459" y="4336"/>
                  <a:pt x="8458" y="4441"/>
                  <a:pt x="8458" y="4564"/>
                </a:cubicBezTo>
                <a:cubicBezTo>
                  <a:pt x="8458" y="4601"/>
                  <a:pt x="8448" y="4714"/>
                  <a:pt x="8483" y="4738"/>
                </a:cubicBezTo>
                <a:cubicBezTo>
                  <a:pt x="8534" y="4772"/>
                  <a:pt x="8542" y="4689"/>
                  <a:pt x="8558" y="4663"/>
                </a:cubicBezTo>
              </a:path>
              <a:path w="4937" h="1688">
                <a:moveTo>
                  <a:pt x="8756" y="4291"/>
                </a:moveTo>
                <a:cubicBezTo>
                  <a:pt x="8708" y="4358"/>
                  <a:pt x="8662" y="4430"/>
                  <a:pt x="8607" y="4490"/>
                </a:cubicBezTo>
                <a:cubicBezTo>
                  <a:pt x="8573" y="4527"/>
                  <a:pt x="8580" y="4570"/>
                  <a:pt x="8607" y="4614"/>
                </a:cubicBezTo>
                <a:cubicBezTo>
                  <a:pt x="8621" y="4637"/>
                  <a:pt x="8749" y="4681"/>
                  <a:pt x="8781" y="4688"/>
                </a:cubicBezTo>
                <a:cubicBezTo>
                  <a:pt x="8837" y="4701"/>
                  <a:pt x="8879" y="4722"/>
                  <a:pt x="8930" y="4738"/>
                </a:cubicBezTo>
                <a:cubicBezTo>
                  <a:pt x="8956" y="4746"/>
                  <a:pt x="8920" y="4739"/>
                  <a:pt x="8954" y="4713"/>
                </a:cubicBezTo>
                <a:cubicBezTo>
                  <a:pt x="8962" y="4705"/>
                  <a:pt x="8971" y="4696"/>
                  <a:pt x="8979" y="4688"/>
                </a:cubicBezTo>
              </a:path>
              <a:path w="4937" h="1688">
                <a:moveTo>
                  <a:pt x="9079" y="3795"/>
                </a:moveTo>
                <a:cubicBezTo>
                  <a:pt x="9190" y="3802"/>
                  <a:pt x="9289" y="3820"/>
                  <a:pt x="9401" y="3820"/>
                </a:cubicBezTo>
                <a:cubicBezTo>
                  <a:pt x="9499" y="3820"/>
                  <a:pt x="9583" y="3830"/>
                  <a:pt x="9674" y="3845"/>
                </a:cubicBezTo>
                <a:cubicBezTo>
                  <a:pt x="9721" y="3853"/>
                  <a:pt x="9775" y="3845"/>
                  <a:pt x="9823" y="3845"/>
                </a:cubicBezTo>
                <a:cubicBezTo>
                  <a:pt x="9823" y="3789"/>
                  <a:pt x="9803" y="3811"/>
                  <a:pt x="9798" y="3770"/>
                </a:cubicBezTo>
                <a:cubicBezTo>
                  <a:pt x="9790" y="3704"/>
                  <a:pt x="9803" y="3698"/>
                  <a:pt x="9847" y="3646"/>
                </a:cubicBezTo>
              </a:path>
              <a:path w="4937" h="1688">
                <a:moveTo>
                  <a:pt x="10096" y="3398"/>
                </a:moveTo>
                <a:cubicBezTo>
                  <a:pt x="10051" y="3442"/>
                  <a:pt x="9949" y="3512"/>
                  <a:pt x="9922" y="3572"/>
                </a:cubicBezTo>
                <a:cubicBezTo>
                  <a:pt x="9905" y="3610"/>
                  <a:pt x="9897" y="3634"/>
                  <a:pt x="9922" y="3671"/>
                </a:cubicBezTo>
                <a:cubicBezTo>
                  <a:pt x="9954" y="3719"/>
                  <a:pt x="10019" y="3737"/>
                  <a:pt x="10071" y="3746"/>
                </a:cubicBezTo>
                <a:cubicBezTo>
                  <a:pt x="10148" y="3759"/>
                  <a:pt x="10257" y="3752"/>
                  <a:pt x="10319" y="3721"/>
                </a:cubicBezTo>
                <a:cubicBezTo>
                  <a:pt x="10385" y="3688"/>
                  <a:pt x="10402" y="3679"/>
                  <a:pt x="10443" y="3621"/>
                </a:cubicBezTo>
              </a:path>
              <a:path w="4937" h="1688">
                <a:moveTo>
                  <a:pt x="10393" y="3175"/>
                </a:moveTo>
                <a:cubicBezTo>
                  <a:pt x="10393" y="3289"/>
                  <a:pt x="10378" y="3386"/>
                  <a:pt x="10368" y="3497"/>
                </a:cubicBezTo>
                <a:cubicBezTo>
                  <a:pt x="10359" y="3607"/>
                  <a:pt x="10344" y="3708"/>
                  <a:pt x="10344" y="3820"/>
                </a:cubicBezTo>
                <a:cubicBezTo>
                  <a:pt x="10344" y="3907"/>
                  <a:pt x="10368" y="3979"/>
                  <a:pt x="10368" y="4068"/>
                </a:cubicBezTo>
                <a:cubicBezTo>
                  <a:pt x="10368" y="4103"/>
                  <a:pt x="10364" y="4120"/>
                  <a:pt x="10344" y="4142"/>
                </a:cubicBezTo>
              </a:path>
              <a:path w="4937" h="1688">
                <a:moveTo>
                  <a:pt x="11038" y="3870"/>
                </a:moveTo>
                <a:cubicBezTo>
                  <a:pt x="11115" y="3802"/>
                  <a:pt x="11158" y="3768"/>
                  <a:pt x="11261" y="3746"/>
                </a:cubicBezTo>
                <a:cubicBezTo>
                  <a:pt x="11341" y="3729"/>
                  <a:pt x="11336" y="3793"/>
                  <a:pt x="11336" y="3845"/>
                </a:cubicBezTo>
                <a:cubicBezTo>
                  <a:pt x="11336" y="3950"/>
                  <a:pt x="11300" y="4035"/>
                  <a:pt x="11237" y="4118"/>
                </a:cubicBezTo>
                <a:cubicBezTo>
                  <a:pt x="11212" y="4151"/>
                  <a:pt x="11191" y="4185"/>
                  <a:pt x="11237" y="4217"/>
                </a:cubicBezTo>
                <a:cubicBezTo>
                  <a:pt x="11304" y="4264"/>
                  <a:pt x="11349" y="4264"/>
                  <a:pt x="11410" y="4316"/>
                </a:cubicBezTo>
                <a:cubicBezTo>
                  <a:pt x="11474" y="4371"/>
                  <a:pt x="11466" y="4421"/>
                  <a:pt x="11435" y="4490"/>
                </a:cubicBezTo>
                <a:cubicBezTo>
                  <a:pt x="11410" y="4545"/>
                  <a:pt x="11371" y="4594"/>
                  <a:pt x="11311" y="4614"/>
                </a:cubicBezTo>
                <a:cubicBezTo>
                  <a:pt x="11303" y="4614"/>
                  <a:pt x="11294" y="4614"/>
                  <a:pt x="11286" y="4614"/>
                </a:cubicBezTo>
                <a:cubicBezTo>
                  <a:pt x="11286" y="4514"/>
                  <a:pt x="11301" y="4477"/>
                  <a:pt x="11336" y="4366"/>
                </a:cubicBezTo>
                <a:cubicBezTo>
                  <a:pt x="11344" y="4341"/>
                  <a:pt x="11353" y="4316"/>
                  <a:pt x="11361" y="4291"/>
                </a:cubicBezTo>
              </a:path>
              <a:path w="4937" h="1688">
                <a:moveTo>
                  <a:pt x="11658" y="3721"/>
                </a:moveTo>
                <a:cubicBezTo>
                  <a:pt x="11619" y="3892"/>
                  <a:pt x="11565" y="4088"/>
                  <a:pt x="11584" y="4266"/>
                </a:cubicBezTo>
                <a:cubicBezTo>
                  <a:pt x="11591" y="4328"/>
                  <a:pt x="11617" y="4389"/>
                  <a:pt x="11633" y="4440"/>
                </a:cubicBezTo>
                <a:cubicBezTo>
                  <a:pt x="11654" y="4505"/>
                  <a:pt x="11655" y="4408"/>
                  <a:pt x="11658" y="4390"/>
                </a:cubicBezTo>
              </a:path>
              <a:path w="4937" h="1688">
                <a:moveTo>
                  <a:pt x="11286" y="3522"/>
                </a:moveTo>
                <a:cubicBezTo>
                  <a:pt x="11048" y="3874"/>
                  <a:pt x="10857" y="4040"/>
                  <a:pt x="10840" y="4440"/>
                </a:cubicBezTo>
                <a:cubicBezTo>
                  <a:pt x="10835" y="4565"/>
                  <a:pt x="10876" y="4736"/>
                  <a:pt x="10988" y="4812"/>
                </a:cubicBezTo>
                <a:cubicBezTo>
                  <a:pt x="11087" y="4879"/>
                  <a:pt x="11206" y="4863"/>
                  <a:pt x="11311" y="4837"/>
                </a:cubicBezTo>
                <a:cubicBezTo>
                  <a:pt x="11455" y="4802"/>
                  <a:pt x="11530" y="4692"/>
                  <a:pt x="11633" y="4589"/>
                </a:cubicBezTo>
                <a:cubicBezTo>
                  <a:pt x="11747" y="4475"/>
                  <a:pt x="11801" y="4339"/>
                  <a:pt x="11857" y="4192"/>
                </a:cubicBezTo>
                <a:cubicBezTo>
                  <a:pt x="11906" y="4063"/>
                  <a:pt x="11931" y="3910"/>
                  <a:pt x="11906" y="3770"/>
                </a:cubicBezTo>
                <a:cubicBezTo>
                  <a:pt x="11885" y="3654"/>
                  <a:pt x="11813" y="3633"/>
                  <a:pt x="11733" y="3597"/>
                </a:cubicBezTo>
                <a:cubicBezTo>
                  <a:pt x="11691" y="3578"/>
                  <a:pt x="11652" y="3588"/>
                  <a:pt x="11609" y="3572"/>
                </a:cubicBezTo>
                <a:cubicBezTo>
                  <a:pt x="11555" y="3551"/>
                  <a:pt x="11596" y="3553"/>
                  <a:pt x="11559" y="35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56080" y="990720"/>
            <a:ext cx="2544840" cy="625320"/>
          </a:xfrm>
          <a:custGeom>
            <a:avLst/>
            <a:gdLst/>
            <a:ahLst/>
            <a:rect l="l" t="t" r="r" b="b"/>
            <a:pathLst>
              <a:path w="7070" h="1738">
                <a:moveTo>
                  <a:pt x="12750" y="3820"/>
                </a:moveTo>
                <a:cubicBezTo>
                  <a:pt x="12750" y="3735"/>
                  <a:pt x="12729" y="3762"/>
                  <a:pt x="12700" y="3696"/>
                </a:cubicBezTo>
                <a:cubicBezTo>
                  <a:pt x="12682" y="3656"/>
                  <a:pt x="12661" y="3632"/>
                  <a:pt x="12626" y="3597"/>
                </a:cubicBezTo>
                <a:cubicBezTo>
                  <a:pt x="12606" y="3577"/>
                  <a:pt x="12557" y="3554"/>
                  <a:pt x="12526" y="3572"/>
                </a:cubicBezTo>
                <a:cubicBezTo>
                  <a:pt x="12478" y="3599"/>
                  <a:pt x="12443" y="3743"/>
                  <a:pt x="12427" y="3795"/>
                </a:cubicBezTo>
                <a:cubicBezTo>
                  <a:pt x="12405" y="3866"/>
                  <a:pt x="12357" y="4044"/>
                  <a:pt x="12378" y="4118"/>
                </a:cubicBezTo>
                <a:cubicBezTo>
                  <a:pt x="12384" y="4139"/>
                  <a:pt x="12413" y="4174"/>
                  <a:pt x="12427" y="4192"/>
                </a:cubicBezTo>
                <a:cubicBezTo>
                  <a:pt x="12478" y="4192"/>
                  <a:pt x="12508" y="4174"/>
                  <a:pt x="12551" y="4142"/>
                </a:cubicBezTo>
                <a:cubicBezTo>
                  <a:pt x="12596" y="4108"/>
                  <a:pt x="12608" y="4063"/>
                  <a:pt x="12626" y="4018"/>
                </a:cubicBezTo>
                <a:cubicBezTo>
                  <a:pt x="12651" y="3956"/>
                  <a:pt x="12650" y="3909"/>
                  <a:pt x="12650" y="3845"/>
                </a:cubicBezTo>
                <a:cubicBezTo>
                  <a:pt x="12701" y="3862"/>
                  <a:pt x="12675" y="3960"/>
                  <a:pt x="12675" y="4018"/>
                </a:cubicBezTo>
                <a:cubicBezTo>
                  <a:pt x="12675" y="4042"/>
                  <a:pt x="12701" y="4106"/>
                  <a:pt x="12725" y="4118"/>
                </a:cubicBezTo>
                <a:cubicBezTo>
                  <a:pt x="12771" y="4141"/>
                  <a:pt x="12728" y="4133"/>
                  <a:pt x="12774" y="4118"/>
                </a:cubicBezTo>
              </a:path>
              <a:path w="7070" h="1738">
                <a:moveTo>
                  <a:pt x="12874" y="4018"/>
                </a:moveTo>
                <a:cubicBezTo>
                  <a:pt x="12887" y="4083"/>
                  <a:pt x="12915" y="4172"/>
                  <a:pt x="12898" y="4242"/>
                </a:cubicBezTo>
                <a:cubicBezTo>
                  <a:pt x="12888" y="4283"/>
                  <a:pt x="12889" y="4390"/>
                  <a:pt x="12898" y="4316"/>
                </a:cubicBezTo>
                <a:cubicBezTo>
                  <a:pt x="12898" y="4308"/>
                  <a:pt x="12898" y="4299"/>
                  <a:pt x="12898" y="4291"/>
                </a:cubicBezTo>
              </a:path>
              <a:path w="7070" h="1738">
                <a:moveTo>
                  <a:pt x="13246" y="3597"/>
                </a:moveTo>
                <a:cubicBezTo>
                  <a:pt x="13330" y="3597"/>
                  <a:pt x="13390" y="3576"/>
                  <a:pt x="13469" y="3572"/>
                </a:cubicBezTo>
                <a:cubicBezTo>
                  <a:pt x="13486" y="3572"/>
                  <a:pt x="13502" y="3572"/>
                  <a:pt x="13519" y="3572"/>
                </a:cubicBezTo>
              </a:path>
              <a:path w="7070" h="1738">
                <a:moveTo>
                  <a:pt x="13246" y="3894"/>
                </a:moveTo>
                <a:cubicBezTo>
                  <a:pt x="13313" y="3894"/>
                  <a:pt x="13332" y="3885"/>
                  <a:pt x="13395" y="3870"/>
                </a:cubicBezTo>
                <a:cubicBezTo>
                  <a:pt x="13437" y="3860"/>
                  <a:pt x="13446" y="3852"/>
                  <a:pt x="13494" y="3845"/>
                </a:cubicBezTo>
              </a:path>
              <a:path w="7070" h="1738">
                <a:moveTo>
                  <a:pt x="13915" y="3324"/>
                </a:moveTo>
                <a:cubicBezTo>
                  <a:pt x="13943" y="3287"/>
                  <a:pt x="14027" y="3258"/>
                  <a:pt x="14089" y="3249"/>
                </a:cubicBezTo>
                <a:cubicBezTo>
                  <a:pt x="14147" y="3240"/>
                  <a:pt x="14193" y="3284"/>
                  <a:pt x="14213" y="3324"/>
                </a:cubicBezTo>
                <a:cubicBezTo>
                  <a:pt x="14248" y="3392"/>
                  <a:pt x="14197" y="3427"/>
                  <a:pt x="14163" y="3497"/>
                </a:cubicBezTo>
                <a:cubicBezTo>
                  <a:pt x="14127" y="3570"/>
                  <a:pt x="14018" y="3575"/>
                  <a:pt x="13990" y="3646"/>
                </a:cubicBezTo>
                <a:cubicBezTo>
                  <a:pt x="13968" y="3701"/>
                  <a:pt x="14047" y="3724"/>
                  <a:pt x="14089" y="3746"/>
                </a:cubicBezTo>
                <a:cubicBezTo>
                  <a:pt x="14146" y="3775"/>
                  <a:pt x="14191" y="3806"/>
                  <a:pt x="14213" y="3870"/>
                </a:cubicBezTo>
                <a:cubicBezTo>
                  <a:pt x="14240" y="3949"/>
                  <a:pt x="14187" y="3978"/>
                  <a:pt x="14139" y="4018"/>
                </a:cubicBezTo>
                <a:cubicBezTo>
                  <a:pt x="14089" y="4060"/>
                  <a:pt x="14053" y="4088"/>
                  <a:pt x="13990" y="4093"/>
                </a:cubicBezTo>
                <a:cubicBezTo>
                  <a:pt x="13938" y="4097"/>
                  <a:pt x="13935" y="4079"/>
                  <a:pt x="13915" y="4068"/>
                </a:cubicBezTo>
                <a:cubicBezTo>
                  <a:pt x="13891" y="4068"/>
                  <a:pt x="13883" y="4068"/>
                  <a:pt x="13915" y="4068"/>
                </a:cubicBezTo>
              </a:path>
              <a:path w="7070" h="1738">
                <a:moveTo>
                  <a:pt x="14684" y="3795"/>
                </a:moveTo>
                <a:cubicBezTo>
                  <a:pt x="14713" y="3757"/>
                  <a:pt x="14709" y="3744"/>
                  <a:pt x="14709" y="3696"/>
                </a:cubicBezTo>
                <a:cubicBezTo>
                  <a:pt x="14709" y="3642"/>
                  <a:pt x="14697" y="3613"/>
                  <a:pt x="14660" y="3572"/>
                </a:cubicBezTo>
                <a:cubicBezTo>
                  <a:pt x="14642" y="3552"/>
                  <a:pt x="14594" y="3494"/>
                  <a:pt x="14560" y="3522"/>
                </a:cubicBezTo>
                <a:cubicBezTo>
                  <a:pt x="14478" y="3587"/>
                  <a:pt x="14439" y="3704"/>
                  <a:pt x="14387" y="3795"/>
                </a:cubicBezTo>
                <a:cubicBezTo>
                  <a:pt x="14344" y="3870"/>
                  <a:pt x="14362" y="3959"/>
                  <a:pt x="14362" y="4043"/>
                </a:cubicBezTo>
                <a:cubicBezTo>
                  <a:pt x="14420" y="4043"/>
                  <a:pt x="14468" y="4055"/>
                  <a:pt x="14511" y="4018"/>
                </a:cubicBezTo>
                <a:cubicBezTo>
                  <a:pt x="14552" y="3983"/>
                  <a:pt x="14621" y="3938"/>
                  <a:pt x="14635" y="3894"/>
                </a:cubicBezTo>
                <a:cubicBezTo>
                  <a:pt x="14649" y="3849"/>
                  <a:pt x="14653" y="3817"/>
                  <a:pt x="14660" y="3770"/>
                </a:cubicBezTo>
                <a:cubicBezTo>
                  <a:pt x="14648" y="3829"/>
                  <a:pt x="14618" y="3877"/>
                  <a:pt x="14635" y="3944"/>
                </a:cubicBezTo>
                <a:cubicBezTo>
                  <a:pt x="14643" y="3974"/>
                  <a:pt x="14669" y="4045"/>
                  <a:pt x="14684" y="4068"/>
                </a:cubicBezTo>
                <a:cubicBezTo>
                  <a:pt x="14707" y="4091"/>
                  <a:pt x="14711" y="4099"/>
                  <a:pt x="14734" y="4093"/>
                </a:cubicBezTo>
              </a:path>
              <a:path w="7070" h="1738">
                <a:moveTo>
                  <a:pt x="14858" y="4043"/>
                </a:moveTo>
                <a:cubicBezTo>
                  <a:pt x="14858" y="4168"/>
                  <a:pt x="14851" y="4274"/>
                  <a:pt x="14833" y="4390"/>
                </a:cubicBezTo>
                <a:cubicBezTo>
                  <a:pt x="14826" y="4431"/>
                  <a:pt x="14833" y="4507"/>
                  <a:pt x="14833" y="4465"/>
                </a:cubicBezTo>
              </a:path>
              <a:path w="7070" h="1738">
                <a:moveTo>
                  <a:pt x="14957" y="4118"/>
                </a:moveTo>
                <a:cubicBezTo>
                  <a:pt x="14920" y="4185"/>
                  <a:pt x="14827" y="4246"/>
                  <a:pt x="14858" y="4316"/>
                </a:cubicBezTo>
                <a:cubicBezTo>
                  <a:pt x="14887" y="4381"/>
                  <a:pt x="14949" y="4386"/>
                  <a:pt x="15007" y="4390"/>
                </a:cubicBezTo>
                <a:cubicBezTo>
                  <a:pt x="15064" y="4394"/>
                  <a:pt x="15123" y="4390"/>
                  <a:pt x="15180" y="4390"/>
                </a:cubicBezTo>
              </a:path>
              <a:path w="7070" h="1738">
                <a:moveTo>
                  <a:pt x="15304" y="4142"/>
                </a:moveTo>
                <a:cubicBezTo>
                  <a:pt x="15304" y="4231"/>
                  <a:pt x="15314" y="4294"/>
                  <a:pt x="15329" y="4366"/>
                </a:cubicBezTo>
                <a:cubicBezTo>
                  <a:pt x="15339" y="4416"/>
                  <a:pt x="15342" y="4459"/>
                  <a:pt x="15329" y="4465"/>
                </a:cubicBezTo>
              </a:path>
              <a:path w="7070" h="1738">
                <a:moveTo>
                  <a:pt x="15255" y="4266"/>
                </a:moveTo>
                <a:cubicBezTo>
                  <a:pt x="15321" y="4306"/>
                  <a:pt x="15353" y="4270"/>
                  <a:pt x="15429" y="4266"/>
                </a:cubicBezTo>
                <a:cubicBezTo>
                  <a:pt x="15489" y="4263"/>
                  <a:pt x="15577" y="4279"/>
                  <a:pt x="15627" y="4242"/>
                </a:cubicBezTo>
                <a:cubicBezTo>
                  <a:pt x="15644" y="4225"/>
                  <a:pt x="15660" y="4209"/>
                  <a:pt x="15677" y="4192"/>
                </a:cubicBezTo>
              </a:path>
              <a:path w="7070" h="1738">
                <a:moveTo>
                  <a:pt x="15701" y="4093"/>
                </a:moveTo>
                <a:cubicBezTo>
                  <a:pt x="15701" y="4217"/>
                  <a:pt x="15705" y="4325"/>
                  <a:pt x="15677" y="4440"/>
                </a:cubicBezTo>
                <a:cubicBezTo>
                  <a:pt x="15677" y="4465"/>
                  <a:pt x="15677" y="4473"/>
                  <a:pt x="15677" y="4490"/>
                </a:cubicBezTo>
                <a:cubicBezTo>
                  <a:pt x="15722" y="4474"/>
                  <a:pt x="15680" y="4455"/>
                  <a:pt x="15726" y="4440"/>
                </a:cubicBezTo>
              </a:path>
              <a:path w="7070" h="1738">
                <a:moveTo>
                  <a:pt x="15850" y="3522"/>
                </a:moveTo>
                <a:cubicBezTo>
                  <a:pt x="15928" y="3522"/>
                  <a:pt x="15963" y="3517"/>
                  <a:pt x="16024" y="3497"/>
                </a:cubicBezTo>
                <a:cubicBezTo>
                  <a:pt x="16049" y="3497"/>
                  <a:pt x="16057" y="3497"/>
                  <a:pt x="16073" y="3497"/>
                </a:cubicBezTo>
              </a:path>
              <a:path w="7070" h="1738">
                <a:moveTo>
                  <a:pt x="15801" y="3696"/>
                </a:moveTo>
                <a:cubicBezTo>
                  <a:pt x="15816" y="3756"/>
                  <a:pt x="15840" y="3746"/>
                  <a:pt x="15900" y="3746"/>
                </a:cubicBezTo>
                <a:cubicBezTo>
                  <a:pt x="15967" y="3746"/>
                  <a:pt x="15997" y="3739"/>
                  <a:pt x="16049" y="3721"/>
                </a:cubicBezTo>
                <a:cubicBezTo>
                  <a:pt x="16084" y="3709"/>
                  <a:pt x="16083" y="3708"/>
                  <a:pt x="16049" y="3696"/>
                </a:cubicBezTo>
              </a:path>
              <a:path w="7070" h="1738">
                <a:moveTo>
                  <a:pt x="16396" y="3125"/>
                </a:moveTo>
                <a:cubicBezTo>
                  <a:pt x="16505" y="3047"/>
                  <a:pt x="16560" y="3007"/>
                  <a:pt x="16694" y="3001"/>
                </a:cubicBezTo>
                <a:cubicBezTo>
                  <a:pt x="16751" y="2998"/>
                  <a:pt x="16805" y="2999"/>
                  <a:pt x="16842" y="3051"/>
                </a:cubicBezTo>
                <a:cubicBezTo>
                  <a:pt x="16914" y="3153"/>
                  <a:pt x="16833" y="3229"/>
                  <a:pt x="16793" y="3324"/>
                </a:cubicBezTo>
                <a:cubicBezTo>
                  <a:pt x="16744" y="3439"/>
                  <a:pt x="16698" y="3558"/>
                  <a:pt x="16644" y="3671"/>
                </a:cubicBezTo>
                <a:cubicBezTo>
                  <a:pt x="16626" y="3708"/>
                  <a:pt x="16588" y="3792"/>
                  <a:pt x="16644" y="3820"/>
                </a:cubicBezTo>
                <a:cubicBezTo>
                  <a:pt x="16701" y="3848"/>
                  <a:pt x="16715" y="3831"/>
                  <a:pt x="16768" y="3820"/>
                </a:cubicBezTo>
                <a:cubicBezTo>
                  <a:pt x="16827" y="3808"/>
                  <a:pt x="16860" y="3799"/>
                  <a:pt x="16917" y="3770"/>
                </a:cubicBezTo>
              </a:path>
              <a:path w="7070" h="1738">
                <a:moveTo>
                  <a:pt x="17289" y="3150"/>
                </a:moveTo>
                <a:cubicBezTo>
                  <a:pt x="17211" y="3290"/>
                  <a:pt x="17107" y="3440"/>
                  <a:pt x="17066" y="3597"/>
                </a:cubicBezTo>
                <a:cubicBezTo>
                  <a:pt x="17050" y="3658"/>
                  <a:pt x="16993" y="3814"/>
                  <a:pt x="17041" y="3870"/>
                </a:cubicBezTo>
                <a:cubicBezTo>
                  <a:pt x="17051" y="3881"/>
                  <a:pt x="17150" y="3870"/>
                  <a:pt x="17165" y="3870"/>
                </a:cubicBezTo>
              </a:path>
              <a:path w="7070" h="1738">
                <a:moveTo>
                  <a:pt x="17636" y="3299"/>
                </a:moveTo>
                <a:cubicBezTo>
                  <a:pt x="17514" y="3360"/>
                  <a:pt x="17478" y="3410"/>
                  <a:pt x="17413" y="3522"/>
                </a:cubicBezTo>
                <a:cubicBezTo>
                  <a:pt x="17378" y="3582"/>
                  <a:pt x="17322" y="3663"/>
                  <a:pt x="17363" y="3721"/>
                </a:cubicBezTo>
                <a:cubicBezTo>
                  <a:pt x="17408" y="3786"/>
                  <a:pt x="17413" y="3756"/>
                  <a:pt x="17462" y="3746"/>
                </a:cubicBezTo>
                <a:cubicBezTo>
                  <a:pt x="17538" y="3730"/>
                  <a:pt x="17598" y="3702"/>
                  <a:pt x="17636" y="3621"/>
                </a:cubicBezTo>
                <a:cubicBezTo>
                  <a:pt x="17654" y="3582"/>
                  <a:pt x="17661" y="3454"/>
                  <a:pt x="17661" y="3497"/>
                </a:cubicBezTo>
                <a:cubicBezTo>
                  <a:pt x="17661" y="3560"/>
                  <a:pt x="17636" y="3600"/>
                  <a:pt x="17636" y="3671"/>
                </a:cubicBezTo>
                <a:cubicBezTo>
                  <a:pt x="17636" y="3732"/>
                  <a:pt x="17670" y="3773"/>
                  <a:pt x="17711" y="3820"/>
                </a:cubicBezTo>
                <a:cubicBezTo>
                  <a:pt x="17745" y="3858"/>
                  <a:pt x="17788" y="3845"/>
                  <a:pt x="17835" y="3845"/>
                </a:cubicBezTo>
              </a:path>
              <a:path w="7070" h="1738">
                <a:moveTo>
                  <a:pt x="17959" y="3696"/>
                </a:moveTo>
                <a:cubicBezTo>
                  <a:pt x="17947" y="3823"/>
                  <a:pt x="17852" y="3954"/>
                  <a:pt x="17909" y="4068"/>
                </a:cubicBezTo>
                <a:cubicBezTo>
                  <a:pt x="17926" y="4102"/>
                  <a:pt x="17959" y="3996"/>
                  <a:pt x="17959" y="3994"/>
                </a:cubicBezTo>
              </a:path>
              <a:path w="7070" h="1738">
                <a:moveTo>
                  <a:pt x="18107" y="3746"/>
                </a:moveTo>
                <a:cubicBezTo>
                  <a:pt x="18087" y="3775"/>
                  <a:pt x="18016" y="3857"/>
                  <a:pt x="18008" y="3894"/>
                </a:cubicBezTo>
                <a:cubicBezTo>
                  <a:pt x="17993" y="3963"/>
                  <a:pt x="18050" y="3988"/>
                  <a:pt x="18107" y="4018"/>
                </a:cubicBezTo>
                <a:cubicBezTo>
                  <a:pt x="18148" y="4040"/>
                  <a:pt x="18202" y="4031"/>
                  <a:pt x="18231" y="4068"/>
                </a:cubicBezTo>
                <a:cubicBezTo>
                  <a:pt x="18231" y="4076"/>
                  <a:pt x="18231" y="4085"/>
                  <a:pt x="18231" y="4093"/>
                </a:cubicBezTo>
              </a:path>
              <a:path w="7070" h="1738">
                <a:moveTo>
                  <a:pt x="18306" y="3547"/>
                </a:moveTo>
                <a:cubicBezTo>
                  <a:pt x="18366" y="3553"/>
                  <a:pt x="18468" y="3595"/>
                  <a:pt x="18529" y="3572"/>
                </a:cubicBezTo>
                <a:cubicBezTo>
                  <a:pt x="18572" y="3555"/>
                  <a:pt x="18635" y="3565"/>
                  <a:pt x="18678" y="3547"/>
                </a:cubicBezTo>
                <a:cubicBezTo>
                  <a:pt x="18703" y="3522"/>
                  <a:pt x="18711" y="3514"/>
                  <a:pt x="18728" y="3497"/>
                </a:cubicBezTo>
              </a:path>
              <a:path w="7070" h="1738">
                <a:moveTo>
                  <a:pt x="18901" y="3051"/>
                </a:moveTo>
                <a:cubicBezTo>
                  <a:pt x="18890" y="3209"/>
                  <a:pt x="18879" y="3400"/>
                  <a:pt x="18852" y="3547"/>
                </a:cubicBezTo>
                <a:cubicBezTo>
                  <a:pt x="18850" y="3560"/>
                  <a:pt x="18852" y="3714"/>
                  <a:pt x="18852" y="3646"/>
                </a:cubicBezTo>
                <a:cubicBezTo>
                  <a:pt x="18852" y="3638"/>
                  <a:pt x="18852" y="3629"/>
                  <a:pt x="18852" y="3621"/>
                </a:cubicBezTo>
              </a:path>
              <a:path w="7070" h="1738">
                <a:moveTo>
                  <a:pt x="19273" y="2753"/>
                </a:moveTo>
                <a:cubicBezTo>
                  <a:pt x="19352" y="2910"/>
                  <a:pt x="19425" y="3070"/>
                  <a:pt x="19447" y="3249"/>
                </a:cubicBezTo>
                <a:cubicBezTo>
                  <a:pt x="19461" y="3362"/>
                  <a:pt x="19451" y="3488"/>
                  <a:pt x="19422" y="3597"/>
                </a:cubicBezTo>
                <a:cubicBezTo>
                  <a:pt x="19405" y="3661"/>
                  <a:pt x="19352" y="3807"/>
                  <a:pt x="19298" y="3845"/>
                </a:cubicBezTo>
                <a:cubicBezTo>
                  <a:pt x="19273" y="3853"/>
                  <a:pt x="19249" y="3862"/>
                  <a:pt x="19224" y="38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1080" y="2340000"/>
            <a:ext cx="1224000" cy="455760"/>
          </a:xfrm>
          <a:custGeom>
            <a:avLst/>
            <a:gdLst/>
            <a:ahLst/>
            <a:rect l="l" t="t" r="r" b="b"/>
            <a:pathLst>
              <a:path w="3400" h="1266">
                <a:moveTo>
                  <a:pt x="3572" y="7169"/>
                </a:moveTo>
                <a:cubicBezTo>
                  <a:pt x="3572" y="7213"/>
                  <a:pt x="3569" y="7227"/>
                  <a:pt x="3597" y="7243"/>
                </a:cubicBezTo>
                <a:cubicBezTo>
                  <a:pt x="3597" y="7188"/>
                  <a:pt x="3585" y="7173"/>
                  <a:pt x="3572" y="7119"/>
                </a:cubicBezTo>
                <a:cubicBezTo>
                  <a:pt x="3555" y="7052"/>
                  <a:pt x="3527" y="6985"/>
                  <a:pt x="3497" y="6921"/>
                </a:cubicBezTo>
                <a:cubicBezTo>
                  <a:pt x="3465" y="6852"/>
                  <a:pt x="3444" y="6783"/>
                  <a:pt x="3398" y="6722"/>
                </a:cubicBezTo>
                <a:cubicBezTo>
                  <a:pt x="3363" y="6675"/>
                  <a:pt x="3286" y="6689"/>
                  <a:pt x="3249" y="6722"/>
                </a:cubicBezTo>
                <a:cubicBezTo>
                  <a:pt x="3161" y="6799"/>
                  <a:pt x="3088" y="6992"/>
                  <a:pt x="3051" y="7094"/>
                </a:cubicBezTo>
                <a:cubicBezTo>
                  <a:pt x="3009" y="7210"/>
                  <a:pt x="3016" y="7330"/>
                  <a:pt x="3026" y="7441"/>
                </a:cubicBezTo>
                <a:cubicBezTo>
                  <a:pt x="3032" y="7503"/>
                  <a:pt x="3034" y="7499"/>
                  <a:pt x="3076" y="7541"/>
                </a:cubicBezTo>
                <a:cubicBezTo>
                  <a:pt x="3120" y="7530"/>
                  <a:pt x="3184" y="7495"/>
                  <a:pt x="3225" y="7466"/>
                </a:cubicBezTo>
                <a:cubicBezTo>
                  <a:pt x="3269" y="7435"/>
                  <a:pt x="3321" y="7320"/>
                  <a:pt x="3349" y="7268"/>
                </a:cubicBezTo>
                <a:cubicBezTo>
                  <a:pt x="3380" y="7211"/>
                  <a:pt x="3362" y="7167"/>
                  <a:pt x="3398" y="7119"/>
                </a:cubicBezTo>
                <a:cubicBezTo>
                  <a:pt x="3398" y="7167"/>
                  <a:pt x="3408" y="7225"/>
                  <a:pt x="3423" y="7268"/>
                </a:cubicBezTo>
                <a:cubicBezTo>
                  <a:pt x="3446" y="7337"/>
                  <a:pt x="3463" y="7398"/>
                  <a:pt x="3497" y="7466"/>
                </a:cubicBezTo>
                <a:cubicBezTo>
                  <a:pt x="3527" y="7526"/>
                  <a:pt x="3551" y="7558"/>
                  <a:pt x="3621" y="7565"/>
                </a:cubicBezTo>
                <a:cubicBezTo>
                  <a:pt x="3629" y="7565"/>
                  <a:pt x="3638" y="7565"/>
                  <a:pt x="3646" y="7565"/>
                </a:cubicBezTo>
              </a:path>
              <a:path w="3400" h="1266">
                <a:moveTo>
                  <a:pt x="3870" y="7516"/>
                </a:moveTo>
                <a:cubicBezTo>
                  <a:pt x="3865" y="7589"/>
                  <a:pt x="3845" y="7645"/>
                  <a:pt x="3845" y="7714"/>
                </a:cubicBezTo>
                <a:cubicBezTo>
                  <a:pt x="3845" y="7739"/>
                  <a:pt x="3845" y="7747"/>
                  <a:pt x="3845" y="7764"/>
                </a:cubicBezTo>
                <a:cubicBezTo>
                  <a:pt x="3888" y="7753"/>
                  <a:pt x="3910" y="7723"/>
                  <a:pt x="3944" y="7689"/>
                </a:cubicBezTo>
              </a:path>
              <a:path w="3400" h="1266">
                <a:moveTo>
                  <a:pt x="4192" y="6945"/>
                </a:moveTo>
                <a:cubicBezTo>
                  <a:pt x="4258" y="6945"/>
                  <a:pt x="4324" y="6945"/>
                  <a:pt x="4390" y="6945"/>
                </a:cubicBezTo>
              </a:path>
              <a:path w="3400" h="1266">
                <a:moveTo>
                  <a:pt x="4266" y="7268"/>
                </a:moveTo>
                <a:cubicBezTo>
                  <a:pt x="4362" y="7304"/>
                  <a:pt x="4437" y="7277"/>
                  <a:pt x="4539" y="7243"/>
                </a:cubicBezTo>
                <a:cubicBezTo>
                  <a:pt x="4599" y="7213"/>
                  <a:pt x="4625" y="7199"/>
                  <a:pt x="4663" y="7169"/>
                </a:cubicBezTo>
              </a:path>
              <a:path w="3400" h="1266">
                <a:moveTo>
                  <a:pt x="5035" y="6697"/>
                </a:moveTo>
                <a:cubicBezTo>
                  <a:pt x="5073" y="6664"/>
                  <a:pt x="5158" y="6583"/>
                  <a:pt x="5209" y="6573"/>
                </a:cubicBezTo>
                <a:cubicBezTo>
                  <a:pt x="5255" y="6564"/>
                  <a:pt x="5342" y="6591"/>
                  <a:pt x="5358" y="6648"/>
                </a:cubicBezTo>
                <a:cubicBezTo>
                  <a:pt x="5372" y="6696"/>
                  <a:pt x="5361" y="6783"/>
                  <a:pt x="5333" y="6821"/>
                </a:cubicBezTo>
                <a:cubicBezTo>
                  <a:pt x="5274" y="6903"/>
                  <a:pt x="5220" y="6967"/>
                  <a:pt x="5159" y="7045"/>
                </a:cubicBezTo>
                <a:cubicBezTo>
                  <a:pt x="5104" y="7115"/>
                  <a:pt x="4983" y="7219"/>
                  <a:pt x="4961" y="7317"/>
                </a:cubicBezTo>
                <a:cubicBezTo>
                  <a:pt x="4947" y="7379"/>
                  <a:pt x="4970" y="7426"/>
                  <a:pt x="5035" y="7441"/>
                </a:cubicBezTo>
                <a:cubicBezTo>
                  <a:pt x="5113" y="7459"/>
                  <a:pt x="5212" y="7392"/>
                  <a:pt x="5283" y="7367"/>
                </a:cubicBezTo>
                <a:cubicBezTo>
                  <a:pt x="5308" y="7359"/>
                  <a:pt x="5333" y="7350"/>
                  <a:pt x="5358" y="7342"/>
                </a:cubicBezTo>
              </a:path>
              <a:path w="3400" h="1266">
                <a:moveTo>
                  <a:pt x="5904" y="6548"/>
                </a:moveTo>
                <a:cubicBezTo>
                  <a:pt x="5813" y="6658"/>
                  <a:pt x="5770" y="6702"/>
                  <a:pt x="5730" y="6821"/>
                </a:cubicBezTo>
                <a:cubicBezTo>
                  <a:pt x="5715" y="6867"/>
                  <a:pt x="5708" y="6950"/>
                  <a:pt x="5779" y="6970"/>
                </a:cubicBezTo>
                <a:cubicBezTo>
                  <a:pt x="5844" y="6989"/>
                  <a:pt x="5944" y="6967"/>
                  <a:pt x="6003" y="6945"/>
                </a:cubicBezTo>
                <a:cubicBezTo>
                  <a:pt x="6099" y="6909"/>
                  <a:pt x="6136" y="6831"/>
                  <a:pt x="6176" y="6747"/>
                </a:cubicBezTo>
                <a:cubicBezTo>
                  <a:pt x="6217" y="6661"/>
                  <a:pt x="6213" y="6629"/>
                  <a:pt x="6152" y="6573"/>
                </a:cubicBezTo>
                <a:cubicBezTo>
                  <a:pt x="6102" y="6527"/>
                  <a:pt x="6025" y="6481"/>
                  <a:pt x="5953" y="6499"/>
                </a:cubicBezTo>
                <a:cubicBezTo>
                  <a:pt x="5906" y="6511"/>
                  <a:pt x="5872" y="6541"/>
                  <a:pt x="5829" y="6573"/>
                </a:cubicBezTo>
              </a:path>
              <a:path w="3400" h="1266">
                <a:moveTo>
                  <a:pt x="5904" y="6945"/>
                </a:moveTo>
                <a:cubicBezTo>
                  <a:pt x="5861" y="6992"/>
                  <a:pt x="5674" y="7161"/>
                  <a:pt x="5680" y="7268"/>
                </a:cubicBezTo>
                <a:cubicBezTo>
                  <a:pt x="5684" y="7340"/>
                  <a:pt x="5779" y="7374"/>
                  <a:pt x="5829" y="7392"/>
                </a:cubicBezTo>
                <a:cubicBezTo>
                  <a:pt x="5941" y="7432"/>
                  <a:pt x="6040" y="7419"/>
                  <a:pt x="6152" y="7392"/>
                </a:cubicBezTo>
                <a:cubicBezTo>
                  <a:pt x="6263" y="7365"/>
                  <a:pt x="6308" y="7323"/>
                  <a:pt x="6375" y="7243"/>
                </a:cubicBezTo>
                <a:cubicBezTo>
                  <a:pt x="6436" y="7170"/>
                  <a:pt x="6380" y="7140"/>
                  <a:pt x="6325" y="7094"/>
                </a:cubicBezTo>
                <a:cubicBezTo>
                  <a:pt x="6237" y="7020"/>
                  <a:pt x="6158" y="7020"/>
                  <a:pt x="6052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3080" y="2911320"/>
            <a:ext cx="581040" cy="36684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3076" y="8285"/>
                </a:moveTo>
                <a:cubicBezTo>
                  <a:pt x="3112" y="8375"/>
                  <a:pt x="3092" y="8417"/>
                  <a:pt x="3150" y="8409"/>
                </a:cubicBezTo>
                <a:cubicBezTo>
                  <a:pt x="3150" y="8344"/>
                  <a:pt x="3140" y="8320"/>
                  <a:pt x="3125" y="8260"/>
                </a:cubicBezTo>
                <a:cubicBezTo>
                  <a:pt x="3111" y="8203"/>
                  <a:pt x="3092" y="8156"/>
                  <a:pt x="3051" y="8111"/>
                </a:cubicBezTo>
                <a:cubicBezTo>
                  <a:pt x="3043" y="8103"/>
                  <a:pt x="3034" y="8094"/>
                  <a:pt x="3026" y="8086"/>
                </a:cubicBezTo>
                <a:cubicBezTo>
                  <a:pt x="2948" y="8086"/>
                  <a:pt x="2947" y="8132"/>
                  <a:pt x="2902" y="8186"/>
                </a:cubicBezTo>
                <a:cubicBezTo>
                  <a:pt x="2838" y="8263"/>
                  <a:pt x="2783" y="8360"/>
                  <a:pt x="2753" y="8458"/>
                </a:cubicBezTo>
                <a:cubicBezTo>
                  <a:pt x="2727" y="8543"/>
                  <a:pt x="2680" y="8665"/>
                  <a:pt x="2704" y="8756"/>
                </a:cubicBezTo>
                <a:cubicBezTo>
                  <a:pt x="2732" y="8862"/>
                  <a:pt x="2786" y="8819"/>
                  <a:pt x="2853" y="8781"/>
                </a:cubicBezTo>
                <a:cubicBezTo>
                  <a:pt x="2945" y="8729"/>
                  <a:pt x="2964" y="8660"/>
                  <a:pt x="3026" y="8582"/>
                </a:cubicBezTo>
                <a:cubicBezTo>
                  <a:pt x="3066" y="8531"/>
                  <a:pt x="3126" y="8470"/>
                  <a:pt x="3150" y="8409"/>
                </a:cubicBezTo>
                <a:cubicBezTo>
                  <a:pt x="3150" y="8401"/>
                  <a:pt x="3150" y="8392"/>
                  <a:pt x="3150" y="8384"/>
                </a:cubicBezTo>
                <a:cubicBezTo>
                  <a:pt x="3150" y="8446"/>
                  <a:pt x="3129" y="8463"/>
                  <a:pt x="3125" y="8533"/>
                </a:cubicBezTo>
                <a:cubicBezTo>
                  <a:pt x="3121" y="8619"/>
                  <a:pt x="3117" y="8674"/>
                  <a:pt x="3125" y="8756"/>
                </a:cubicBezTo>
                <a:cubicBezTo>
                  <a:pt x="3131" y="8818"/>
                  <a:pt x="3156" y="8856"/>
                  <a:pt x="3200" y="8905"/>
                </a:cubicBezTo>
                <a:cubicBezTo>
                  <a:pt x="3231" y="8940"/>
                  <a:pt x="3256" y="8930"/>
                  <a:pt x="3299" y="8930"/>
                </a:cubicBezTo>
              </a:path>
              <a:path w="1613" h="1018">
                <a:moveTo>
                  <a:pt x="3522" y="8682"/>
                </a:moveTo>
                <a:cubicBezTo>
                  <a:pt x="3582" y="8751"/>
                  <a:pt x="3586" y="8767"/>
                  <a:pt x="3547" y="8855"/>
                </a:cubicBezTo>
                <a:cubicBezTo>
                  <a:pt x="3516" y="8924"/>
                  <a:pt x="3447" y="8957"/>
                  <a:pt x="3423" y="9029"/>
                </a:cubicBezTo>
                <a:cubicBezTo>
                  <a:pt x="3407" y="9078"/>
                  <a:pt x="3448" y="9112"/>
                  <a:pt x="3497" y="9103"/>
                </a:cubicBezTo>
                <a:cubicBezTo>
                  <a:pt x="3565" y="9090"/>
                  <a:pt x="3629" y="9072"/>
                  <a:pt x="3696" y="9054"/>
                </a:cubicBezTo>
              </a:path>
              <a:path w="1613" h="1018">
                <a:moveTo>
                  <a:pt x="3994" y="8483"/>
                </a:moveTo>
                <a:cubicBezTo>
                  <a:pt x="4051" y="8467"/>
                  <a:pt x="4111" y="8445"/>
                  <a:pt x="4167" y="8434"/>
                </a:cubicBezTo>
              </a:path>
              <a:path w="1613" h="1018">
                <a:moveTo>
                  <a:pt x="4043" y="8706"/>
                </a:moveTo>
                <a:cubicBezTo>
                  <a:pt x="4090" y="8741"/>
                  <a:pt x="4130" y="8731"/>
                  <a:pt x="4192" y="8731"/>
                </a:cubicBezTo>
                <a:cubicBezTo>
                  <a:pt x="4233" y="8731"/>
                  <a:pt x="4275" y="8731"/>
                  <a:pt x="4316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5320" y="2840040"/>
            <a:ext cx="446400" cy="374760"/>
          </a:xfrm>
          <a:custGeom>
            <a:avLst/>
            <a:gdLst/>
            <a:ahLst/>
            <a:rect l="l" t="t" r="r" b="b"/>
            <a:pathLst>
              <a:path w="1241" h="1043">
                <a:moveTo>
                  <a:pt x="5085" y="8086"/>
                </a:moveTo>
                <a:cubicBezTo>
                  <a:pt x="5110" y="8038"/>
                  <a:pt x="5155" y="8037"/>
                  <a:pt x="5209" y="8012"/>
                </a:cubicBezTo>
                <a:cubicBezTo>
                  <a:pt x="5268" y="7984"/>
                  <a:pt x="5311" y="7996"/>
                  <a:pt x="5358" y="8037"/>
                </a:cubicBezTo>
                <a:cubicBezTo>
                  <a:pt x="5407" y="8080"/>
                  <a:pt x="5321" y="8213"/>
                  <a:pt x="5283" y="8260"/>
                </a:cubicBezTo>
                <a:cubicBezTo>
                  <a:pt x="5216" y="8344"/>
                  <a:pt x="5134" y="8429"/>
                  <a:pt x="5060" y="8508"/>
                </a:cubicBezTo>
                <a:cubicBezTo>
                  <a:pt x="4993" y="8580"/>
                  <a:pt x="4986" y="8610"/>
                  <a:pt x="4986" y="8706"/>
                </a:cubicBezTo>
                <a:cubicBezTo>
                  <a:pt x="4986" y="8760"/>
                  <a:pt x="5067" y="8779"/>
                  <a:pt x="5110" y="8781"/>
                </a:cubicBezTo>
                <a:cubicBezTo>
                  <a:pt x="5200" y="8785"/>
                  <a:pt x="5304" y="8748"/>
                  <a:pt x="5383" y="8706"/>
                </a:cubicBezTo>
                <a:cubicBezTo>
                  <a:pt x="5453" y="8668"/>
                  <a:pt x="5501" y="8613"/>
                  <a:pt x="5556" y="8558"/>
                </a:cubicBezTo>
              </a:path>
              <a:path w="1241" h="1043">
                <a:moveTo>
                  <a:pt x="5755" y="8037"/>
                </a:moveTo>
                <a:cubicBezTo>
                  <a:pt x="5715" y="8151"/>
                  <a:pt x="5680" y="8219"/>
                  <a:pt x="5680" y="8334"/>
                </a:cubicBezTo>
                <a:cubicBezTo>
                  <a:pt x="5680" y="8401"/>
                  <a:pt x="5708" y="8429"/>
                  <a:pt x="5779" y="8434"/>
                </a:cubicBezTo>
                <a:cubicBezTo>
                  <a:pt x="5867" y="8440"/>
                  <a:pt x="5926" y="8438"/>
                  <a:pt x="6003" y="8384"/>
                </a:cubicBezTo>
                <a:cubicBezTo>
                  <a:pt x="6019" y="8367"/>
                  <a:pt x="6036" y="8351"/>
                  <a:pt x="6052" y="8334"/>
                </a:cubicBezTo>
              </a:path>
              <a:path w="1241" h="1043">
                <a:moveTo>
                  <a:pt x="6226" y="7888"/>
                </a:moveTo>
                <a:cubicBezTo>
                  <a:pt x="6181" y="8010"/>
                  <a:pt x="6117" y="8128"/>
                  <a:pt x="6102" y="8260"/>
                </a:cubicBezTo>
                <a:cubicBezTo>
                  <a:pt x="6090" y="8371"/>
                  <a:pt x="6094" y="8480"/>
                  <a:pt x="6102" y="8582"/>
                </a:cubicBezTo>
                <a:cubicBezTo>
                  <a:pt x="6112" y="8714"/>
                  <a:pt x="6125" y="8793"/>
                  <a:pt x="6102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28800" y="3473280"/>
            <a:ext cx="598320" cy="349560"/>
          </a:xfrm>
          <a:custGeom>
            <a:avLst/>
            <a:gdLst/>
            <a:ahLst/>
            <a:rect l="l" t="t" r="r" b="b"/>
            <a:pathLst>
              <a:path w="1663" h="968">
                <a:moveTo>
                  <a:pt x="3150" y="9823"/>
                </a:moveTo>
                <a:cubicBezTo>
                  <a:pt x="3119" y="9815"/>
                  <a:pt x="3071" y="9773"/>
                  <a:pt x="3051" y="9748"/>
                </a:cubicBezTo>
                <a:cubicBezTo>
                  <a:pt x="3001" y="9686"/>
                  <a:pt x="3012" y="9656"/>
                  <a:pt x="2927" y="9649"/>
                </a:cubicBezTo>
                <a:cubicBezTo>
                  <a:pt x="2862" y="9644"/>
                  <a:pt x="2796" y="9675"/>
                  <a:pt x="2753" y="9723"/>
                </a:cubicBezTo>
                <a:cubicBezTo>
                  <a:pt x="2678" y="9807"/>
                  <a:pt x="2638" y="9943"/>
                  <a:pt x="2604" y="10046"/>
                </a:cubicBezTo>
                <a:cubicBezTo>
                  <a:pt x="2575" y="10134"/>
                  <a:pt x="2559" y="10233"/>
                  <a:pt x="2604" y="10319"/>
                </a:cubicBezTo>
                <a:cubicBezTo>
                  <a:pt x="2624" y="10357"/>
                  <a:pt x="2669" y="10344"/>
                  <a:pt x="2704" y="10344"/>
                </a:cubicBezTo>
                <a:cubicBezTo>
                  <a:pt x="2793" y="10344"/>
                  <a:pt x="2785" y="10276"/>
                  <a:pt x="2828" y="10220"/>
                </a:cubicBezTo>
                <a:cubicBezTo>
                  <a:pt x="2880" y="10153"/>
                  <a:pt x="2933" y="10083"/>
                  <a:pt x="2952" y="9996"/>
                </a:cubicBezTo>
                <a:cubicBezTo>
                  <a:pt x="2952" y="9952"/>
                  <a:pt x="2949" y="9938"/>
                  <a:pt x="2977" y="9922"/>
                </a:cubicBezTo>
                <a:cubicBezTo>
                  <a:pt x="2977" y="9988"/>
                  <a:pt x="2946" y="10092"/>
                  <a:pt x="2952" y="10145"/>
                </a:cubicBezTo>
                <a:cubicBezTo>
                  <a:pt x="2956" y="10180"/>
                  <a:pt x="2973" y="10297"/>
                  <a:pt x="3001" y="10319"/>
                </a:cubicBezTo>
                <a:cubicBezTo>
                  <a:pt x="3027" y="10339"/>
                  <a:pt x="3095" y="10404"/>
                  <a:pt x="3125" y="10418"/>
                </a:cubicBezTo>
                <a:cubicBezTo>
                  <a:pt x="3150" y="10418"/>
                  <a:pt x="3158" y="10418"/>
                  <a:pt x="3175" y="10418"/>
                </a:cubicBezTo>
              </a:path>
              <a:path w="1663" h="968">
                <a:moveTo>
                  <a:pt x="3398" y="10195"/>
                </a:moveTo>
                <a:cubicBezTo>
                  <a:pt x="3410" y="10193"/>
                  <a:pt x="3577" y="10146"/>
                  <a:pt x="3522" y="10244"/>
                </a:cubicBezTo>
                <a:cubicBezTo>
                  <a:pt x="3489" y="10277"/>
                  <a:pt x="3472" y="10294"/>
                  <a:pt x="3448" y="10319"/>
                </a:cubicBezTo>
                <a:cubicBezTo>
                  <a:pt x="3478" y="10341"/>
                  <a:pt x="3529" y="10354"/>
                  <a:pt x="3547" y="10393"/>
                </a:cubicBezTo>
                <a:cubicBezTo>
                  <a:pt x="3578" y="10458"/>
                  <a:pt x="3587" y="10520"/>
                  <a:pt x="3522" y="10567"/>
                </a:cubicBezTo>
                <a:cubicBezTo>
                  <a:pt x="3498" y="10584"/>
                  <a:pt x="3411" y="10630"/>
                  <a:pt x="3398" y="10592"/>
                </a:cubicBezTo>
                <a:cubicBezTo>
                  <a:pt x="3398" y="10575"/>
                  <a:pt x="3398" y="10559"/>
                  <a:pt x="3398" y="10542"/>
                </a:cubicBezTo>
              </a:path>
              <a:path w="1663" h="968">
                <a:moveTo>
                  <a:pt x="3944" y="9996"/>
                </a:moveTo>
                <a:cubicBezTo>
                  <a:pt x="3985" y="9988"/>
                  <a:pt x="4027" y="9979"/>
                  <a:pt x="4068" y="9971"/>
                </a:cubicBezTo>
              </a:path>
              <a:path w="1663" h="968">
                <a:moveTo>
                  <a:pt x="4043" y="10170"/>
                </a:moveTo>
                <a:cubicBezTo>
                  <a:pt x="4129" y="10170"/>
                  <a:pt x="4162" y="10132"/>
                  <a:pt x="4242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41320" y="3456000"/>
            <a:ext cx="527040" cy="312840"/>
          </a:xfrm>
          <a:custGeom>
            <a:avLst/>
            <a:gdLst/>
            <a:ahLst/>
            <a:rect l="l" t="t" r="r" b="b"/>
            <a:pathLst>
              <a:path w="1464" h="870">
                <a:moveTo>
                  <a:pt x="4837" y="9674"/>
                </a:moveTo>
                <a:cubicBezTo>
                  <a:pt x="4901" y="9651"/>
                  <a:pt x="5017" y="9592"/>
                  <a:pt x="5085" y="9599"/>
                </a:cubicBezTo>
                <a:cubicBezTo>
                  <a:pt x="5120" y="9602"/>
                  <a:pt x="5271" y="9671"/>
                  <a:pt x="5283" y="9699"/>
                </a:cubicBezTo>
                <a:cubicBezTo>
                  <a:pt x="5322" y="9790"/>
                  <a:pt x="5265" y="9903"/>
                  <a:pt x="5209" y="9971"/>
                </a:cubicBezTo>
                <a:cubicBezTo>
                  <a:pt x="5151" y="10042"/>
                  <a:pt x="5076" y="10105"/>
                  <a:pt x="5011" y="10170"/>
                </a:cubicBezTo>
                <a:cubicBezTo>
                  <a:pt x="4957" y="10224"/>
                  <a:pt x="4895" y="10264"/>
                  <a:pt x="4887" y="10344"/>
                </a:cubicBezTo>
                <a:cubicBezTo>
                  <a:pt x="4880" y="10419"/>
                  <a:pt x="4949" y="10434"/>
                  <a:pt x="5011" y="10443"/>
                </a:cubicBezTo>
                <a:cubicBezTo>
                  <a:pt x="5104" y="10457"/>
                  <a:pt x="5195" y="10417"/>
                  <a:pt x="5283" y="10393"/>
                </a:cubicBezTo>
              </a:path>
              <a:path w="1464" h="870">
                <a:moveTo>
                  <a:pt x="5829" y="9699"/>
                </a:moveTo>
                <a:cubicBezTo>
                  <a:pt x="5779" y="9825"/>
                  <a:pt x="5701" y="9981"/>
                  <a:pt x="5680" y="10120"/>
                </a:cubicBezTo>
                <a:cubicBezTo>
                  <a:pt x="5661" y="10247"/>
                  <a:pt x="5669" y="10317"/>
                  <a:pt x="5755" y="10393"/>
                </a:cubicBezTo>
                <a:cubicBezTo>
                  <a:pt x="5839" y="10467"/>
                  <a:pt x="5866" y="10468"/>
                  <a:pt x="5978" y="10468"/>
                </a:cubicBezTo>
                <a:cubicBezTo>
                  <a:pt x="6089" y="10468"/>
                  <a:pt x="6171" y="10421"/>
                  <a:pt x="6226" y="10319"/>
                </a:cubicBezTo>
                <a:cubicBezTo>
                  <a:pt x="6277" y="10225"/>
                  <a:pt x="6301" y="10119"/>
                  <a:pt x="6276" y="10021"/>
                </a:cubicBezTo>
                <a:cubicBezTo>
                  <a:pt x="6246" y="9906"/>
                  <a:pt x="6162" y="9818"/>
                  <a:pt x="6052" y="9773"/>
                </a:cubicBezTo>
                <a:cubicBezTo>
                  <a:pt x="5957" y="9734"/>
                  <a:pt x="5854" y="9748"/>
                  <a:pt x="5755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880" y="4010040"/>
            <a:ext cx="677880" cy="438120"/>
          </a:xfrm>
          <a:custGeom>
            <a:avLst/>
            <a:gdLst/>
            <a:ahLst/>
            <a:rect l="l" t="t" r="r" b="b"/>
            <a:pathLst>
              <a:path w="1886" h="1217">
                <a:moveTo>
                  <a:pt x="3051" y="11311"/>
                </a:moveTo>
                <a:cubicBezTo>
                  <a:pt x="3034" y="11344"/>
                  <a:pt x="3014" y="11298"/>
                  <a:pt x="3001" y="11261"/>
                </a:cubicBezTo>
                <a:cubicBezTo>
                  <a:pt x="2987" y="11219"/>
                  <a:pt x="2961" y="11196"/>
                  <a:pt x="2927" y="11162"/>
                </a:cubicBezTo>
                <a:cubicBezTo>
                  <a:pt x="2901" y="11136"/>
                  <a:pt x="2841" y="11121"/>
                  <a:pt x="2803" y="11137"/>
                </a:cubicBezTo>
                <a:cubicBezTo>
                  <a:pt x="2743" y="11162"/>
                  <a:pt x="2669" y="11235"/>
                  <a:pt x="2629" y="11286"/>
                </a:cubicBezTo>
                <a:cubicBezTo>
                  <a:pt x="2550" y="11387"/>
                  <a:pt x="2515" y="11500"/>
                  <a:pt x="2456" y="11609"/>
                </a:cubicBezTo>
                <a:cubicBezTo>
                  <a:pt x="2406" y="11702"/>
                  <a:pt x="2361" y="11798"/>
                  <a:pt x="2456" y="11881"/>
                </a:cubicBezTo>
                <a:cubicBezTo>
                  <a:pt x="2509" y="11928"/>
                  <a:pt x="2574" y="11905"/>
                  <a:pt x="2629" y="11881"/>
                </a:cubicBezTo>
                <a:cubicBezTo>
                  <a:pt x="2708" y="11846"/>
                  <a:pt x="2755" y="11805"/>
                  <a:pt x="2803" y="11733"/>
                </a:cubicBezTo>
                <a:cubicBezTo>
                  <a:pt x="2840" y="11678"/>
                  <a:pt x="2867" y="11597"/>
                  <a:pt x="2877" y="11534"/>
                </a:cubicBezTo>
                <a:cubicBezTo>
                  <a:pt x="2877" y="11493"/>
                  <a:pt x="2877" y="11485"/>
                  <a:pt x="2877" y="11460"/>
                </a:cubicBezTo>
                <a:cubicBezTo>
                  <a:pt x="2923" y="11475"/>
                  <a:pt x="2902" y="11554"/>
                  <a:pt x="2902" y="11609"/>
                </a:cubicBezTo>
                <a:cubicBezTo>
                  <a:pt x="2902" y="11690"/>
                  <a:pt x="2915" y="11757"/>
                  <a:pt x="2927" y="11832"/>
                </a:cubicBezTo>
                <a:cubicBezTo>
                  <a:pt x="2936" y="11888"/>
                  <a:pt x="2909" y="11950"/>
                  <a:pt x="2977" y="11981"/>
                </a:cubicBezTo>
                <a:cubicBezTo>
                  <a:pt x="2985" y="11981"/>
                  <a:pt x="2993" y="11981"/>
                  <a:pt x="3001" y="11981"/>
                </a:cubicBezTo>
              </a:path>
              <a:path w="1886" h="1217">
                <a:moveTo>
                  <a:pt x="3200" y="11757"/>
                </a:moveTo>
                <a:cubicBezTo>
                  <a:pt x="3200" y="11831"/>
                  <a:pt x="3182" y="11871"/>
                  <a:pt x="3175" y="11931"/>
                </a:cubicBezTo>
                <a:cubicBezTo>
                  <a:pt x="3168" y="11991"/>
                  <a:pt x="3232" y="12002"/>
                  <a:pt x="3274" y="12005"/>
                </a:cubicBezTo>
                <a:cubicBezTo>
                  <a:pt x="3307" y="12005"/>
                  <a:pt x="3324" y="12005"/>
                  <a:pt x="3349" y="12005"/>
                </a:cubicBezTo>
              </a:path>
              <a:path w="1886" h="1217">
                <a:moveTo>
                  <a:pt x="3547" y="11733"/>
                </a:moveTo>
                <a:cubicBezTo>
                  <a:pt x="3532" y="11866"/>
                  <a:pt x="3522" y="11975"/>
                  <a:pt x="3522" y="12105"/>
                </a:cubicBezTo>
                <a:cubicBezTo>
                  <a:pt x="3522" y="12191"/>
                  <a:pt x="3554" y="12249"/>
                  <a:pt x="3572" y="12328"/>
                </a:cubicBezTo>
                <a:cubicBezTo>
                  <a:pt x="3581" y="12365"/>
                  <a:pt x="3620" y="12366"/>
                  <a:pt x="3646" y="12328"/>
                </a:cubicBezTo>
                <a:cubicBezTo>
                  <a:pt x="3654" y="12311"/>
                  <a:pt x="3663" y="12295"/>
                  <a:pt x="3671" y="12278"/>
                </a:cubicBezTo>
              </a:path>
              <a:path w="1886" h="1217">
                <a:moveTo>
                  <a:pt x="3994" y="11633"/>
                </a:moveTo>
                <a:cubicBezTo>
                  <a:pt x="4085" y="11633"/>
                  <a:pt x="4143" y="11636"/>
                  <a:pt x="4217" y="11658"/>
                </a:cubicBezTo>
                <a:cubicBezTo>
                  <a:pt x="4225" y="11658"/>
                  <a:pt x="4234" y="11658"/>
                  <a:pt x="4242" y="11658"/>
                </a:cubicBezTo>
              </a:path>
              <a:path w="1886" h="1217">
                <a:moveTo>
                  <a:pt x="3969" y="11857"/>
                </a:moveTo>
                <a:cubicBezTo>
                  <a:pt x="4088" y="11873"/>
                  <a:pt x="4170" y="11860"/>
                  <a:pt x="4291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8960" y="4010040"/>
            <a:ext cx="339840" cy="330120"/>
          </a:xfrm>
          <a:custGeom>
            <a:avLst/>
            <a:gdLst/>
            <a:ahLst/>
            <a:rect l="l" t="t" r="r" b="b"/>
            <a:pathLst>
              <a:path w="943" h="919">
                <a:moveTo>
                  <a:pt x="4961" y="11137"/>
                </a:moveTo>
                <a:cubicBezTo>
                  <a:pt x="4961" y="11312"/>
                  <a:pt x="4973" y="11488"/>
                  <a:pt x="4936" y="11658"/>
                </a:cubicBezTo>
                <a:cubicBezTo>
                  <a:pt x="4915" y="11756"/>
                  <a:pt x="4892" y="11857"/>
                  <a:pt x="4887" y="11956"/>
                </a:cubicBezTo>
                <a:cubicBezTo>
                  <a:pt x="4885" y="12000"/>
                  <a:pt x="4867" y="12059"/>
                  <a:pt x="4887" y="12030"/>
                </a:cubicBezTo>
                <a:cubicBezTo>
                  <a:pt x="4895" y="12022"/>
                  <a:pt x="4903" y="12013"/>
                  <a:pt x="4911" y="12005"/>
                </a:cubicBezTo>
              </a:path>
              <a:path w="943" h="919">
                <a:moveTo>
                  <a:pt x="5383" y="11212"/>
                </a:moveTo>
                <a:cubicBezTo>
                  <a:pt x="5331" y="11349"/>
                  <a:pt x="5279" y="11470"/>
                  <a:pt x="5234" y="11609"/>
                </a:cubicBezTo>
                <a:cubicBezTo>
                  <a:pt x="5204" y="11701"/>
                  <a:pt x="5196" y="11776"/>
                  <a:pt x="5259" y="11857"/>
                </a:cubicBezTo>
                <a:cubicBezTo>
                  <a:pt x="5314" y="11928"/>
                  <a:pt x="5396" y="11952"/>
                  <a:pt x="5482" y="11956"/>
                </a:cubicBezTo>
                <a:cubicBezTo>
                  <a:pt x="5618" y="11962"/>
                  <a:pt x="5665" y="11898"/>
                  <a:pt x="5755" y="11807"/>
                </a:cubicBezTo>
                <a:cubicBezTo>
                  <a:pt x="5819" y="11743"/>
                  <a:pt x="5824" y="11688"/>
                  <a:pt x="5804" y="11609"/>
                </a:cubicBezTo>
                <a:cubicBezTo>
                  <a:pt x="5721" y="11609"/>
                  <a:pt x="5634" y="11596"/>
                  <a:pt x="5556" y="11633"/>
                </a:cubicBezTo>
                <a:cubicBezTo>
                  <a:pt x="5463" y="11678"/>
                  <a:pt x="5387" y="11772"/>
                  <a:pt x="5333" y="11857"/>
                </a:cubicBezTo>
                <a:cubicBezTo>
                  <a:pt x="5308" y="11898"/>
                  <a:pt x="5284" y="11940"/>
                  <a:pt x="5259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4160" y="4537080"/>
            <a:ext cx="1339920" cy="473040"/>
          </a:xfrm>
          <a:custGeom>
            <a:avLst/>
            <a:gdLst/>
            <a:ahLst/>
            <a:rect l="l" t="t" r="r" b="b"/>
            <a:pathLst>
              <a:path w="3721" h="1315">
                <a:moveTo>
                  <a:pt x="3001" y="13072"/>
                </a:moveTo>
                <a:cubicBezTo>
                  <a:pt x="3001" y="13016"/>
                  <a:pt x="2983" y="12966"/>
                  <a:pt x="2977" y="12923"/>
                </a:cubicBezTo>
                <a:cubicBezTo>
                  <a:pt x="2964" y="12837"/>
                  <a:pt x="2952" y="12753"/>
                  <a:pt x="2902" y="12675"/>
                </a:cubicBezTo>
                <a:cubicBezTo>
                  <a:pt x="2869" y="12624"/>
                  <a:pt x="2818" y="12582"/>
                  <a:pt x="2753" y="12601"/>
                </a:cubicBezTo>
                <a:cubicBezTo>
                  <a:pt x="2678" y="12623"/>
                  <a:pt x="2584" y="12730"/>
                  <a:pt x="2555" y="12799"/>
                </a:cubicBezTo>
                <a:cubicBezTo>
                  <a:pt x="2505" y="12918"/>
                  <a:pt x="2460" y="13041"/>
                  <a:pt x="2456" y="13171"/>
                </a:cubicBezTo>
                <a:cubicBezTo>
                  <a:pt x="2453" y="13257"/>
                  <a:pt x="2439" y="13332"/>
                  <a:pt x="2530" y="13370"/>
                </a:cubicBezTo>
                <a:cubicBezTo>
                  <a:pt x="2587" y="13394"/>
                  <a:pt x="2693" y="13350"/>
                  <a:pt x="2729" y="13320"/>
                </a:cubicBezTo>
                <a:cubicBezTo>
                  <a:pt x="2768" y="13287"/>
                  <a:pt x="2843" y="13152"/>
                  <a:pt x="2853" y="13097"/>
                </a:cubicBezTo>
                <a:cubicBezTo>
                  <a:pt x="2864" y="13032"/>
                  <a:pt x="2865" y="13024"/>
                  <a:pt x="2877" y="12973"/>
                </a:cubicBezTo>
                <a:cubicBezTo>
                  <a:pt x="2877" y="13158"/>
                  <a:pt x="2882" y="13339"/>
                  <a:pt x="2902" y="13519"/>
                </a:cubicBezTo>
                <a:cubicBezTo>
                  <a:pt x="2912" y="13607"/>
                  <a:pt x="2910" y="13594"/>
                  <a:pt x="2952" y="13667"/>
                </a:cubicBezTo>
              </a:path>
              <a:path w="3721" h="1315">
                <a:moveTo>
                  <a:pt x="3423" y="13419"/>
                </a:moveTo>
                <a:cubicBezTo>
                  <a:pt x="3580" y="13395"/>
                  <a:pt x="3601" y="13421"/>
                  <a:pt x="3696" y="13345"/>
                </a:cubicBezTo>
              </a:path>
              <a:path w="3721" h="1315">
                <a:moveTo>
                  <a:pt x="3349" y="13345"/>
                </a:moveTo>
                <a:cubicBezTo>
                  <a:pt x="3349" y="13452"/>
                  <a:pt x="3392" y="13450"/>
                  <a:pt x="3473" y="13519"/>
                </a:cubicBezTo>
                <a:cubicBezTo>
                  <a:pt x="3538" y="13575"/>
                  <a:pt x="3623" y="13656"/>
                  <a:pt x="3646" y="13742"/>
                </a:cubicBezTo>
                <a:cubicBezTo>
                  <a:pt x="3666" y="13819"/>
                  <a:pt x="3603" y="13862"/>
                  <a:pt x="3547" y="13891"/>
                </a:cubicBezTo>
                <a:cubicBezTo>
                  <a:pt x="3475" y="13928"/>
                  <a:pt x="3432" y="13920"/>
                  <a:pt x="3373" y="13866"/>
                </a:cubicBezTo>
                <a:cubicBezTo>
                  <a:pt x="3335" y="13831"/>
                  <a:pt x="3349" y="13790"/>
                  <a:pt x="3349" y="13742"/>
                </a:cubicBezTo>
              </a:path>
              <a:path w="3721" h="1315">
                <a:moveTo>
                  <a:pt x="4093" y="13171"/>
                </a:moveTo>
                <a:cubicBezTo>
                  <a:pt x="4235" y="13171"/>
                  <a:pt x="4263" y="13161"/>
                  <a:pt x="4341" y="13196"/>
                </a:cubicBezTo>
              </a:path>
              <a:path w="3721" h="1315">
                <a:moveTo>
                  <a:pt x="4167" y="13419"/>
                </a:moveTo>
                <a:cubicBezTo>
                  <a:pt x="4316" y="13469"/>
                  <a:pt x="4317" y="13474"/>
                  <a:pt x="4465" y="13444"/>
                </a:cubicBezTo>
              </a:path>
              <a:path w="3721" h="1315">
                <a:moveTo>
                  <a:pt x="5011" y="12948"/>
                </a:moveTo>
                <a:cubicBezTo>
                  <a:pt x="4972" y="13147"/>
                  <a:pt x="4936" y="13297"/>
                  <a:pt x="4936" y="13494"/>
                </a:cubicBezTo>
                <a:cubicBezTo>
                  <a:pt x="4936" y="13568"/>
                  <a:pt x="4936" y="13643"/>
                  <a:pt x="4936" y="13717"/>
                </a:cubicBezTo>
              </a:path>
              <a:path w="3721" h="1315">
                <a:moveTo>
                  <a:pt x="5333" y="12923"/>
                </a:moveTo>
                <a:cubicBezTo>
                  <a:pt x="5460" y="12914"/>
                  <a:pt x="5607" y="12853"/>
                  <a:pt x="5680" y="12998"/>
                </a:cubicBezTo>
                <a:cubicBezTo>
                  <a:pt x="5730" y="13097"/>
                  <a:pt x="5702" y="13139"/>
                  <a:pt x="5655" y="13221"/>
                </a:cubicBezTo>
                <a:cubicBezTo>
                  <a:pt x="5614" y="13293"/>
                  <a:pt x="5564" y="13359"/>
                  <a:pt x="5507" y="13419"/>
                </a:cubicBezTo>
                <a:cubicBezTo>
                  <a:pt x="5465" y="13463"/>
                  <a:pt x="5404" y="13526"/>
                  <a:pt x="5407" y="13593"/>
                </a:cubicBezTo>
                <a:cubicBezTo>
                  <a:pt x="5410" y="13665"/>
                  <a:pt x="5507" y="13699"/>
                  <a:pt x="5556" y="13717"/>
                </a:cubicBezTo>
                <a:cubicBezTo>
                  <a:pt x="5665" y="13756"/>
                  <a:pt x="5769" y="13767"/>
                  <a:pt x="5879" y="13791"/>
                </a:cubicBezTo>
                <a:cubicBezTo>
                  <a:pt x="5963" y="13809"/>
                  <a:pt x="6043" y="13836"/>
                  <a:pt x="6127" y="13841"/>
                </a:cubicBezTo>
                <a:cubicBezTo>
                  <a:pt x="6203" y="13845"/>
                  <a:pt x="6168" y="13841"/>
                  <a:pt x="6176" y="138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40120" y="2276640"/>
            <a:ext cx="268200" cy="31248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11088" y="6623"/>
                </a:moveTo>
                <a:cubicBezTo>
                  <a:pt x="11088" y="6684"/>
                  <a:pt x="11097" y="6700"/>
                  <a:pt x="11063" y="6722"/>
                </a:cubicBezTo>
                <a:cubicBezTo>
                  <a:pt x="11063" y="6643"/>
                  <a:pt x="11080" y="6542"/>
                  <a:pt x="11038" y="6474"/>
                </a:cubicBezTo>
                <a:cubicBezTo>
                  <a:pt x="11000" y="6412"/>
                  <a:pt x="11000" y="6358"/>
                  <a:pt x="10914" y="6325"/>
                </a:cubicBezTo>
                <a:cubicBezTo>
                  <a:pt x="10854" y="6302"/>
                  <a:pt x="10810" y="6387"/>
                  <a:pt x="10790" y="6424"/>
                </a:cubicBezTo>
                <a:cubicBezTo>
                  <a:pt x="10742" y="6514"/>
                  <a:pt x="10720" y="6600"/>
                  <a:pt x="10691" y="6697"/>
                </a:cubicBezTo>
                <a:cubicBezTo>
                  <a:pt x="10666" y="6782"/>
                  <a:pt x="10642" y="6906"/>
                  <a:pt x="10666" y="6995"/>
                </a:cubicBezTo>
                <a:cubicBezTo>
                  <a:pt x="10671" y="7016"/>
                  <a:pt x="10720" y="7109"/>
                  <a:pt x="10740" y="7119"/>
                </a:cubicBezTo>
                <a:cubicBezTo>
                  <a:pt x="10748" y="7119"/>
                  <a:pt x="10757" y="7119"/>
                  <a:pt x="10765" y="7119"/>
                </a:cubicBezTo>
                <a:cubicBezTo>
                  <a:pt x="10805" y="7079"/>
                  <a:pt x="10848" y="7057"/>
                  <a:pt x="10889" y="7020"/>
                </a:cubicBezTo>
                <a:cubicBezTo>
                  <a:pt x="10936" y="6978"/>
                  <a:pt x="10951" y="6904"/>
                  <a:pt x="10964" y="6846"/>
                </a:cubicBezTo>
                <a:cubicBezTo>
                  <a:pt x="10974" y="6802"/>
                  <a:pt x="10959" y="6811"/>
                  <a:pt x="10988" y="6772"/>
                </a:cubicBezTo>
                <a:cubicBezTo>
                  <a:pt x="10988" y="6870"/>
                  <a:pt x="10987" y="6961"/>
                  <a:pt x="11013" y="7045"/>
                </a:cubicBezTo>
                <a:cubicBezTo>
                  <a:pt x="11028" y="7095"/>
                  <a:pt x="11063" y="7094"/>
                  <a:pt x="11112" y="7094"/>
                </a:cubicBezTo>
                <a:cubicBezTo>
                  <a:pt x="11129" y="7094"/>
                  <a:pt x="11145" y="7094"/>
                  <a:pt x="11162" y="7094"/>
                </a:cubicBezTo>
              </a:path>
              <a:path w="745" h="869">
                <a:moveTo>
                  <a:pt x="11410" y="6921"/>
                </a:moveTo>
                <a:cubicBezTo>
                  <a:pt x="11393" y="7011"/>
                  <a:pt x="11385" y="7059"/>
                  <a:pt x="11385" y="7144"/>
                </a:cubicBezTo>
                <a:cubicBezTo>
                  <a:pt x="11385" y="7169"/>
                  <a:pt x="11385" y="7177"/>
                  <a:pt x="11385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41880" y="236700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1807" y="6598"/>
                </a:moveTo>
                <a:cubicBezTo>
                  <a:pt x="11872" y="6598"/>
                  <a:pt x="11916" y="6578"/>
                  <a:pt x="11956" y="6598"/>
                </a:cubicBezTo>
              </a:path>
              <a:path w="274" h="249">
                <a:moveTo>
                  <a:pt x="11782" y="6796"/>
                </a:moveTo>
                <a:cubicBezTo>
                  <a:pt x="11841" y="6832"/>
                  <a:pt x="11866" y="6826"/>
                  <a:pt x="11931" y="6796"/>
                </a:cubicBezTo>
                <a:cubicBezTo>
                  <a:pt x="11988" y="6769"/>
                  <a:pt x="12012" y="6758"/>
                  <a:pt x="12055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1000" y="2232000"/>
            <a:ext cx="162000" cy="312840"/>
          </a:xfrm>
          <a:custGeom>
            <a:avLst/>
            <a:gdLst/>
            <a:ahLst/>
            <a:rect l="l" t="t" r="r" b="b"/>
            <a:pathLst>
              <a:path w="447" h="869">
                <a:moveTo>
                  <a:pt x="12576" y="6251"/>
                </a:moveTo>
                <a:cubicBezTo>
                  <a:pt x="12649" y="6223"/>
                  <a:pt x="12702" y="6198"/>
                  <a:pt x="12774" y="6226"/>
                </a:cubicBezTo>
                <a:cubicBezTo>
                  <a:pt x="12823" y="6245"/>
                  <a:pt x="12894" y="6268"/>
                  <a:pt x="12898" y="6325"/>
                </a:cubicBezTo>
                <a:cubicBezTo>
                  <a:pt x="12902" y="6384"/>
                  <a:pt x="12864" y="6431"/>
                  <a:pt x="12824" y="6474"/>
                </a:cubicBezTo>
                <a:cubicBezTo>
                  <a:pt x="12782" y="6519"/>
                  <a:pt x="12706" y="6575"/>
                  <a:pt x="12650" y="6598"/>
                </a:cubicBezTo>
                <a:cubicBezTo>
                  <a:pt x="12617" y="6611"/>
                  <a:pt x="12626" y="6605"/>
                  <a:pt x="12626" y="6648"/>
                </a:cubicBezTo>
                <a:cubicBezTo>
                  <a:pt x="12714" y="6718"/>
                  <a:pt x="12801" y="6786"/>
                  <a:pt x="12874" y="6871"/>
                </a:cubicBezTo>
                <a:cubicBezTo>
                  <a:pt x="12908" y="6911"/>
                  <a:pt x="12959" y="6947"/>
                  <a:pt x="12898" y="6995"/>
                </a:cubicBezTo>
                <a:cubicBezTo>
                  <a:pt x="12839" y="7041"/>
                  <a:pt x="12719" y="7043"/>
                  <a:pt x="12650" y="7045"/>
                </a:cubicBezTo>
                <a:cubicBezTo>
                  <a:pt x="12567" y="7045"/>
                  <a:pt x="12533" y="7047"/>
                  <a:pt x="12477" y="70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3760" y="2867040"/>
            <a:ext cx="322200" cy="295200"/>
          </a:xfrm>
          <a:custGeom>
            <a:avLst/>
            <a:gdLst/>
            <a:ahLst/>
            <a:rect l="l" t="t" r="r" b="b"/>
            <a:pathLst>
              <a:path w="894" h="820">
                <a:moveTo>
                  <a:pt x="10988" y="8210"/>
                </a:moveTo>
                <a:cubicBezTo>
                  <a:pt x="10988" y="8277"/>
                  <a:pt x="10988" y="8172"/>
                  <a:pt x="10988" y="8161"/>
                </a:cubicBezTo>
                <a:cubicBezTo>
                  <a:pt x="10988" y="8110"/>
                  <a:pt x="10978" y="8005"/>
                  <a:pt x="10914" y="7987"/>
                </a:cubicBezTo>
                <a:cubicBezTo>
                  <a:pt x="10852" y="7969"/>
                  <a:pt x="10804" y="7947"/>
                  <a:pt x="10740" y="7987"/>
                </a:cubicBezTo>
                <a:cubicBezTo>
                  <a:pt x="10673" y="8029"/>
                  <a:pt x="10638" y="8114"/>
                  <a:pt x="10616" y="8186"/>
                </a:cubicBezTo>
                <a:cubicBezTo>
                  <a:pt x="10594" y="8258"/>
                  <a:pt x="10554" y="8408"/>
                  <a:pt x="10567" y="8483"/>
                </a:cubicBezTo>
                <a:cubicBezTo>
                  <a:pt x="10575" y="8533"/>
                  <a:pt x="10589" y="8653"/>
                  <a:pt x="10641" y="8682"/>
                </a:cubicBezTo>
                <a:cubicBezTo>
                  <a:pt x="10679" y="8703"/>
                  <a:pt x="10738" y="8681"/>
                  <a:pt x="10765" y="8657"/>
                </a:cubicBezTo>
                <a:cubicBezTo>
                  <a:pt x="10814" y="8614"/>
                  <a:pt x="10835" y="8540"/>
                  <a:pt x="10864" y="8483"/>
                </a:cubicBezTo>
                <a:cubicBezTo>
                  <a:pt x="10901" y="8409"/>
                  <a:pt x="10911" y="8335"/>
                  <a:pt x="10939" y="8260"/>
                </a:cubicBezTo>
                <a:cubicBezTo>
                  <a:pt x="10939" y="8360"/>
                  <a:pt x="10951" y="8474"/>
                  <a:pt x="10964" y="8558"/>
                </a:cubicBezTo>
                <a:cubicBezTo>
                  <a:pt x="10970" y="8597"/>
                  <a:pt x="10986" y="8667"/>
                  <a:pt x="11038" y="8682"/>
                </a:cubicBezTo>
                <a:cubicBezTo>
                  <a:pt x="11079" y="8682"/>
                  <a:pt x="11087" y="8682"/>
                  <a:pt x="11112" y="8682"/>
                </a:cubicBezTo>
              </a:path>
              <a:path w="894" h="820">
                <a:moveTo>
                  <a:pt x="11361" y="8409"/>
                </a:moveTo>
                <a:cubicBezTo>
                  <a:pt x="11386" y="8425"/>
                  <a:pt x="11410" y="8442"/>
                  <a:pt x="11435" y="8458"/>
                </a:cubicBezTo>
                <a:cubicBezTo>
                  <a:pt x="11424" y="8502"/>
                  <a:pt x="11395" y="8546"/>
                  <a:pt x="11361" y="8582"/>
                </a:cubicBezTo>
                <a:cubicBezTo>
                  <a:pt x="11327" y="8618"/>
                  <a:pt x="11257" y="8684"/>
                  <a:pt x="11237" y="8731"/>
                </a:cubicBezTo>
                <a:cubicBezTo>
                  <a:pt x="11237" y="8739"/>
                  <a:pt x="11237" y="8748"/>
                  <a:pt x="11237" y="8756"/>
                </a:cubicBezTo>
                <a:cubicBezTo>
                  <a:pt x="11284" y="8792"/>
                  <a:pt x="11326" y="8771"/>
                  <a:pt x="11385" y="8756"/>
                </a:cubicBezTo>
                <a:cubicBezTo>
                  <a:pt x="11410" y="8748"/>
                  <a:pt x="11435" y="8739"/>
                  <a:pt x="11460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76800" y="2982960"/>
            <a:ext cx="125280" cy="88920"/>
          </a:xfrm>
          <a:custGeom>
            <a:avLst/>
            <a:gdLst/>
            <a:ahLst/>
            <a:rect l="l" t="t" r="r" b="b"/>
            <a:pathLst>
              <a:path w="349" h="249">
                <a:moveTo>
                  <a:pt x="11881" y="8310"/>
                </a:moveTo>
                <a:cubicBezTo>
                  <a:pt x="11997" y="8291"/>
                  <a:pt x="12013" y="8282"/>
                  <a:pt x="12080" y="8285"/>
                </a:cubicBezTo>
              </a:path>
              <a:path w="349" h="249">
                <a:moveTo>
                  <a:pt x="12005" y="8458"/>
                </a:moveTo>
                <a:cubicBezTo>
                  <a:pt x="12016" y="8503"/>
                  <a:pt x="12062" y="8526"/>
                  <a:pt x="12105" y="8533"/>
                </a:cubicBezTo>
                <a:cubicBezTo>
                  <a:pt x="12171" y="8533"/>
                  <a:pt x="12188" y="8533"/>
                  <a:pt x="12229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53000" y="2697120"/>
            <a:ext cx="196920" cy="366840"/>
          </a:xfrm>
          <a:custGeom>
            <a:avLst/>
            <a:gdLst/>
            <a:ahLst/>
            <a:rect l="l" t="t" r="r" b="b"/>
            <a:pathLst>
              <a:path w="547" h="1018">
                <a:moveTo>
                  <a:pt x="13047" y="7863"/>
                </a:moveTo>
                <a:cubicBezTo>
                  <a:pt x="13029" y="7948"/>
                  <a:pt x="13024" y="8037"/>
                  <a:pt x="12973" y="8111"/>
                </a:cubicBezTo>
                <a:cubicBezTo>
                  <a:pt x="12940" y="8158"/>
                  <a:pt x="12938" y="8115"/>
                  <a:pt x="12923" y="8161"/>
                </a:cubicBezTo>
                <a:cubicBezTo>
                  <a:pt x="12935" y="8179"/>
                  <a:pt x="13005" y="8203"/>
                  <a:pt x="13047" y="8210"/>
                </a:cubicBezTo>
                <a:cubicBezTo>
                  <a:pt x="13150" y="8228"/>
                  <a:pt x="13298" y="8221"/>
                  <a:pt x="13395" y="8186"/>
                </a:cubicBezTo>
                <a:cubicBezTo>
                  <a:pt x="13438" y="8164"/>
                  <a:pt x="13450" y="8160"/>
                  <a:pt x="13469" y="8136"/>
                </a:cubicBezTo>
              </a:path>
              <a:path w="547" h="1018">
                <a:moveTo>
                  <a:pt x="13419" y="7491"/>
                </a:moveTo>
                <a:cubicBezTo>
                  <a:pt x="13419" y="7751"/>
                  <a:pt x="13423" y="8005"/>
                  <a:pt x="13444" y="8260"/>
                </a:cubicBezTo>
                <a:cubicBezTo>
                  <a:pt x="13451" y="8341"/>
                  <a:pt x="13444" y="8427"/>
                  <a:pt x="13444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4200" y="3394080"/>
            <a:ext cx="392040" cy="365040"/>
          </a:xfrm>
          <a:custGeom>
            <a:avLst/>
            <a:gdLst/>
            <a:ahLst/>
            <a:rect l="l" t="t" r="r" b="b"/>
            <a:pathLst>
              <a:path w="1092" h="1018">
                <a:moveTo>
                  <a:pt x="10939" y="9649"/>
                </a:moveTo>
                <a:cubicBezTo>
                  <a:pt x="10914" y="9616"/>
                  <a:pt x="10887" y="9587"/>
                  <a:pt x="10864" y="9550"/>
                </a:cubicBezTo>
                <a:cubicBezTo>
                  <a:pt x="10824" y="9487"/>
                  <a:pt x="10771" y="9431"/>
                  <a:pt x="10691" y="9426"/>
                </a:cubicBezTo>
                <a:cubicBezTo>
                  <a:pt x="10564" y="9417"/>
                  <a:pt x="10498" y="9557"/>
                  <a:pt x="10443" y="9649"/>
                </a:cubicBezTo>
                <a:cubicBezTo>
                  <a:pt x="10369" y="9772"/>
                  <a:pt x="10349" y="9906"/>
                  <a:pt x="10344" y="10046"/>
                </a:cubicBezTo>
                <a:cubicBezTo>
                  <a:pt x="10342" y="10103"/>
                  <a:pt x="10342" y="10125"/>
                  <a:pt x="10368" y="10170"/>
                </a:cubicBezTo>
                <a:cubicBezTo>
                  <a:pt x="10437" y="10161"/>
                  <a:pt x="10497" y="10156"/>
                  <a:pt x="10542" y="10096"/>
                </a:cubicBezTo>
                <a:cubicBezTo>
                  <a:pt x="10591" y="10031"/>
                  <a:pt x="10648" y="9925"/>
                  <a:pt x="10666" y="9847"/>
                </a:cubicBezTo>
                <a:cubicBezTo>
                  <a:pt x="10680" y="9784"/>
                  <a:pt x="10677" y="9725"/>
                  <a:pt x="10716" y="9674"/>
                </a:cubicBezTo>
                <a:cubicBezTo>
                  <a:pt x="10716" y="9746"/>
                  <a:pt x="10738" y="9799"/>
                  <a:pt x="10740" y="9872"/>
                </a:cubicBezTo>
                <a:cubicBezTo>
                  <a:pt x="10743" y="9963"/>
                  <a:pt x="10744" y="10090"/>
                  <a:pt x="10790" y="10170"/>
                </a:cubicBezTo>
                <a:cubicBezTo>
                  <a:pt x="10817" y="10217"/>
                  <a:pt x="10843" y="10213"/>
                  <a:pt x="10889" y="10220"/>
                </a:cubicBezTo>
              </a:path>
              <a:path w="1092" h="1018">
                <a:moveTo>
                  <a:pt x="11112" y="9872"/>
                </a:moveTo>
                <a:cubicBezTo>
                  <a:pt x="11174" y="9872"/>
                  <a:pt x="11273" y="9853"/>
                  <a:pt x="11311" y="9922"/>
                </a:cubicBezTo>
                <a:cubicBezTo>
                  <a:pt x="11333" y="9962"/>
                  <a:pt x="11310" y="10042"/>
                  <a:pt x="11286" y="10071"/>
                </a:cubicBezTo>
                <a:cubicBezTo>
                  <a:pt x="11261" y="10102"/>
                  <a:pt x="11246" y="10112"/>
                  <a:pt x="11212" y="10120"/>
                </a:cubicBezTo>
                <a:cubicBezTo>
                  <a:pt x="11224" y="10156"/>
                  <a:pt x="11247" y="10153"/>
                  <a:pt x="11286" y="10170"/>
                </a:cubicBezTo>
                <a:cubicBezTo>
                  <a:pt x="11330" y="10189"/>
                  <a:pt x="11420" y="10248"/>
                  <a:pt x="11435" y="10294"/>
                </a:cubicBezTo>
                <a:cubicBezTo>
                  <a:pt x="11463" y="10379"/>
                  <a:pt x="11405" y="10420"/>
                  <a:pt x="11336" y="10443"/>
                </a:cubicBezTo>
                <a:cubicBezTo>
                  <a:pt x="11299" y="10455"/>
                  <a:pt x="11281" y="10393"/>
                  <a:pt x="11261" y="103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76800" y="3286080"/>
            <a:ext cx="447480" cy="401760"/>
          </a:xfrm>
          <a:custGeom>
            <a:avLst/>
            <a:gdLst/>
            <a:ahLst/>
            <a:rect l="l" t="t" r="r" b="b"/>
            <a:pathLst>
              <a:path w="1242" h="1117">
                <a:moveTo>
                  <a:pt x="11881" y="9674"/>
                </a:moveTo>
                <a:cubicBezTo>
                  <a:pt x="11922" y="9682"/>
                  <a:pt x="11964" y="9691"/>
                  <a:pt x="12005" y="9699"/>
                </a:cubicBezTo>
              </a:path>
              <a:path w="1242" h="1117">
                <a:moveTo>
                  <a:pt x="11981" y="9922"/>
                </a:moveTo>
                <a:cubicBezTo>
                  <a:pt x="12072" y="9940"/>
                  <a:pt x="12137" y="9947"/>
                  <a:pt x="12229" y="9947"/>
                </a:cubicBezTo>
              </a:path>
              <a:path w="1242" h="1117">
                <a:moveTo>
                  <a:pt x="12874" y="9128"/>
                </a:moveTo>
                <a:cubicBezTo>
                  <a:pt x="12853" y="9160"/>
                  <a:pt x="12817" y="9238"/>
                  <a:pt x="12799" y="9302"/>
                </a:cubicBezTo>
                <a:cubicBezTo>
                  <a:pt x="12752" y="9468"/>
                  <a:pt x="12655" y="9611"/>
                  <a:pt x="12601" y="9773"/>
                </a:cubicBezTo>
                <a:cubicBezTo>
                  <a:pt x="12557" y="9904"/>
                  <a:pt x="12543" y="9998"/>
                  <a:pt x="12601" y="10120"/>
                </a:cubicBezTo>
                <a:cubicBezTo>
                  <a:pt x="12629" y="10178"/>
                  <a:pt x="12731" y="10247"/>
                  <a:pt x="12799" y="10244"/>
                </a:cubicBezTo>
                <a:cubicBezTo>
                  <a:pt x="12911" y="10240"/>
                  <a:pt x="13011" y="10165"/>
                  <a:pt x="13072" y="10071"/>
                </a:cubicBezTo>
                <a:cubicBezTo>
                  <a:pt x="13120" y="9997"/>
                  <a:pt x="13153" y="9836"/>
                  <a:pt x="13072" y="9773"/>
                </a:cubicBezTo>
                <a:cubicBezTo>
                  <a:pt x="13028" y="9739"/>
                  <a:pt x="12908" y="9797"/>
                  <a:pt x="12874" y="9823"/>
                </a:cubicBezTo>
                <a:cubicBezTo>
                  <a:pt x="12804" y="9877"/>
                  <a:pt x="12778" y="9959"/>
                  <a:pt x="12799" y="10046"/>
                </a:cubicBezTo>
                <a:cubicBezTo>
                  <a:pt x="12807" y="10063"/>
                  <a:pt x="12816" y="10079"/>
                  <a:pt x="12824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5120" y="3990960"/>
            <a:ext cx="455760" cy="492120"/>
          </a:xfrm>
          <a:custGeom>
            <a:avLst/>
            <a:gdLst/>
            <a:ahLst/>
            <a:rect l="l" t="t" r="r" b="b"/>
            <a:pathLst>
              <a:path w="1266" h="1365">
                <a:moveTo>
                  <a:pt x="10939" y="11361"/>
                </a:moveTo>
                <a:cubicBezTo>
                  <a:pt x="10916" y="11275"/>
                  <a:pt x="10917" y="11196"/>
                  <a:pt x="10840" y="11137"/>
                </a:cubicBezTo>
                <a:cubicBezTo>
                  <a:pt x="10776" y="11088"/>
                  <a:pt x="10689" y="11067"/>
                  <a:pt x="10616" y="11112"/>
                </a:cubicBezTo>
                <a:cubicBezTo>
                  <a:pt x="10512" y="11177"/>
                  <a:pt x="10424" y="11307"/>
                  <a:pt x="10368" y="11410"/>
                </a:cubicBezTo>
                <a:cubicBezTo>
                  <a:pt x="10287" y="11559"/>
                  <a:pt x="10264" y="11631"/>
                  <a:pt x="10368" y="11757"/>
                </a:cubicBezTo>
                <a:cubicBezTo>
                  <a:pt x="10430" y="11833"/>
                  <a:pt x="10474" y="11795"/>
                  <a:pt x="10542" y="11757"/>
                </a:cubicBezTo>
                <a:cubicBezTo>
                  <a:pt x="10640" y="11703"/>
                  <a:pt x="10667" y="11688"/>
                  <a:pt x="10716" y="11584"/>
                </a:cubicBezTo>
                <a:cubicBezTo>
                  <a:pt x="10742" y="11529"/>
                  <a:pt x="10740" y="11484"/>
                  <a:pt x="10765" y="11435"/>
                </a:cubicBezTo>
                <a:cubicBezTo>
                  <a:pt x="10765" y="11494"/>
                  <a:pt x="10784" y="11500"/>
                  <a:pt x="10790" y="11559"/>
                </a:cubicBezTo>
                <a:cubicBezTo>
                  <a:pt x="10802" y="11678"/>
                  <a:pt x="10777" y="11817"/>
                  <a:pt x="10815" y="11931"/>
                </a:cubicBezTo>
                <a:cubicBezTo>
                  <a:pt x="10830" y="11976"/>
                  <a:pt x="10890" y="12121"/>
                  <a:pt x="10964" y="12030"/>
                </a:cubicBezTo>
                <a:cubicBezTo>
                  <a:pt x="10980" y="11997"/>
                  <a:pt x="10997" y="11964"/>
                  <a:pt x="11013" y="11931"/>
                </a:cubicBezTo>
              </a:path>
              <a:path w="1266" h="1365">
                <a:moveTo>
                  <a:pt x="11187" y="11708"/>
                </a:moveTo>
                <a:cubicBezTo>
                  <a:pt x="11172" y="11748"/>
                  <a:pt x="11092" y="11897"/>
                  <a:pt x="11088" y="11956"/>
                </a:cubicBezTo>
                <a:cubicBezTo>
                  <a:pt x="11084" y="12025"/>
                  <a:pt x="11120" y="12045"/>
                  <a:pt x="11187" y="12030"/>
                </a:cubicBezTo>
                <a:cubicBezTo>
                  <a:pt x="11278" y="12009"/>
                  <a:pt x="11343" y="11988"/>
                  <a:pt x="11435" y="11956"/>
                </a:cubicBezTo>
              </a:path>
              <a:path w="1266" h="1365">
                <a:moveTo>
                  <a:pt x="11559" y="11559"/>
                </a:moveTo>
                <a:cubicBezTo>
                  <a:pt x="11514" y="11738"/>
                  <a:pt x="11454" y="11921"/>
                  <a:pt x="11435" y="12105"/>
                </a:cubicBezTo>
                <a:cubicBezTo>
                  <a:pt x="11427" y="12180"/>
                  <a:pt x="11402" y="12388"/>
                  <a:pt x="11460" y="12452"/>
                </a:cubicBezTo>
                <a:cubicBezTo>
                  <a:pt x="11485" y="12452"/>
                  <a:pt x="11493" y="12452"/>
                  <a:pt x="11485" y="124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95880" y="4160880"/>
            <a:ext cx="160200" cy="14436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11931" y="11609"/>
                </a:moveTo>
                <a:cubicBezTo>
                  <a:pt x="12161" y="11602"/>
                  <a:pt x="12134" y="11632"/>
                  <a:pt x="12278" y="11559"/>
                </a:cubicBezTo>
              </a:path>
              <a:path w="448" h="398">
                <a:moveTo>
                  <a:pt x="12105" y="11881"/>
                </a:moveTo>
                <a:cubicBezTo>
                  <a:pt x="12235" y="11932"/>
                  <a:pt x="12253" y="11952"/>
                  <a:pt x="12378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0280" y="4106880"/>
            <a:ext cx="303480" cy="287280"/>
          </a:xfrm>
          <a:custGeom>
            <a:avLst/>
            <a:gdLst/>
            <a:ahLst/>
            <a:rect l="l" t="t" r="r" b="b"/>
            <a:pathLst>
              <a:path w="844" h="795">
                <a:moveTo>
                  <a:pt x="12973" y="11435"/>
                </a:moveTo>
                <a:cubicBezTo>
                  <a:pt x="12973" y="11590"/>
                  <a:pt x="12983" y="11730"/>
                  <a:pt x="12998" y="11881"/>
                </a:cubicBezTo>
                <a:cubicBezTo>
                  <a:pt x="13008" y="11986"/>
                  <a:pt x="12991" y="12079"/>
                  <a:pt x="12973" y="12179"/>
                </a:cubicBezTo>
                <a:cubicBezTo>
                  <a:pt x="12973" y="12204"/>
                  <a:pt x="12973" y="12212"/>
                  <a:pt x="12998" y="12204"/>
                </a:cubicBezTo>
              </a:path>
              <a:path w="844" h="795">
                <a:moveTo>
                  <a:pt x="13295" y="11410"/>
                </a:moveTo>
                <a:cubicBezTo>
                  <a:pt x="13248" y="11537"/>
                  <a:pt x="13174" y="11691"/>
                  <a:pt x="13196" y="11832"/>
                </a:cubicBezTo>
                <a:cubicBezTo>
                  <a:pt x="13221" y="11993"/>
                  <a:pt x="13423" y="12050"/>
                  <a:pt x="13543" y="12080"/>
                </a:cubicBezTo>
                <a:cubicBezTo>
                  <a:pt x="13643" y="12105"/>
                  <a:pt x="13700" y="12031"/>
                  <a:pt x="13742" y="11956"/>
                </a:cubicBezTo>
                <a:cubicBezTo>
                  <a:pt x="13778" y="11892"/>
                  <a:pt x="13829" y="11809"/>
                  <a:pt x="13816" y="11733"/>
                </a:cubicBezTo>
                <a:cubicBezTo>
                  <a:pt x="13798" y="11626"/>
                  <a:pt x="13669" y="11532"/>
                  <a:pt x="13568" y="11509"/>
                </a:cubicBezTo>
                <a:cubicBezTo>
                  <a:pt x="13535" y="11509"/>
                  <a:pt x="13502" y="11509"/>
                  <a:pt x="13469" y="115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24200" y="4653000"/>
            <a:ext cx="677880" cy="419040"/>
          </a:xfrm>
          <a:custGeom>
            <a:avLst/>
            <a:gdLst/>
            <a:ahLst/>
            <a:rect l="l" t="t" r="r" b="b"/>
            <a:pathLst>
              <a:path w="1886" h="1167">
                <a:moveTo>
                  <a:pt x="10864" y="13271"/>
                </a:moveTo>
                <a:cubicBezTo>
                  <a:pt x="10829" y="13208"/>
                  <a:pt x="10814" y="13165"/>
                  <a:pt x="10790" y="13097"/>
                </a:cubicBezTo>
                <a:cubicBezTo>
                  <a:pt x="10760" y="13012"/>
                  <a:pt x="10736" y="12973"/>
                  <a:pt x="10666" y="12923"/>
                </a:cubicBezTo>
                <a:cubicBezTo>
                  <a:pt x="10565" y="13008"/>
                  <a:pt x="10528" y="13076"/>
                  <a:pt x="10468" y="13196"/>
                </a:cubicBezTo>
                <a:cubicBezTo>
                  <a:pt x="10401" y="13330"/>
                  <a:pt x="10303" y="13461"/>
                  <a:pt x="10368" y="13618"/>
                </a:cubicBezTo>
                <a:cubicBezTo>
                  <a:pt x="10405" y="13708"/>
                  <a:pt x="10501" y="13696"/>
                  <a:pt x="10567" y="13667"/>
                </a:cubicBezTo>
                <a:cubicBezTo>
                  <a:pt x="10645" y="13633"/>
                  <a:pt x="10700" y="13567"/>
                  <a:pt x="10740" y="13494"/>
                </a:cubicBezTo>
                <a:cubicBezTo>
                  <a:pt x="10771" y="13439"/>
                  <a:pt x="10782" y="13405"/>
                  <a:pt x="10790" y="13345"/>
                </a:cubicBezTo>
                <a:cubicBezTo>
                  <a:pt x="10797" y="13377"/>
                  <a:pt x="10811" y="13498"/>
                  <a:pt x="10815" y="13568"/>
                </a:cubicBezTo>
                <a:cubicBezTo>
                  <a:pt x="10822" y="13683"/>
                  <a:pt x="10792" y="13812"/>
                  <a:pt x="10864" y="13915"/>
                </a:cubicBezTo>
                <a:cubicBezTo>
                  <a:pt x="10933" y="14014"/>
                  <a:pt x="10940" y="13941"/>
                  <a:pt x="11038" y="13915"/>
                </a:cubicBezTo>
              </a:path>
              <a:path w="1886" h="1167">
                <a:moveTo>
                  <a:pt x="11187" y="13494"/>
                </a:moveTo>
                <a:cubicBezTo>
                  <a:pt x="11286" y="13494"/>
                  <a:pt x="11370" y="13503"/>
                  <a:pt x="11460" y="13469"/>
                </a:cubicBezTo>
              </a:path>
              <a:path w="1886" h="1167">
                <a:moveTo>
                  <a:pt x="11187" y="13543"/>
                </a:moveTo>
                <a:cubicBezTo>
                  <a:pt x="11200" y="13635"/>
                  <a:pt x="11254" y="13639"/>
                  <a:pt x="11336" y="13692"/>
                </a:cubicBezTo>
                <a:cubicBezTo>
                  <a:pt x="11391" y="13728"/>
                  <a:pt x="11513" y="13808"/>
                  <a:pt x="11509" y="13891"/>
                </a:cubicBezTo>
                <a:cubicBezTo>
                  <a:pt x="11504" y="13988"/>
                  <a:pt x="11384" y="14058"/>
                  <a:pt x="11311" y="14089"/>
                </a:cubicBezTo>
                <a:cubicBezTo>
                  <a:pt x="11232" y="14122"/>
                  <a:pt x="11205" y="14010"/>
                  <a:pt x="11212" y="13965"/>
                </a:cubicBezTo>
                <a:cubicBezTo>
                  <a:pt x="11220" y="13940"/>
                  <a:pt x="11229" y="13916"/>
                  <a:pt x="11237" y="13891"/>
                </a:cubicBezTo>
              </a:path>
              <a:path w="1886" h="1167">
                <a:moveTo>
                  <a:pt x="11807" y="13469"/>
                </a:moveTo>
                <a:cubicBezTo>
                  <a:pt x="11915" y="13487"/>
                  <a:pt x="11922" y="13495"/>
                  <a:pt x="11981" y="13494"/>
                </a:cubicBezTo>
              </a:path>
              <a:path w="1886" h="1167">
                <a:moveTo>
                  <a:pt x="11832" y="13667"/>
                </a:moveTo>
                <a:cubicBezTo>
                  <a:pt x="11983" y="13809"/>
                  <a:pt x="12025" y="13846"/>
                  <a:pt x="12229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06920" y="4732200"/>
            <a:ext cx="295200" cy="331920"/>
          </a:xfrm>
          <a:custGeom>
            <a:avLst/>
            <a:gdLst/>
            <a:ahLst/>
            <a:rect l="l" t="t" r="r" b="b"/>
            <a:pathLst>
              <a:path w="820" h="919">
                <a:moveTo>
                  <a:pt x="12849" y="13146"/>
                </a:moveTo>
                <a:cubicBezTo>
                  <a:pt x="12849" y="13256"/>
                  <a:pt x="12811" y="13337"/>
                  <a:pt x="12799" y="13444"/>
                </a:cubicBezTo>
                <a:cubicBezTo>
                  <a:pt x="12787" y="13551"/>
                  <a:pt x="12803" y="13688"/>
                  <a:pt x="12824" y="13791"/>
                </a:cubicBezTo>
                <a:cubicBezTo>
                  <a:pt x="12837" y="13853"/>
                  <a:pt x="12849" y="13960"/>
                  <a:pt x="12874" y="14015"/>
                </a:cubicBezTo>
                <a:cubicBezTo>
                  <a:pt x="12896" y="14037"/>
                  <a:pt x="12901" y="14045"/>
                  <a:pt x="12923" y="14039"/>
                </a:cubicBezTo>
              </a:path>
              <a:path w="820" h="919">
                <a:moveTo>
                  <a:pt x="13494" y="13246"/>
                </a:moveTo>
                <a:cubicBezTo>
                  <a:pt x="13406" y="13189"/>
                  <a:pt x="13312" y="13125"/>
                  <a:pt x="13196" y="13146"/>
                </a:cubicBezTo>
                <a:cubicBezTo>
                  <a:pt x="13130" y="13158"/>
                  <a:pt x="13086" y="13232"/>
                  <a:pt x="13097" y="13295"/>
                </a:cubicBezTo>
                <a:cubicBezTo>
                  <a:pt x="13123" y="13446"/>
                  <a:pt x="13243" y="13521"/>
                  <a:pt x="13320" y="13643"/>
                </a:cubicBezTo>
                <a:cubicBezTo>
                  <a:pt x="13395" y="13763"/>
                  <a:pt x="13419" y="13853"/>
                  <a:pt x="13419" y="13990"/>
                </a:cubicBezTo>
                <a:cubicBezTo>
                  <a:pt x="13419" y="14054"/>
                  <a:pt x="13371" y="14064"/>
                  <a:pt x="13320" y="14064"/>
                </a:cubicBezTo>
                <a:cubicBezTo>
                  <a:pt x="13254" y="14064"/>
                  <a:pt x="13249" y="13991"/>
                  <a:pt x="13246" y="13940"/>
                </a:cubicBezTo>
                <a:cubicBezTo>
                  <a:pt x="13240" y="13829"/>
                  <a:pt x="13256" y="13722"/>
                  <a:pt x="13295" y="13618"/>
                </a:cubicBezTo>
                <a:cubicBezTo>
                  <a:pt x="13316" y="13562"/>
                  <a:pt x="13401" y="13436"/>
                  <a:pt x="13444" y="13395"/>
                </a:cubicBezTo>
                <a:cubicBezTo>
                  <a:pt x="13498" y="13344"/>
                  <a:pt x="13552" y="13313"/>
                  <a:pt x="13593" y="13246"/>
                </a:cubicBezTo>
                <a:cubicBezTo>
                  <a:pt x="13601" y="13229"/>
                  <a:pt x="13610" y="13213"/>
                  <a:pt x="13618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1680" y="1258920"/>
            <a:ext cx="992160" cy="393840"/>
          </a:xfrm>
          <a:custGeom>
            <a:avLst/>
            <a:gdLst/>
            <a:ahLst/>
            <a:rect l="l" t="t" r="r" b="b"/>
            <a:pathLst>
              <a:path w="2754" h="1093">
                <a:moveTo>
                  <a:pt x="1984" y="3820"/>
                </a:moveTo>
                <a:cubicBezTo>
                  <a:pt x="1984" y="3755"/>
                  <a:pt x="2003" y="3669"/>
                  <a:pt x="1960" y="3621"/>
                </a:cubicBezTo>
                <a:cubicBezTo>
                  <a:pt x="1931" y="3589"/>
                  <a:pt x="1902" y="3552"/>
                  <a:pt x="1860" y="3547"/>
                </a:cubicBezTo>
                <a:cubicBezTo>
                  <a:pt x="1804" y="3541"/>
                  <a:pt x="1766" y="3612"/>
                  <a:pt x="1736" y="3646"/>
                </a:cubicBezTo>
                <a:cubicBezTo>
                  <a:pt x="1684" y="3706"/>
                  <a:pt x="1587" y="3807"/>
                  <a:pt x="1588" y="3894"/>
                </a:cubicBezTo>
                <a:cubicBezTo>
                  <a:pt x="1605" y="4055"/>
                  <a:pt x="1567" y="4085"/>
                  <a:pt x="1637" y="4142"/>
                </a:cubicBezTo>
                <a:cubicBezTo>
                  <a:pt x="1701" y="4142"/>
                  <a:pt x="1782" y="4157"/>
                  <a:pt x="1836" y="4118"/>
                </a:cubicBezTo>
                <a:cubicBezTo>
                  <a:pt x="1890" y="4079"/>
                  <a:pt x="2005" y="4007"/>
                  <a:pt x="2034" y="3944"/>
                </a:cubicBezTo>
                <a:cubicBezTo>
                  <a:pt x="2066" y="3875"/>
                  <a:pt x="2104" y="3722"/>
                  <a:pt x="2084" y="3795"/>
                </a:cubicBezTo>
                <a:cubicBezTo>
                  <a:pt x="2067" y="3858"/>
                  <a:pt x="2059" y="3918"/>
                  <a:pt x="2059" y="3994"/>
                </a:cubicBezTo>
                <a:cubicBezTo>
                  <a:pt x="2059" y="4080"/>
                  <a:pt x="2057" y="4143"/>
                  <a:pt x="2108" y="4217"/>
                </a:cubicBezTo>
                <a:cubicBezTo>
                  <a:pt x="2139" y="4263"/>
                  <a:pt x="2203" y="4323"/>
                  <a:pt x="2257" y="4341"/>
                </a:cubicBezTo>
                <a:cubicBezTo>
                  <a:pt x="2292" y="4341"/>
                  <a:pt x="2310" y="4346"/>
                  <a:pt x="2332" y="4366"/>
                </a:cubicBezTo>
              </a:path>
              <a:path w="2754" h="1093">
                <a:moveTo>
                  <a:pt x="2505" y="4192"/>
                </a:moveTo>
                <a:cubicBezTo>
                  <a:pt x="2494" y="4252"/>
                  <a:pt x="2503" y="4404"/>
                  <a:pt x="2480" y="4465"/>
                </a:cubicBezTo>
                <a:cubicBezTo>
                  <a:pt x="2471" y="4488"/>
                  <a:pt x="2456" y="4593"/>
                  <a:pt x="2456" y="4539"/>
                </a:cubicBezTo>
                <a:cubicBezTo>
                  <a:pt x="2456" y="4531"/>
                  <a:pt x="2456" y="4522"/>
                  <a:pt x="2456" y="4514"/>
                </a:cubicBezTo>
              </a:path>
              <a:path w="2754" h="1093">
                <a:moveTo>
                  <a:pt x="2679" y="4192"/>
                </a:moveTo>
                <a:cubicBezTo>
                  <a:pt x="2655" y="4223"/>
                  <a:pt x="2561" y="4316"/>
                  <a:pt x="2555" y="4366"/>
                </a:cubicBezTo>
                <a:cubicBezTo>
                  <a:pt x="2548" y="4428"/>
                  <a:pt x="2577" y="4437"/>
                  <a:pt x="2629" y="4465"/>
                </a:cubicBezTo>
                <a:cubicBezTo>
                  <a:pt x="2694" y="4500"/>
                  <a:pt x="2731" y="4514"/>
                  <a:pt x="2803" y="4514"/>
                </a:cubicBezTo>
                <a:cubicBezTo>
                  <a:pt x="2861" y="4514"/>
                  <a:pt x="2869" y="4514"/>
                  <a:pt x="2902" y="4514"/>
                </a:cubicBezTo>
              </a:path>
              <a:path w="2754" h="1093">
                <a:moveTo>
                  <a:pt x="3051" y="4192"/>
                </a:moveTo>
                <a:cubicBezTo>
                  <a:pt x="3051" y="4221"/>
                  <a:pt x="3051" y="4520"/>
                  <a:pt x="3051" y="4490"/>
                </a:cubicBezTo>
              </a:path>
              <a:path w="2754" h="1093">
                <a:moveTo>
                  <a:pt x="2977" y="4390"/>
                </a:moveTo>
                <a:cubicBezTo>
                  <a:pt x="3043" y="4390"/>
                  <a:pt x="3089" y="4376"/>
                  <a:pt x="3150" y="4366"/>
                </a:cubicBezTo>
                <a:cubicBezTo>
                  <a:pt x="3232" y="4353"/>
                  <a:pt x="3250" y="4359"/>
                  <a:pt x="3324" y="4316"/>
                </a:cubicBezTo>
              </a:path>
              <a:path w="2754" h="1093">
                <a:moveTo>
                  <a:pt x="3398" y="4167"/>
                </a:moveTo>
                <a:cubicBezTo>
                  <a:pt x="3486" y="4153"/>
                  <a:pt x="3540" y="4142"/>
                  <a:pt x="3621" y="4192"/>
                </a:cubicBezTo>
                <a:cubicBezTo>
                  <a:pt x="3709" y="4247"/>
                  <a:pt x="3574" y="4335"/>
                  <a:pt x="3547" y="4366"/>
                </a:cubicBezTo>
                <a:cubicBezTo>
                  <a:pt x="3495" y="4426"/>
                  <a:pt x="3448" y="4466"/>
                  <a:pt x="3448" y="4539"/>
                </a:cubicBezTo>
                <a:cubicBezTo>
                  <a:pt x="3515" y="4580"/>
                  <a:pt x="3551" y="4570"/>
                  <a:pt x="3621" y="4564"/>
                </a:cubicBezTo>
                <a:cubicBezTo>
                  <a:pt x="3701" y="4557"/>
                  <a:pt x="3724" y="4550"/>
                  <a:pt x="3795" y="4514"/>
                </a:cubicBezTo>
              </a:path>
              <a:path w="2754" h="1093">
                <a:moveTo>
                  <a:pt x="4093" y="3522"/>
                </a:moveTo>
                <a:cubicBezTo>
                  <a:pt x="4188" y="3509"/>
                  <a:pt x="4236" y="3497"/>
                  <a:pt x="4316" y="3497"/>
                </a:cubicBezTo>
              </a:path>
              <a:path w="2754" h="1093">
                <a:moveTo>
                  <a:pt x="3969" y="3820"/>
                </a:moveTo>
                <a:cubicBezTo>
                  <a:pt x="4066" y="3841"/>
                  <a:pt x="4143" y="3845"/>
                  <a:pt x="4242" y="3845"/>
                </a:cubicBezTo>
                <a:cubicBezTo>
                  <a:pt x="4275" y="3845"/>
                  <a:pt x="4308" y="3845"/>
                  <a:pt x="4341" y="3845"/>
                </a:cubicBezTo>
                <a:cubicBezTo>
                  <a:pt x="4307" y="3856"/>
                  <a:pt x="4307" y="3893"/>
                  <a:pt x="4291" y="38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51040" y="1089000"/>
            <a:ext cx="1623960" cy="546120"/>
          </a:xfrm>
          <a:custGeom>
            <a:avLst/>
            <a:gdLst/>
            <a:ahLst/>
            <a:rect l="l" t="t" r="r" b="b"/>
            <a:pathLst>
              <a:path w="4515" h="1514">
                <a:moveTo>
                  <a:pt x="5234" y="3795"/>
                </a:moveTo>
                <a:cubicBezTo>
                  <a:pt x="5281" y="3728"/>
                  <a:pt x="5320" y="3676"/>
                  <a:pt x="5333" y="3597"/>
                </a:cubicBezTo>
                <a:cubicBezTo>
                  <a:pt x="5339" y="3560"/>
                  <a:pt x="5337" y="3447"/>
                  <a:pt x="5308" y="3423"/>
                </a:cubicBezTo>
                <a:cubicBezTo>
                  <a:pt x="5261" y="3384"/>
                  <a:pt x="5196" y="3402"/>
                  <a:pt x="5135" y="3423"/>
                </a:cubicBezTo>
                <a:cubicBezTo>
                  <a:pt x="5047" y="3454"/>
                  <a:pt x="4986" y="3548"/>
                  <a:pt x="4936" y="3621"/>
                </a:cubicBezTo>
                <a:cubicBezTo>
                  <a:pt x="4872" y="3715"/>
                  <a:pt x="4862" y="3759"/>
                  <a:pt x="4862" y="3870"/>
                </a:cubicBezTo>
                <a:cubicBezTo>
                  <a:pt x="4862" y="3929"/>
                  <a:pt x="4936" y="3977"/>
                  <a:pt x="4986" y="3994"/>
                </a:cubicBezTo>
                <a:cubicBezTo>
                  <a:pt x="5048" y="4015"/>
                  <a:pt x="5166" y="3971"/>
                  <a:pt x="5209" y="3944"/>
                </a:cubicBezTo>
                <a:cubicBezTo>
                  <a:pt x="5274" y="3903"/>
                  <a:pt x="5361" y="3834"/>
                  <a:pt x="5407" y="3770"/>
                </a:cubicBezTo>
                <a:cubicBezTo>
                  <a:pt x="5454" y="3705"/>
                  <a:pt x="5457" y="3648"/>
                  <a:pt x="5457" y="3572"/>
                </a:cubicBezTo>
                <a:cubicBezTo>
                  <a:pt x="5457" y="3564"/>
                  <a:pt x="5457" y="3555"/>
                  <a:pt x="5457" y="3547"/>
                </a:cubicBezTo>
                <a:cubicBezTo>
                  <a:pt x="5396" y="3562"/>
                  <a:pt x="5403" y="3611"/>
                  <a:pt x="5383" y="3671"/>
                </a:cubicBezTo>
                <a:cubicBezTo>
                  <a:pt x="5343" y="3787"/>
                  <a:pt x="5333" y="3897"/>
                  <a:pt x="5333" y="4018"/>
                </a:cubicBezTo>
                <a:cubicBezTo>
                  <a:pt x="5333" y="4079"/>
                  <a:pt x="5323" y="4121"/>
                  <a:pt x="5358" y="4167"/>
                </a:cubicBezTo>
              </a:path>
              <a:path w="4515" h="1514">
                <a:moveTo>
                  <a:pt x="5606" y="4118"/>
                </a:moveTo>
                <a:cubicBezTo>
                  <a:pt x="5599" y="4166"/>
                  <a:pt x="5598" y="4457"/>
                  <a:pt x="5556" y="4514"/>
                </a:cubicBezTo>
                <a:cubicBezTo>
                  <a:pt x="5531" y="4548"/>
                  <a:pt x="5552" y="4549"/>
                  <a:pt x="5556" y="4514"/>
                </a:cubicBezTo>
                <a:cubicBezTo>
                  <a:pt x="5556" y="4506"/>
                  <a:pt x="5556" y="4498"/>
                  <a:pt x="5556" y="4490"/>
                </a:cubicBezTo>
              </a:path>
              <a:path w="4515" h="1514">
                <a:moveTo>
                  <a:pt x="5804" y="4192"/>
                </a:moveTo>
                <a:cubicBezTo>
                  <a:pt x="5751" y="4245"/>
                  <a:pt x="5681" y="4301"/>
                  <a:pt x="5655" y="4366"/>
                </a:cubicBezTo>
                <a:cubicBezTo>
                  <a:pt x="5688" y="4408"/>
                  <a:pt x="5701" y="4424"/>
                  <a:pt x="5755" y="4440"/>
                </a:cubicBezTo>
                <a:cubicBezTo>
                  <a:pt x="5821" y="4460"/>
                  <a:pt x="5845" y="4472"/>
                  <a:pt x="5904" y="4440"/>
                </a:cubicBezTo>
                <a:cubicBezTo>
                  <a:pt x="5920" y="4432"/>
                  <a:pt x="5937" y="4423"/>
                  <a:pt x="5953" y="4415"/>
                </a:cubicBezTo>
              </a:path>
              <a:path w="4515" h="1514">
                <a:moveTo>
                  <a:pt x="6127" y="4192"/>
                </a:moveTo>
                <a:cubicBezTo>
                  <a:pt x="6112" y="4292"/>
                  <a:pt x="6102" y="4368"/>
                  <a:pt x="6102" y="4465"/>
                </a:cubicBezTo>
                <a:cubicBezTo>
                  <a:pt x="6102" y="4508"/>
                  <a:pt x="6118" y="4506"/>
                  <a:pt x="6152" y="4514"/>
                </a:cubicBezTo>
              </a:path>
              <a:path w="4515" h="1514">
                <a:moveTo>
                  <a:pt x="6077" y="4341"/>
                </a:moveTo>
                <a:cubicBezTo>
                  <a:pt x="6172" y="4341"/>
                  <a:pt x="6237" y="4327"/>
                  <a:pt x="6325" y="4316"/>
                </a:cubicBezTo>
              </a:path>
              <a:path w="4515" h="1514">
                <a:moveTo>
                  <a:pt x="6499" y="4242"/>
                </a:moveTo>
                <a:cubicBezTo>
                  <a:pt x="6484" y="4342"/>
                  <a:pt x="6474" y="4417"/>
                  <a:pt x="6474" y="4514"/>
                </a:cubicBezTo>
                <a:cubicBezTo>
                  <a:pt x="6506" y="4475"/>
                  <a:pt x="6525" y="4437"/>
                  <a:pt x="6548" y="4390"/>
                </a:cubicBezTo>
              </a:path>
              <a:path w="4515" h="1514">
                <a:moveTo>
                  <a:pt x="7045" y="3398"/>
                </a:moveTo>
                <a:cubicBezTo>
                  <a:pt x="7040" y="3551"/>
                  <a:pt x="7022" y="3682"/>
                  <a:pt x="7045" y="3820"/>
                </a:cubicBezTo>
                <a:cubicBezTo>
                  <a:pt x="7054" y="3875"/>
                  <a:pt x="7059" y="3921"/>
                  <a:pt x="7094" y="3944"/>
                </a:cubicBezTo>
              </a:path>
              <a:path w="4515" h="1514">
                <a:moveTo>
                  <a:pt x="6871" y="3820"/>
                </a:moveTo>
                <a:cubicBezTo>
                  <a:pt x="6989" y="3810"/>
                  <a:pt x="7131" y="3786"/>
                  <a:pt x="7243" y="3746"/>
                </a:cubicBezTo>
                <a:cubicBezTo>
                  <a:pt x="7260" y="3738"/>
                  <a:pt x="7276" y="3729"/>
                  <a:pt x="7293" y="3721"/>
                </a:cubicBezTo>
              </a:path>
              <a:path w="4515" h="1514">
                <a:moveTo>
                  <a:pt x="7565" y="3150"/>
                </a:moveTo>
                <a:cubicBezTo>
                  <a:pt x="7686" y="3086"/>
                  <a:pt x="7777" y="3041"/>
                  <a:pt x="7913" y="3026"/>
                </a:cubicBezTo>
                <a:cubicBezTo>
                  <a:pt x="8005" y="3016"/>
                  <a:pt x="8081" y="3030"/>
                  <a:pt x="8086" y="3125"/>
                </a:cubicBezTo>
                <a:cubicBezTo>
                  <a:pt x="8091" y="3218"/>
                  <a:pt x="8073" y="3274"/>
                  <a:pt x="8012" y="3349"/>
                </a:cubicBezTo>
                <a:cubicBezTo>
                  <a:pt x="7944" y="3433"/>
                  <a:pt x="7875" y="3528"/>
                  <a:pt x="7789" y="3597"/>
                </a:cubicBezTo>
                <a:cubicBezTo>
                  <a:pt x="7710" y="3660"/>
                  <a:pt x="7652" y="3722"/>
                  <a:pt x="7590" y="3795"/>
                </a:cubicBezTo>
                <a:cubicBezTo>
                  <a:pt x="7535" y="3860"/>
                  <a:pt x="7575" y="3862"/>
                  <a:pt x="7615" y="3894"/>
                </a:cubicBezTo>
                <a:cubicBezTo>
                  <a:pt x="7708" y="3967"/>
                  <a:pt x="7788" y="3944"/>
                  <a:pt x="7913" y="3944"/>
                </a:cubicBezTo>
                <a:cubicBezTo>
                  <a:pt x="8004" y="3944"/>
                  <a:pt x="8032" y="3960"/>
                  <a:pt x="8086" y="3894"/>
                </a:cubicBezTo>
              </a:path>
              <a:path w="4515" h="1514">
                <a:moveTo>
                  <a:pt x="8731" y="3522"/>
                </a:moveTo>
                <a:cubicBezTo>
                  <a:pt x="8647" y="3490"/>
                  <a:pt x="8613" y="3498"/>
                  <a:pt x="8533" y="3547"/>
                </a:cubicBezTo>
                <a:cubicBezTo>
                  <a:pt x="8429" y="3610"/>
                  <a:pt x="8352" y="3684"/>
                  <a:pt x="8310" y="3795"/>
                </a:cubicBezTo>
                <a:cubicBezTo>
                  <a:pt x="8269" y="3902"/>
                  <a:pt x="8274" y="3929"/>
                  <a:pt x="8384" y="3944"/>
                </a:cubicBezTo>
                <a:cubicBezTo>
                  <a:pt x="8447" y="3953"/>
                  <a:pt x="8444" y="3911"/>
                  <a:pt x="8483" y="3870"/>
                </a:cubicBezTo>
                <a:cubicBezTo>
                  <a:pt x="8530" y="3820"/>
                  <a:pt x="8539" y="3775"/>
                  <a:pt x="8582" y="3721"/>
                </a:cubicBezTo>
                <a:cubicBezTo>
                  <a:pt x="8582" y="3778"/>
                  <a:pt x="8558" y="3901"/>
                  <a:pt x="8607" y="3944"/>
                </a:cubicBezTo>
                <a:cubicBezTo>
                  <a:pt x="8629" y="3963"/>
                  <a:pt x="8725" y="3985"/>
                  <a:pt x="8756" y="3994"/>
                </a:cubicBezTo>
              </a:path>
              <a:path w="4515" h="1514">
                <a:moveTo>
                  <a:pt x="8880" y="3994"/>
                </a:moveTo>
                <a:cubicBezTo>
                  <a:pt x="8876" y="4018"/>
                  <a:pt x="8826" y="4208"/>
                  <a:pt x="8830" y="4242"/>
                </a:cubicBezTo>
                <a:cubicBezTo>
                  <a:pt x="8835" y="4284"/>
                  <a:pt x="8855" y="4297"/>
                  <a:pt x="8855" y="4341"/>
                </a:cubicBezTo>
                <a:cubicBezTo>
                  <a:pt x="8899" y="4341"/>
                  <a:pt x="8895" y="4342"/>
                  <a:pt x="8930" y="4316"/>
                </a:cubicBezTo>
              </a:path>
              <a:path w="4515" h="1514">
                <a:moveTo>
                  <a:pt x="9178" y="3944"/>
                </a:moveTo>
                <a:cubicBezTo>
                  <a:pt x="9125" y="4031"/>
                  <a:pt x="9072" y="4093"/>
                  <a:pt x="8979" y="4142"/>
                </a:cubicBezTo>
                <a:cubicBezTo>
                  <a:pt x="8951" y="4142"/>
                  <a:pt x="8940" y="4144"/>
                  <a:pt x="8930" y="4167"/>
                </a:cubicBezTo>
                <a:cubicBezTo>
                  <a:pt x="8938" y="4201"/>
                  <a:pt x="8967" y="4249"/>
                  <a:pt x="9004" y="4266"/>
                </a:cubicBezTo>
                <a:cubicBezTo>
                  <a:pt x="9089" y="4306"/>
                  <a:pt x="9188" y="4304"/>
                  <a:pt x="9277" y="4341"/>
                </a:cubicBezTo>
                <a:cubicBezTo>
                  <a:pt x="9320" y="4359"/>
                  <a:pt x="9336" y="4380"/>
                  <a:pt x="9376" y="43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3040" y="2116080"/>
            <a:ext cx="1036800" cy="376200"/>
          </a:xfrm>
          <a:custGeom>
            <a:avLst/>
            <a:gdLst/>
            <a:ahLst/>
            <a:rect l="l" t="t" r="r" b="b"/>
            <a:pathLst>
              <a:path w="2878" h="1043">
                <a:moveTo>
                  <a:pt x="1687" y="6176"/>
                </a:moveTo>
                <a:cubicBezTo>
                  <a:pt x="1702" y="6247"/>
                  <a:pt x="1712" y="6282"/>
                  <a:pt x="1712" y="6350"/>
                </a:cubicBezTo>
                <a:cubicBezTo>
                  <a:pt x="1712" y="6297"/>
                  <a:pt x="1695" y="6276"/>
                  <a:pt x="1687" y="6226"/>
                </a:cubicBezTo>
                <a:cubicBezTo>
                  <a:pt x="1676" y="6158"/>
                  <a:pt x="1666" y="6096"/>
                  <a:pt x="1637" y="6028"/>
                </a:cubicBezTo>
                <a:cubicBezTo>
                  <a:pt x="1608" y="5959"/>
                  <a:pt x="1576" y="5924"/>
                  <a:pt x="1513" y="5953"/>
                </a:cubicBezTo>
                <a:cubicBezTo>
                  <a:pt x="1437" y="5989"/>
                  <a:pt x="1390" y="6120"/>
                  <a:pt x="1364" y="6201"/>
                </a:cubicBezTo>
                <a:cubicBezTo>
                  <a:pt x="1319" y="6343"/>
                  <a:pt x="1315" y="6477"/>
                  <a:pt x="1315" y="6623"/>
                </a:cubicBezTo>
                <a:cubicBezTo>
                  <a:pt x="1315" y="6713"/>
                  <a:pt x="1302" y="6777"/>
                  <a:pt x="1364" y="6846"/>
                </a:cubicBezTo>
                <a:cubicBezTo>
                  <a:pt x="1408" y="6895"/>
                  <a:pt x="1426" y="6913"/>
                  <a:pt x="1488" y="6871"/>
                </a:cubicBezTo>
                <a:cubicBezTo>
                  <a:pt x="1527" y="6845"/>
                  <a:pt x="1614" y="6737"/>
                  <a:pt x="1637" y="6697"/>
                </a:cubicBezTo>
                <a:cubicBezTo>
                  <a:pt x="1665" y="6648"/>
                  <a:pt x="1698" y="6506"/>
                  <a:pt x="1736" y="6474"/>
                </a:cubicBezTo>
                <a:cubicBezTo>
                  <a:pt x="1744" y="6474"/>
                  <a:pt x="1753" y="6474"/>
                  <a:pt x="1761" y="6474"/>
                </a:cubicBezTo>
                <a:cubicBezTo>
                  <a:pt x="1761" y="6573"/>
                  <a:pt x="1765" y="6655"/>
                  <a:pt x="1786" y="6747"/>
                </a:cubicBezTo>
                <a:cubicBezTo>
                  <a:pt x="1797" y="6792"/>
                  <a:pt x="1836" y="6842"/>
                  <a:pt x="1885" y="6846"/>
                </a:cubicBezTo>
                <a:cubicBezTo>
                  <a:pt x="1930" y="6846"/>
                  <a:pt x="1943" y="6849"/>
                  <a:pt x="1960" y="6821"/>
                </a:cubicBezTo>
              </a:path>
              <a:path w="2878" h="1043">
                <a:moveTo>
                  <a:pt x="2183" y="6747"/>
                </a:moveTo>
                <a:cubicBezTo>
                  <a:pt x="2177" y="6780"/>
                  <a:pt x="2123" y="6913"/>
                  <a:pt x="2183" y="6921"/>
                </a:cubicBezTo>
                <a:cubicBezTo>
                  <a:pt x="2191" y="6921"/>
                  <a:pt x="2200" y="6921"/>
                  <a:pt x="2208" y="6921"/>
                </a:cubicBezTo>
              </a:path>
              <a:path w="2878" h="1043">
                <a:moveTo>
                  <a:pt x="2580" y="6276"/>
                </a:moveTo>
                <a:cubicBezTo>
                  <a:pt x="2687" y="6276"/>
                  <a:pt x="2795" y="6276"/>
                  <a:pt x="2902" y="6276"/>
                </a:cubicBezTo>
              </a:path>
              <a:path w="2878" h="1043">
                <a:moveTo>
                  <a:pt x="2704" y="6524"/>
                </a:moveTo>
                <a:cubicBezTo>
                  <a:pt x="2728" y="6559"/>
                  <a:pt x="2772" y="6548"/>
                  <a:pt x="2828" y="6548"/>
                </a:cubicBezTo>
                <a:cubicBezTo>
                  <a:pt x="2867" y="6548"/>
                  <a:pt x="2883" y="6524"/>
                  <a:pt x="2927" y="6524"/>
                </a:cubicBezTo>
                <a:cubicBezTo>
                  <a:pt x="2972" y="6524"/>
                  <a:pt x="2945" y="6576"/>
                  <a:pt x="2927" y="6524"/>
                </a:cubicBezTo>
              </a:path>
              <a:path w="2878" h="1043">
                <a:moveTo>
                  <a:pt x="3200" y="6077"/>
                </a:moveTo>
                <a:cubicBezTo>
                  <a:pt x="3237" y="6024"/>
                  <a:pt x="3278" y="5945"/>
                  <a:pt x="3349" y="5928"/>
                </a:cubicBezTo>
                <a:cubicBezTo>
                  <a:pt x="3437" y="5907"/>
                  <a:pt x="3503" y="5883"/>
                  <a:pt x="3597" y="5879"/>
                </a:cubicBezTo>
                <a:cubicBezTo>
                  <a:pt x="3642" y="5877"/>
                  <a:pt x="3717" y="5891"/>
                  <a:pt x="3746" y="5928"/>
                </a:cubicBezTo>
                <a:cubicBezTo>
                  <a:pt x="3791" y="5986"/>
                  <a:pt x="3767" y="6042"/>
                  <a:pt x="3746" y="6102"/>
                </a:cubicBezTo>
                <a:cubicBezTo>
                  <a:pt x="3715" y="6192"/>
                  <a:pt x="3671" y="6269"/>
                  <a:pt x="3621" y="6350"/>
                </a:cubicBezTo>
                <a:cubicBezTo>
                  <a:pt x="3574" y="6425"/>
                  <a:pt x="3523" y="6501"/>
                  <a:pt x="3473" y="6573"/>
                </a:cubicBezTo>
                <a:cubicBezTo>
                  <a:pt x="3449" y="6607"/>
                  <a:pt x="3406" y="6621"/>
                  <a:pt x="3423" y="6672"/>
                </a:cubicBezTo>
                <a:cubicBezTo>
                  <a:pt x="3448" y="6746"/>
                  <a:pt x="3545" y="6735"/>
                  <a:pt x="3597" y="6747"/>
                </a:cubicBezTo>
                <a:cubicBezTo>
                  <a:pt x="3703" y="6772"/>
                  <a:pt x="3814" y="6773"/>
                  <a:pt x="3919" y="6796"/>
                </a:cubicBezTo>
                <a:cubicBezTo>
                  <a:pt x="3987" y="6811"/>
                  <a:pt x="4106" y="6822"/>
                  <a:pt x="4167" y="6846"/>
                </a:cubicBezTo>
                <a:cubicBezTo>
                  <a:pt x="4231" y="6871"/>
                  <a:pt x="4179" y="6843"/>
                  <a:pt x="4142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2830680"/>
            <a:ext cx="374760" cy="277560"/>
          </a:xfrm>
          <a:custGeom>
            <a:avLst/>
            <a:gdLst/>
            <a:ahLst/>
            <a:rect l="l" t="t" r="r" b="b"/>
            <a:pathLst>
              <a:path w="1042" h="770">
                <a:moveTo>
                  <a:pt x="1488" y="8012"/>
                </a:moveTo>
                <a:cubicBezTo>
                  <a:pt x="1460" y="7975"/>
                  <a:pt x="1450" y="7949"/>
                  <a:pt x="1414" y="7913"/>
                </a:cubicBezTo>
                <a:cubicBezTo>
                  <a:pt x="1367" y="7866"/>
                  <a:pt x="1355" y="7844"/>
                  <a:pt x="1290" y="7888"/>
                </a:cubicBezTo>
                <a:cubicBezTo>
                  <a:pt x="1202" y="7947"/>
                  <a:pt x="1131" y="8035"/>
                  <a:pt x="1091" y="8136"/>
                </a:cubicBezTo>
                <a:cubicBezTo>
                  <a:pt x="1065" y="8203"/>
                  <a:pt x="1043" y="8343"/>
                  <a:pt x="1091" y="8409"/>
                </a:cubicBezTo>
                <a:cubicBezTo>
                  <a:pt x="1111" y="8436"/>
                  <a:pt x="1245" y="8400"/>
                  <a:pt x="1265" y="8384"/>
                </a:cubicBezTo>
                <a:cubicBezTo>
                  <a:pt x="1330" y="8334"/>
                  <a:pt x="1405" y="8288"/>
                  <a:pt x="1439" y="8210"/>
                </a:cubicBezTo>
                <a:cubicBezTo>
                  <a:pt x="1465" y="8149"/>
                  <a:pt x="1472" y="8112"/>
                  <a:pt x="1513" y="8062"/>
                </a:cubicBezTo>
                <a:cubicBezTo>
                  <a:pt x="1503" y="8147"/>
                  <a:pt x="1488" y="8222"/>
                  <a:pt x="1488" y="8310"/>
                </a:cubicBezTo>
                <a:cubicBezTo>
                  <a:pt x="1488" y="8391"/>
                  <a:pt x="1488" y="8463"/>
                  <a:pt x="1513" y="8533"/>
                </a:cubicBezTo>
                <a:cubicBezTo>
                  <a:pt x="1529" y="8579"/>
                  <a:pt x="1564" y="8627"/>
                  <a:pt x="1612" y="8632"/>
                </a:cubicBezTo>
                <a:cubicBezTo>
                  <a:pt x="1620" y="8632"/>
                  <a:pt x="1629" y="8632"/>
                  <a:pt x="1637" y="8632"/>
                </a:cubicBezTo>
              </a:path>
              <a:path w="1042" h="770">
                <a:moveTo>
                  <a:pt x="1836" y="8235"/>
                </a:moveTo>
                <a:cubicBezTo>
                  <a:pt x="1897" y="8240"/>
                  <a:pt x="1995" y="8234"/>
                  <a:pt x="1984" y="8334"/>
                </a:cubicBezTo>
                <a:cubicBezTo>
                  <a:pt x="1977" y="8398"/>
                  <a:pt x="1925" y="8453"/>
                  <a:pt x="1910" y="8508"/>
                </a:cubicBezTo>
                <a:cubicBezTo>
                  <a:pt x="1889" y="8585"/>
                  <a:pt x="1929" y="8623"/>
                  <a:pt x="2009" y="8607"/>
                </a:cubicBezTo>
                <a:cubicBezTo>
                  <a:pt x="2059" y="8582"/>
                  <a:pt x="2075" y="8574"/>
                  <a:pt x="2108" y="85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2080" y="2759040"/>
            <a:ext cx="509760" cy="349200"/>
          </a:xfrm>
          <a:custGeom>
            <a:avLst/>
            <a:gdLst/>
            <a:ahLst/>
            <a:rect l="l" t="t" r="r" b="b"/>
            <a:pathLst>
              <a:path w="1415" h="968">
                <a:moveTo>
                  <a:pt x="2480" y="8111"/>
                </a:moveTo>
                <a:cubicBezTo>
                  <a:pt x="2569" y="8093"/>
                  <a:pt x="2639" y="8086"/>
                  <a:pt x="2729" y="8086"/>
                </a:cubicBezTo>
              </a:path>
              <a:path w="1415" h="968">
                <a:moveTo>
                  <a:pt x="2505" y="8384"/>
                </a:moveTo>
                <a:cubicBezTo>
                  <a:pt x="2577" y="8427"/>
                  <a:pt x="2646" y="8409"/>
                  <a:pt x="2729" y="8384"/>
                </a:cubicBezTo>
                <a:cubicBezTo>
                  <a:pt x="2821" y="8357"/>
                  <a:pt x="2893" y="8329"/>
                  <a:pt x="2977" y="8285"/>
                </a:cubicBezTo>
              </a:path>
              <a:path w="1415" h="968">
                <a:moveTo>
                  <a:pt x="3448" y="7665"/>
                </a:moveTo>
                <a:cubicBezTo>
                  <a:pt x="3407" y="7821"/>
                  <a:pt x="3308" y="7985"/>
                  <a:pt x="3274" y="8136"/>
                </a:cubicBezTo>
                <a:cubicBezTo>
                  <a:pt x="3258" y="8207"/>
                  <a:pt x="3256" y="8341"/>
                  <a:pt x="3324" y="8384"/>
                </a:cubicBezTo>
                <a:cubicBezTo>
                  <a:pt x="3434" y="8454"/>
                  <a:pt x="3571" y="8494"/>
                  <a:pt x="3696" y="8434"/>
                </a:cubicBezTo>
                <a:cubicBezTo>
                  <a:pt x="3764" y="8401"/>
                  <a:pt x="3873" y="8312"/>
                  <a:pt x="3894" y="8235"/>
                </a:cubicBezTo>
                <a:cubicBezTo>
                  <a:pt x="3894" y="8219"/>
                  <a:pt x="3894" y="8202"/>
                  <a:pt x="3894" y="8186"/>
                </a:cubicBezTo>
                <a:cubicBezTo>
                  <a:pt x="3848" y="8151"/>
                  <a:pt x="3800" y="8147"/>
                  <a:pt x="3746" y="8186"/>
                </a:cubicBezTo>
                <a:cubicBezTo>
                  <a:pt x="3679" y="8234"/>
                  <a:pt x="3606" y="8306"/>
                  <a:pt x="3597" y="8384"/>
                </a:cubicBezTo>
                <a:cubicBezTo>
                  <a:pt x="3591" y="8438"/>
                  <a:pt x="3604" y="8519"/>
                  <a:pt x="3646" y="8558"/>
                </a:cubicBezTo>
                <a:cubicBezTo>
                  <a:pt x="3696" y="8582"/>
                  <a:pt x="3713" y="8590"/>
                  <a:pt x="3721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6840" y="3500280"/>
            <a:ext cx="392040" cy="330480"/>
          </a:xfrm>
          <a:custGeom>
            <a:avLst/>
            <a:gdLst/>
            <a:ahLst/>
            <a:rect l="l" t="t" r="r" b="b"/>
            <a:pathLst>
              <a:path w="1092" h="919">
                <a:moveTo>
                  <a:pt x="1488" y="9922"/>
                </a:moveTo>
                <a:cubicBezTo>
                  <a:pt x="1488" y="10055"/>
                  <a:pt x="1491" y="9879"/>
                  <a:pt x="1488" y="9872"/>
                </a:cubicBezTo>
                <a:cubicBezTo>
                  <a:pt x="1470" y="9828"/>
                  <a:pt x="1420" y="9798"/>
                  <a:pt x="1389" y="9773"/>
                </a:cubicBezTo>
                <a:cubicBezTo>
                  <a:pt x="1353" y="9744"/>
                  <a:pt x="1279" y="9709"/>
                  <a:pt x="1240" y="9748"/>
                </a:cubicBezTo>
                <a:cubicBezTo>
                  <a:pt x="1162" y="9826"/>
                  <a:pt x="1105" y="9909"/>
                  <a:pt x="1067" y="10021"/>
                </a:cubicBezTo>
                <a:cubicBezTo>
                  <a:pt x="1037" y="10109"/>
                  <a:pt x="989" y="10249"/>
                  <a:pt x="1017" y="10344"/>
                </a:cubicBezTo>
                <a:cubicBezTo>
                  <a:pt x="1041" y="10425"/>
                  <a:pt x="1176" y="10381"/>
                  <a:pt x="1215" y="10368"/>
                </a:cubicBezTo>
                <a:cubicBezTo>
                  <a:pt x="1300" y="10339"/>
                  <a:pt x="1393" y="10207"/>
                  <a:pt x="1414" y="10120"/>
                </a:cubicBezTo>
                <a:cubicBezTo>
                  <a:pt x="1429" y="10058"/>
                  <a:pt x="1423" y="9975"/>
                  <a:pt x="1463" y="9947"/>
                </a:cubicBezTo>
                <a:cubicBezTo>
                  <a:pt x="1463" y="10053"/>
                  <a:pt x="1476" y="10143"/>
                  <a:pt x="1488" y="10244"/>
                </a:cubicBezTo>
                <a:cubicBezTo>
                  <a:pt x="1497" y="10325"/>
                  <a:pt x="1506" y="10355"/>
                  <a:pt x="1563" y="10418"/>
                </a:cubicBezTo>
                <a:cubicBezTo>
                  <a:pt x="1571" y="10426"/>
                  <a:pt x="1580" y="10435"/>
                  <a:pt x="1588" y="10443"/>
                </a:cubicBezTo>
              </a:path>
              <a:path w="1092" h="919">
                <a:moveTo>
                  <a:pt x="1860" y="10145"/>
                </a:moveTo>
                <a:cubicBezTo>
                  <a:pt x="1971" y="10145"/>
                  <a:pt x="2012" y="10123"/>
                  <a:pt x="2084" y="10195"/>
                </a:cubicBezTo>
                <a:cubicBezTo>
                  <a:pt x="2046" y="10232"/>
                  <a:pt x="2012" y="10276"/>
                  <a:pt x="1960" y="10294"/>
                </a:cubicBezTo>
                <a:cubicBezTo>
                  <a:pt x="1952" y="10294"/>
                  <a:pt x="1943" y="10294"/>
                  <a:pt x="1935" y="10294"/>
                </a:cubicBezTo>
                <a:cubicBezTo>
                  <a:pt x="1950" y="10324"/>
                  <a:pt x="1996" y="10369"/>
                  <a:pt x="2034" y="10393"/>
                </a:cubicBezTo>
                <a:cubicBezTo>
                  <a:pt x="2082" y="10424"/>
                  <a:pt x="2136" y="10472"/>
                  <a:pt x="2108" y="10542"/>
                </a:cubicBezTo>
                <a:cubicBezTo>
                  <a:pt x="2087" y="10594"/>
                  <a:pt x="2003" y="10619"/>
                  <a:pt x="1960" y="10641"/>
                </a:cubicBezTo>
                <a:cubicBezTo>
                  <a:pt x="1960" y="10570"/>
                  <a:pt x="1957" y="10579"/>
                  <a:pt x="2009" y="105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11160" y="3643200"/>
            <a:ext cx="61920" cy="71640"/>
          </a:xfrm>
          <a:custGeom>
            <a:avLst/>
            <a:gdLst/>
            <a:ahLst/>
            <a:rect l="l" t="t" r="r" b="b"/>
            <a:pathLst>
              <a:path w="175" h="200">
                <a:moveTo>
                  <a:pt x="2530" y="10120"/>
                </a:moveTo>
                <a:cubicBezTo>
                  <a:pt x="2604" y="10139"/>
                  <a:pt x="2611" y="10147"/>
                  <a:pt x="2654" y="10145"/>
                </a:cubicBezTo>
              </a:path>
              <a:path w="175" h="200">
                <a:moveTo>
                  <a:pt x="2530" y="10269"/>
                </a:moveTo>
                <a:cubicBezTo>
                  <a:pt x="2616" y="10316"/>
                  <a:pt x="2613" y="10319"/>
                  <a:pt x="2704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68280" y="3500280"/>
            <a:ext cx="366840" cy="374760"/>
          </a:xfrm>
          <a:custGeom>
            <a:avLst/>
            <a:gdLst/>
            <a:ahLst/>
            <a:rect l="l" t="t" r="r" b="b"/>
            <a:pathLst>
              <a:path w="1018" h="1043">
                <a:moveTo>
                  <a:pt x="3671" y="9748"/>
                </a:moveTo>
                <a:cubicBezTo>
                  <a:pt x="3671" y="9689"/>
                  <a:pt x="3650" y="9927"/>
                  <a:pt x="3646" y="9947"/>
                </a:cubicBezTo>
                <a:cubicBezTo>
                  <a:pt x="3626" y="10045"/>
                  <a:pt x="3640" y="10147"/>
                  <a:pt x="3621" y="10244"/>
                </a:cubicBezTo>
                <a:cubicBezTo>
                  <a:pt x="3603" y="10334"/>
                  <a:pt x="3594" y="10429"/>
                  <a:pt x="3572" y="10517"/>
                </a:cubicBezTo>
                <a:cubicBezTo>
                  <a:pt x="3559" y="10570"/>
                  <a:pt x="3561" y="10705"/>
                  <a:pt x="3522" y="10666"/>
                </a:cubicBezTo>
                <a:cubicBezTo>
                  <a:pt x="3522" y="10633"/>
                  <a:pt x="3522" y="10617"/>
                  <a:pt x="3522" y="10592"/>
                </a:cubicBezTo>
              </a:path>
              <a:path w="1018" h="1043">
                <a:moveTo>
                  <a:pt x="3944" y="9773"/>
                </a:moveTo>
                <a:cubicBezTo>
                  <a:pt x="3944" y="9885"/>
                  <a:pt x="3928" y="9987"/>
                  <a:pt x="3919" y="10096"/>
                </a:cubicBezTo>
                <a:cubicBezTo>
                  <a:pt x="3905" y="10267"/>
                  <a:pt x="3902" y="10475"/>
                  <a:pt x="3944" y="10641"/>
                </a:cubicBezTo>
                <a:cubicBezTo>
                  <a:pt x="3965" y="10726"/>
                  <a:pt x="4041" y="10762"/>
                  <a:pt x="4118" y="10765"/>
                </a:cubicBezTo>
                <a:cubicBezTo>
                  <a:pt x="4210" y="10769"/>
                  <a:pt x="4323" y="10735"/>
                  <a:pt x="4390" y="10666"/>
                </a:cubicBezTo>
                <a:cubicBezTo>
                  <a:pt x="4475" y="10578"/>
                  <a:pt x="4530" y="10414"/>
                  <a:pt x="4539" y="10294"/>
                </a:cubicBezTo>
                <a:cubicBezTo>
                  <a:pt x="4550" y="10149"/>
                  <a:pt x="4525" y="9982"/>
                  <a:pt x="4415" y="9872"/>
                </a:cubicBezTo>
                <a:cubicBezTo>
                  <a:pt x="4333" y="9790"/>
                  <a:pt x="4255" y="9752"/>
                  <a:pt x="4142" y="9748"/>
                </a:cubicBezTo>
                <a:cubicBezTo>
                  <a:pt x="4068" y="9748"/>
                  <a:pt x="4043" y="9748"/>
                  <a:pt x="3994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6840" y="4106880"/>
            <a:ext cx="1384200" cy="509400"/>
          </a:xfrm>
          <a:custGeom>
            <a:avLst/>
            <a:gdLst/>
            <a:ahLst/>
            <a:rect l="l" t="t" r="r" b="b"/>
            <a:pathLst>
              <a:path w="3846" h="1415">
                <a:moveTo>
                  <a:pt x="1414" y="11857"/>
                </a:moveTo>
                <a:cubicBezTo>
                  <a:pt x="1400" y="11788"/>
                  <a:pt x="1389" y="11732"/>
                  <a:pt x="1389" y="11658"/>
                </a:cubicBezTo>
                <a:cubicBezTo>
                  <a:pt x="1389" y="11575"/>
                  <a:pt x="1396" y="11524"/>
                  <a:pt x="1339" y="11460"/>
                </a:cubicBezTo>
                <a:cubicBezTo>
                  <a:pt x="1312" y="11429"/>
                  <a:pt x="1301" y="11419"/>
                  <a:pt x="1265" y="11410"/>
                </a:cubicBezTo>
                <a:cubicBezTo>
                  <a:pt x="1197" y="11459"/>
                  <a:pt x="1147" y="11550"/>
                  <a:pt x="1116" y="11633"/>
                </a:cubicBezTo>
                <a:cubicBezTo>
                  <a:pt x="1066" y="11767"/>
                  <a:pt x="1022" y="11886"/>
                  <a:pt x="1017" y="12030"/>
                </a:cubicBezTo>
                <a:cubicBezTo>
                  <a:pt x="1015" y="12106"/>
                  <a:pt x="1005" y="12241"/>
                  <a:pt x="1091" y="12278"/>
                </a:cubicBezTo>
                <a:cubicBezTo>
                  <a:pt x="1138" y="12299"/>
                  <a:pt x="1190" y="12269"/>
                  <a:pt x="1215" y="12229"/>
                </a:cubicBezTo>
                <a:cubicBezTo>
                  <a:pt x="1256" y="12165"/>
                  <a:pt x="1322" y="12081"/>
                  <a:pt x="1339" y="12005"/>
                </a:cubicBezTo>
                <a:cubicBezTo>
                  <a:pt x="1353" y="11940"/>
                  <a:pt x="1326" y="11956"/>
                  <a:pt x="1364" y="11906"/>
                </a:cubicBezTo>
                <a:cubicBezTo>
                  <a:pt x="1349" y="11983"/>
                  <a:pt x="1339" y="12046"/>
                  <a:pt x="1339" y="12129"/>
                </a:cubicBezTo>
                <a:cubicBezTo>
                  <a:pt x="1339" y="12216"/>
                  <a:pt x="1331" y="12282"/>
                  <a:pt x="1389" y="12353"/>
                </a:cubicBezTo>
                <a:cubicBezTo>
                  <a:pt x="1434" y="12408"/>
                  <a:pt x="1424" y="12404"/>
                  <a:pt x="1488" y="12353"/>
                </a:cubicBezTo>
              </a:path>
              <a:path w="3846" h="1415">
                <a:moveTo>
                  <a:pt x="1712" y="12129"/>
                </a:moveTo>
                <a:cubicBezTo>
                  <a:pt x="1693" y="12182"/>
                  <a:pt x="1643" y="12253"/>
                  <a:pt x="1637" y="12303"/>
                </a:cubicBezTo>
                <a:cubicBezTo>
                  <a:pt x="1637" y="12311"/>
                  <a:pt x="1637" y="12320"/>
                  <a:pt x="1637" y="12328"/>
                </a:cubicBezTo>
                <a:cubicBezTo>
                  <a:pt x="1683" y="12328"/>
                  <a:pt x="1696" y="12308"/>
                  <a:pt x="1736" y="12303"/>
                </a:cubicBezTo>
                <a:cubicBezTo>
                  <a:pt x="1786" y="12297"/>
                  <a:pt x="1852" y="12328"/>
                  <a:pt x="1910" y="12328"/>
                </a:cubicBezTo>
                <a:cubicBezTo>
                  <a:pt x="1943" y="12328"/>
                  <a:pt x="1959" y="12328"/>
                  <a:pt x="1984" y="12328"/>
                </a:cubicBezTo>
              </a:path>
              <a:path w="3846" h="1415">
                <a:moveTo>
                  <a:pt x="1984" y="11981"/>
                </a:moveTo>
                <a:cubicBezTo>
                  <a:pt x="1950" y="12158"/>
                  <a:pt x="1929" y="12328"/>
                  <a:pt x="1885" y="12502"/>
                </a:cubicBezTo>
                <a:cubicBezTo>
                  <a:pt x="1857" y="12614"/>
                  <a:pt x="1861" y="12648"/>
                  <a:pt x="1885" y="12750"/>
                </a:cubicBezTo>
                <a:cubicBezTo>
                  <a:pt x="1895" y="12794"/>
                  <a:pt x="1902" y="12773"/>
                  <a:pt x="1935" y="12750"/>
                </a:cubicBezTo>
              </a:path>
              <a:path w="3846" h="1415">
                <a:moveTo>
                  <a:pt x="2456" y="12105"/>
                </a:moveTo>
                <a:cubicBezTo>
                  <a:pt x="2569" y="12105"/>
                  <a:pt x="2658" y="12106"/>
                  <a:pt x="2753" y="12080"/>
                </a:cubicBezTo>
                <a:cubicBezTo>
                  <a:pt x="2761" y="12080"/>
                  <a:pt x="2770" y="12080"/>
                  <a:pt x="2778" y="12080"/>
                </a:cubicBezTo>
              </a:path>
              <a:path w="3846" h="1415">
                <a:moveTo>
                  <a:pt x="2580" y="12427"/>
                </a:moveTo>
                <a:cubicBezTo>
                  <a:pt x="2662" y="12444"/>
                  <a:pt x="2720" y="12452"/>
                  <a:pt x="2803" y="12452"/>
                </a:cubicBezTo>
              </a:path>
              <a:path w="3846" h="1415">
                <a:moveTo>
                  <a:pt x="3324" y="11782"/>
                </a:moveTo>
                <a:cubicBezTo>
                  <a:pt x="3375" y="11776"/>
                  <a:pt x="3424" y="11769"/>
                  <a:pt x="3473" y="11757"/>
                </a:cubicBezTo>
                <a:cubicBezTo>
                  <a:pt x="3578" y="11730"/>
                  <a:pt x="3665" y="11719"/>
                  <a:pt x="3770" y="11757"/>
                </a:cubicBezTo>
                <a:cubicBezTo>
                  <a:pt x="3852" y="11787"/>
                  <a:pt x="3889" y="11845"/>
                  <a:pt x="3870" y="11931"/>
                </a:cubicBezTo>
                <a:cubicBezTo>
                  <a:pt x="3847" y="12037"/>
                  <a:pt x="3734" y="12144"/>
                  <a:pt x="3671" y="12229"/>
                </a:cubicBezTo>
                <a:cubicBezTo>
                  <a:pt x="3592" y="12336"/>
                  <a:pt x="3483" y="12435"/>
                  <a:pt x="3423" y="12551"/>
                </a:cubicBezTo>
                <a:cubicBezTo>
                  <a:pt x="3384" y="12626"/>
                  <a:pt x="3361" y="12677"/>
                  <a:pt x="3398" y="12750"/>
                </a:cubicBezTo>
                <a:cubicBezTo>
                  <a:pt x="3427" y="12807"/>
                  <a:pt x="3543" y="12832"/>
                  <a:pt x="3597" y="12824"/>
                </a:cubicBezTo>
                <a:cubicBezTo>
                  <a:pt x="3762" y="12798"/>
                  <a:pt x="3893" y="12711"/>
                  <a:pt x="3994" y="12576"/>
                </a:cubicBezTo>
                <a:cubicBezTo>
                  <a:pt x="4027" y="12518"/>
                  <a:pt x="4060" y="12460"/>
                  <a:pt x="4093" y="12402"/>
                </a:cubicBezTo>
              </a:path>
              <a:path w="3846" h="1415">
                <a:moveTo>
                  <a:pt x="4142" y="11807"/>
                </a:moveTo>
                <a:cubicBezTo>
                  <a:pt x="4354" y="11733"/>
                  <a:pt x="4466" y="11653"/>
                  <a:pt x="4663" y="11782"/>
                </a:cubicBezTo>
                <a:cubicBezTo>
                  <a:pt x="4724" y="11822"/>
                  <a:pt x="4729" y="11846"/>
                  <a:pt x="4738" y="11906"/>
                </a:cubicBezTo>
              </a:path>
              <a:path w="3846" h="1415">
                <a:moveTo>
                  <a:pt x="4638" y="11981"/>
                </a:moveTo>
                <a:cubicBezTo>
                  <a:pt x="4418" y="12124"/>
                  <a:pt x="4185" y="12250"/>
                  <a:pt x="4018" y="12452"/>
                </a:cubicBezTo>
                <a:cubicBezTo>
                  <a:pt x="3937" y="12550"/>
                  <a:pt x="3847" y="12673"/>
                  <a:pt x="3994" y="12774"/>
                </a:cubicBezTo>
                <a:cubicBezTo>
                  <a:pt x="4099" y="12846"/>
                  <a:pt x="4354" y="12815"/>
                  <a:pt x="4465" y="12799"/>
                </a:cubicBezTo>
                <a:cubicBezTo>
                  <a:pt x="4595" y="12780"/>
                  <a:pt x="4714" y="12733"/>
                  <a:pt x="4837" y="12700"/>
                </a:cubicBezTo>
                <a:cubicBezTo>
                  <a:pt x="4845" y="12700"/>
                  <a:pt x="4854" y="12700"/>
                  <a:pt x="4862" y="127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848120"/>
            <a:ext cx="733320" cy="482760"/>
          </a:xfrm>
          <a:custGeom>
            <a:avLst/>
            <a:gdLst/>
            <a:ahLst/>
            <a:rect l="l" t="t" r="r" b="b"/>
            <a:pathLst>
              <a:path w="2035" h="1340">
                <a:moveTo>
                  <a:pt x="1712" y="13866"/>
                </a:moveTo>
                <a:cubicBezTo>
                  <a:pt x="1693" y="13758"/>
                  <a:pt x="1685" y="13667"/>
                  <a:pt x="1637" y="13568"/>
                </a:cubicBezTo>
                <a:cubicBezTo>
                  <a:pt x="1616" y="13523"/>
                  <a:pt x="1597" y="13503"/>
                  <a:pt x="1563" y="13469"/>
                </a:cubicBezTo>
                <a:cubicBezTo>
                  <a:pt x="1448" y="13533"/>
                  <a:pt x="1362" y="13603"/>
                  <a:pt x="1290" y="13717"/>
                </a:cubicBezTo>
                <a:cubicBezTo>
                  <a:pt x="1195" y="13868"/>
                  <a:pt x="1170" y="13988"/>
                  <a:pt x="1215" y="14163"/>
                </a:cubicBezTo>
                <a:cubicBezTo>
                  <a:pt x="1232" y="14228"/>
                  <a:pt x="1275" y="14341"/>
                  <a:pt x="1364" y="14337"/>
                </a:cubicBezTo>
                <a:cubicBezTo>
                  <a:pt x="1460" y="14333"/>
                  <a:pt x="1477" y="14234"/>
                  <a:pt x="1513" y="14163"/>
                </a:cubicBezTo>
                <a:cubicBezTo>
                  <a:pt x="1532" y="14125"/>
                  <a:pt x="1538" y="13977"/>
                  <a:pt x="1538" y="14089"/>
                </a:cubicBezTo>
                <a:cubicBezTo>
                  <a:pt x="1538" y="14195"/>
                  <a:pt x="1518" y="14313"/>
                  <a:pt x="1563" y="14412"/>
                </a:cubicBezTo>
                <a:cubicBezTo>
                  <a:pt x="1600" y="14493"/>
                  <a:pt x="1676" y="14576"/>
                  <a:pt x="1761" y="14585"/>
                </a:cubicBezTo>
                <a:cubicBezTo>
                  <a:pt x="1778" y="14585"/>
                  <a:pt x="1794" y="14585"/>
                  <a:pt x="1811" y="14585"/>
                </a:cubicBezTo>
              </a:path>
              <a:path w="2035" h="1340">
                <a:moveTo>
                  <a:pt x="2133" y="14139"/>
                </a:moveTo>
                <a:cubicBezTo>
                  <a:pt x="2220" y="14146"/>
                  <a:pt x="2359" y="14184"/>
                  <a:pt x="2406" y="14114"/>
                </a:cubicBezTo>
              </a:path>
              <a:path w="2035" h="1340">
                <a:moveTo>
                  <a:pt x="2009" y="14213"/>
                </a:moveTo>
                <a:cubicBezTo>
                  <a:pt x="2085" y="14374"/>
                  <a:pt x="2173" y="14426"/>
                  <a:pt x="2307" y="14536"/>
                </a:cubicBezTo>
                <a:cubicBezTo>
                  <a:pt x="2362" y="14581"/>
                  <a:pt x="2422" y="14668"/>
                  <a:pt x="2356" y="14734"/>
                </a:cubicBezTo>
                <a:cubicBezTo>
                  <a:pt x="2286" y="14805"/>
                  <a:pt x="2186" y="14791"/>
                  <a:pt x="2108" y="14784"/>
                </a:cubicBezTo>
                <a:cubicBezTo>
                  <a:pt x="2044" y="14778"/>
                  <a:pt x="1970" y="14737"/>
                  <a:pt x="1984" y="14660"/>
                </a:cubicBezTo>
                <a:cubicBezTo>
                  <a:pt x="2009" y="14585"/>
                  <a:pt x="2017" y="14561"/>
                  <a:pt x="2034" y="14511"/>
                </a:cubicBezTo>
              </a:path>
              <a:path w="2035" h="1340">
                <a:moveTo>
                  <a:pt x="2704" y="13990"/>
                </a:moveTo>
                <a:cubicBezTo>
                  <a:pt x="2866" y="13974"/>
                  <a:pt x="3014" y="13965"/>
                  <a:pt x="3175" y="13965"/>
                </a:cubicBezTo>
              </a:path>
              <a:path w="2035" h="1340">
                <a:moveTo>
                  <a:pt x="2902" y="14188"/>
                </a:moveTo>
                <a:cubicBezTo>
                  <a:pt x="3053" y="14270"/>
                  <a:pt x="3076" y="14300"/>
                  <a:pt x="3225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01840" y="4830840"/>
            <a:ext cx="750960" cy="473040"/>
          </a:xfrm>
          <a:custGeom>
            <a:avLst/>
            <a:gdLst/>
            <a:ahLst/>
            <a:rect l="l" t="t" r="r" b="b"/>
            <a:pathLst>
              <a:path w="2085" h="1316">
                <a:moveTo>
                  <a:pt x="4118" y="13519"/>
                </a:moveTo>
                <a:cubicBezTo>
                  <a:pt x="4166" y="13552"/>
                  <a:pt x="4119" y="13631"/>
                  <a:pt x="4093" y="13692"/>
                </a:cubicBezTo>
                <a:cubicBezTo>
                  <a:pt x="4058" y="13774"/>
                  <a:pt x="3997" y="13828"/>
                  <a:pt x="3944" y="13891"/>
                </a:cubicBezTo>
                <a:cubicBezTo>
                  <a:pt x="3907" y="13935"/>
                  <a:pt x="3914" y="13951"/>
                  <a:pt x="3919" y="13965"/>
                </a:cubicBezTo>
                <a:cubicBezTo>
                  <a:pt x="3941" y="14031"/>
                  <a:pt x="3911" y="14000"/>
                  <a:pt x="3994" y="14039"/>
                </a:cubicBezTo>
                <a:cubicBezTo>
                  <a:pt x="4063" y="14072"/>
                  <a:pt x="4115" y="14110"/>
                  <a:pt x="4192" y="14114"/>
                </a:cubicBezTo>
                <a:cubicBezTo>
                  <a:pt x="4294" y="14120"/>
                  <a:pt x="4328" y="14077"/>
                  <a:pt x="4415" y="14015"/>
                </a:cubicBezTo>
              </a:path>
              <a:path w="2085" h="1316">
                <a:moveTo>
                  <a:pt x="4614" y="13419"/>
                </a:moveTo>
                <a:cubicBezTo>
                  <a:pt x="4552" y="13630"/>
                  <a:pt x="4505" y="13824"/>
                  <a:pt x="4465" y="14039"/>
                </a:cubicBezTo>
                <a:cubicBezTo>
                  <a:pt x="4435" y="14197"/>
                  <a:pt x="4440" y="14350"/>
                  <a:pt x="4440" y="14511"/>
                </a:cubicBezTo>
                <a:cubicBezTo>
                  <a:pt x="4440" y="14585"/>
                  <a:pt x="4440" y="14660"/>
                  <a:pt x="4440" y="14734"/>
                </a:cubicBezTo>
              </a:path>
              <a:path w="2085" h="1316">
                <a:moveTo>
                  <a:pt x="4961" y="13593"/>
                </a:moveTo>
                <a:cubicBezTo>
                  <a:pt x="5189" y="13613"/>
                  <a:pt x="5149" y="13612"/>
                  <a:pt x="5283" y="13767"/>
                </a:cubicBezTo>
                <a:cubicBezTo>
                  <a:pt x="5357" y="13853"/>
                  <a:pt x="5340" y="13931"/>
                  <a:pt x="5308" y="14039"/>
                </a:cubicBezTo>
                <a:cubicBezTo>
                  <a:pt x="5274" y="14153"/>
                  <a:pt x="5195" y="14214"/>
                  <a:pt x="5135" y="14312"/>
                </a:cubicBezTo>
                <a:cubicBezTo>
                  <a:pt x="5097" y="14374"/>
                  <a:pt x="5040" y="14427"/>
                  <a:pt x="5011" y="14486"/>
                </a:cubicBezTo>
                <a:cubicBezTo>
                  <a:pt x="5011" y="14494"/>
                  <a:pt x="5011" y="14503"/>
                  <a:pt x="5011" y="14511"/>
                </a:cubicBezTo>
                <a:cubicBezTo>
                  <a:pt x="5070" y="14541"/>
                  <a:pt x="5108" y="14536"/>
                  <a:pt x="5184" y="14536"/>
                </a:cubicBezTo>
                <a:cubicBezTo>
                  <a:pt x="5284" y="14536"/>
                  <a:pt x="5385" y="14529"/>
                  <a:pt x="5482" y="14511"/>
                </a:cubicBezTo>
                <a:cubicBezTo>
                  <a:pt x="5624" y="14485"/>
                  <a:pt x="5694" y="14492"/>
                  <a:pt x="5829" y="14536"/>
                </a:cubicBezTo>
                <a:cubicBezTo>
                  <a:pt x="5860" y="14546"/>
                  <a:pt x="5938" y="14576"/>
                  <a:pt x="5978" y="14560"/>
                </a:cubicBezTo>
                <a:cubicBezTo>
                  <a:pt x="5978" y="14552"/>
                  <a:pt x="5978" y="14544"/>
                  <a:pt x="5978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Lesson 9.1</a:t>
            </a:r>
            <a:br>
              <a:rPr sz="7500"/>
            </a:br>
            <a:r>
              <a:rPr b="0" lang="en-US" sz="7500" spc="-1" strike="noStrike">
                <a:solidFill>
                  <a:srgbClr val="007d8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, 4, 6, 8, 10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6040" y="2554200"/>
            <a:ext cx="1384200" cy="2830680"/>
          </a:xfrm>
          <a:custGeom>
            <a:avLst/>
            <a:gdLst/>
            <a:ahLst/>
            <a:rect l="l" t="t" r="r" b="b"/>
            <a:pathLst>
              <a:path w="3846" h="7864">
                <a:moveTo>
                  <a:pt x="2828" y="7094"/>
                </a:moveTo>
                <a:cubicBezTo>
                  <a:pt x="2819" y="7151"/>
                  <a:pt x="2811" y="7188"/>
                  <a:pt x="2803" y="7243"/>
                </a:cubicBezTo>
                <a:cubicBezTo>
                  <a:pt x="2791" y="7323"/>
                  <a:pt x="2783" y="7411"/>
                  <a:pt x="2778" y="7491"/>
                </a:cubicBezTo>
                <a:cubicBezTo>
                  <a:pt x="2722" y="8453"/>
                  <a:pt x="2763" y="9431"/>
                  <a:pt x="2729" y="10393"/>
                </a:cubicBezTo>
                <a:cubicBezTo>
                  <a:pt x="2714" y="10816"/>
                  <a:pt x="2714" y="11236"/>
                  <a:pt x="2679" y="11658"/>
                </a:cubicBezTo>
                <a:cubicBezTo>
                  <a:pt x="2646" y="12047"/>
                  <a:pt x="2588" y="12436"/>
                  <a:pt x="2555" y="12824"/>
                </a:cubicBezTo>
                <a:cubicBezTo>
                  <a:pt x="2512" y="13322"/>
                  <a:pt x="2433" y="13824"/>
                  <a:pt x="2332" y="14312"/>
                </a:cubicBezTo>
                <a:cubicBezTo>
                  <a:pt x="2300" y="14469"/>
                  <a:pt x="2274" y="14649"/>
                  <a:pt x="2257" y="14808"/>
                </a:cubicBezTo>
                <a:cubicBezTo>
                  <a:pt x="2249" y="14883"/>
                  <a:pt x="2261" y="14810"/>
                  <a:pt x="2282" y="14883"/>
                </a:cubicBezTo>
              </a:path>
              <a:path w="3846" h="7864">
                <a:moveTo>
                  <a:pt x="1315" y="7987"/>
                </a:moveTo>
                <a:cubicBezTo>
                  <a:pt x="1285" y="7970"/>
                  <a:pt x="1269" y="7957"/>
                  <a:pt x="1240" y="7938"/>
                </a:cubicBezTo>
                <a:cubicBezTo>
                  <a:pt x="1607" y="7938"/>
                  <a:pt x="1967" y="7913"/>
                  <a:pt x="2332" y="7913"/>
                </a:cubicBezTo>
                <a:cubicBezTo>
                  <a:pt x="2837" y="7913"/>
                  <a:pt x="3342" y="7912"/>
                  <a:pt x="3845" y="7888"/>
                </a:cubicBezTo>
                <a:cubicBezTo>
                  <a:pt x="4176" y="7872"/>
                  <a:pt x="4509" y="7890"/>
                  <a:pt x="4837" y="7863"/>
                </a:cubicBezTo>
                <a:cubicBezTo>
                  <a:pt x="4934" y="7855"/>
                  <a:pt x="5055" y="7841"/>
                  <a:pt x="5060" y="78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8320" y="2455920"/>
            <a:ext cx="179640" cy="312840"/>
          </a:xfrm>
          <a:custGeom>
            <a:avLst/>
            <a:gdLst/>
            <a:ahLst/>
            <a:rect l="l" t="t" r="r" b="b"/>
            <a:pathLst>
              <a:path w="497" h="869">
                <a:moveTo>
                  <a:pt x="1662" y="7169"/>
                </a:moveTo>
                <a:cubicBezTo>
                  <a:pt x="1662" y="7282"/>
                  <a:pt x="1670" y="7385"/>
                  <a:pt x="1687" y="7491"/>
                </a:cubicBezTo>
                <a:cubicBezTo>
                  <a:pt x="1692" y="7524"/>
                  <a:pt x="1687" y="7761"/>
                  <a:pt x="1687" y="7640"/>
                </a:cubicBezTo>
                <a:cubicBezTo>
                  <a:pt x="1687" y="7528"/>
                  <a:pt x="1675" y="7422"/>
                  <a:pt x="1662" y="7317"/>
                </a:cubicBezTo>
                <a:cubicBezTo>
                  <a:pt x="1650" y="7219"/>
                  <a:pt x="1682" y="7139"/>
                  <a:pt x="1687" y="7045"/>
                </a:cubicBezTo>
                <a:cubicBezTo>
                  <a:pt x="1690" y="6977"/>
                  <a:pt x="1692" y="6897"/>
                  <a:pt x="1736" y="6846"/>
                </a:cubicBezTo>
                <a:cubicBezTo>
                  <a:pt x="1772" y="6805"/>
                  <a:pt x="1817" y="6817"/>
                  <a:pt x="1860" y="6846"/>
                </a:cubicBezTo>
                <a:cubicBezTo>
                  <a:pt x="1941" y="6900"/>
                  <a:pt x="1945" y="6930"/>
                  <a:pt x="1984" y="7020"/>
                </a:cubicBezTo>
                <a:cubicBezTo>
                  <a:pt x="2038" y="7147"/>
                  <a:pt x="2044" y="7260"/>
                  <a:pt x="2084" y="7392"/>
                </a:cubicBezTo>
                <a:cubicBezTo>
                  <a:pt x="2094" y="7425"/>
                  <a:pt x="2114" y="7487"/>
                  <a:pt x="2133" y="7516"/>
                </a:cubicBezTo>
                <a:cubicBezTo>
                  <a:pt x="2155" y="7538"/>
                  <a:pt x="2164" y="7543"/>
                  <a:pt x="2158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24000" y="2401920"/>
            <a:ext cx="455400" cy="339840"/>
          </a:xfrm>
          <a:custGeom>
            <a:avLst/>
            <a:gdLst/>
            <a:ahLst/>
            <a:rect l="l" t="t" r="r" b="b"/>
            <a:pathLst>
              <a:path w="1266" h="944">
                <a:moveTo>
                  <a:pt x="3944" y="6970"/>
                </a:moveTo>
                <a:cubicBezTo>
                  <a:pt x="3944" y="6998"/>
                  <a:pt x="3946" y="7009"/>
                  <a:pt x="3969" y="7020"/>
                </a:cubicBezTo>
                <a:cubicBezTo>
                  <a:pt x="3969" y="6952"/>
                  <a:pt x="3955" y="6909"/>
                  <a:pt x="3944" y="6846"/>
                </a:cubicBezTo>
                <a:cubicBezTo>
                  <a:pt x="3933" y="6785"/>
                  <a:pt x="3915" y="6748"/>
                  <a:pt x="3870" y="6697"/>
                </a:cubicBezTo>
                <a:cubicBezTo>
                  <a:pt x="3826" y="6647"/>
                  <a:pt x="3771" y="6673"/>
                  <a:pt x="3721" y="6697"/>
                </a:cubicBezTo>
                <a:cubicBezTo>
                  <a:pt x="3636" y="6738"/>
                  <a:pt x="3558" y="6833"/>
                  <a:pt x="3522" y="6921"/>
                </a:cubicBezTo>
                <a:cubicBezTo>
                  <a:pt x="3473" y="7040"/>
                  <a:pt x="3450" y="7144"/>
                  <a:pt x="3423" y="7268"/>
                </a:cubicBezTo>
                <a:cubicBezTo>
                  <a:pt x="3400" y="7373"/>
                  <a:pt x="3367" y="7480"/>
                  <a:pt x="3473" y="7565"/>
                </a:cubicBezTo>
                <a:cubicBezTo>
                  <a:pt x="3510" y="7595"/>
                  <a:pt x="3594" y="7536"/>
                  <a:pt x="3621" y="7516"/>
                </a:cubicBezTo>
                <a:cubicBezTo>
                  <a:pt x="3682" y="7470"/>
                  <a:pt x="3734" y="7407"/>
                  <a:pt x="3770" y="7342"/>
                </a:cubicBezTo>
                <a:cubicBezTo>
                  <a:pt x="3810" y="7270"/>
                  <a:pt x="3820" y="7226"/>
                  <a:pt x="3820" y="7144"/>
                </a:cubicBezTo>
                <a:cubicBezTo>
                  <a:pt x="3820" y="7136"/>
                  <a:pt x="3820" y="7127"/>
                  <a:pt x="3820" y="7119"/>
                </a:cubicBezTo>
                <a:cubicBezTo>
                  <a:pt x="3820" y="7223"/>
                  <a:pt x="3789" y="7376"/>
                  <a:pt x="3845" y="7466"/>
                </a:cubicBezTo>
                <a:cubicBezTo>
                  <a:pt x="3872" y="7509"/>
                  <a:pt x="3929" y="7529"/>
                  <a:pt x="3969" y="7541"/>
                </a:cubicBezTo>
                <a:cubicBezTo>
                  <a:pt x="3977" y="7541"/>
                  <a:pt x="3986" y="7541"/>
                  <a:pt x="3994" y="7541"/>
                </a:cubicBezTo>
              </a:path>
              <a:path w="1266" h="944">
                <a:moveTo>
                  <a:pt x="4167" y="7417"/>
                </a:moveTo>
                <a:cubicBezTo>
                  <a:pt x="4167" y="7485"/>
                  <a:pt x="4153" y="7539"/>
                  <a:pt x="4192" y="7590"/>
                </a:cubicBezTo>
                <a:cubicBezTo>
                  <a:pt x="4192" y="7545"/>
                  <a:pt x="4212" y="7532"/>
                  <a:pt x="4217" y="7491"/>
                </a:cubicBezTo>
                <a:cubicBezTo>
                  <a:pt x="4225" y="7417"/>
                  <a:pt x="4253" y="7400"/>
                  <a:pt x="4291" y="7342"/>
                </a:cubicBezTo>
                <a:cubicBezTo>
                  <a:pt x="4324" y="7291"/>
                  <a:pt x="4340" y="7243"/>
                  <a:pt x="4415" y="7268"/>
                </a:cubicBezTo>
                <a:cubicBezTo>
                  <a:pt x="4470" y="7286"/>
                  <a:pt x="4532" y="7345"/>
                  <a:pt x="4564" y="7392"/>
                </a:cubicBezTo>
                <a:cubicBezTo>
                  <a:pt x="4588" y="7427"/>
                  <a:pt x="4625" y="7501"/>
                  <a:pt x="4638" y="7541"/>
                </a:cubicBezTo>
                <a:cubicBezTo>
                  <a:pt x="4647" y="7569"/>
                  <a:pt x="4656" y="7586"/>
                  <a:pt x="4663" y="76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2982960"/>
            <a:ext cx="357480" cy="1249200"/>
          </a:xfrm>
          <a:custGeom>
            <a:avLst/>
            <a:gdLst/>
            <a:ahLst/>
            <a:rect l="l" t="t" r="r" b="b"/>
            <a:pathLst>
              <a:path w="994" h="3473">
                <a:moveTo>
                  <a:pt x="3423" y="8434"/>
                </a:moveTo>
                <a:cubicBezTo>
                  <a:pt x="3453" y="8404"/>
                  <a:pt x="3436" y="8392"/>
                  <a:pt x="3497" y="8359"/>
                </a:cubicBezTo>
                <a:cubicBezTo>
                  <a:pt x="3565" y="8323"/>
                  <a:pt x="3616" y="8294"/>
                  <a:pt x="3696" y="8285"/>
                </a:cubicBezTo>
                <a:cubicBezTo>
                  <a:pt x="3759" y="8278"/>
                  <a:pt x="3895" y="8265"/>
                  <a:pt x="3944" y="8310"/>
                </a:cubicBezTo>
                <a:cubicBezTo>
                  <a:pt x="3980" y="8343"/>
                  <a:pt x="4002" y="8490"/>
                  <a:pt x="3994" y="8533"/>
                </a:cubicBezTo>
                <a:cubicBezTo>
                  <a:pt x="3974" y="8634"/>
                  <a:pt x="3873" y="8801"/>
                  <a:pt x="3820" y="8880"/>
                </a:cubicBezTo>
                <a:cubicBezTo>
                  <a:pt x="3771" y="8952"/>
                  <a:pt x="3709" y="9017"/>
                  <a:pt x="3646" y="9079"/>
                </a:cubicBezTo>
                <a:cubicBezTo>
                  <a:pt x="3610" y="9114"/>
                  <a:pt x="3601" y="9142"/>
                  <a:pt x="3572" y="9178"/>
                </a:cubicBezTo>
                <a:cubicBezTo>
                  <a:pt x="3837" y="9178"/>
                  <a:pt x="4101" y="9178"/>
                  <a:pt x="4366" y="9178"/>
                </a:cubicBezTo>
                <a:cubicBezTo>
                  <a:pt x="4327" y="9152"/>
                  <a:pt x="4314" y="9152"/>
                  <a:pt x="4266" y="9128"/>
                </a:cubicBezTo>
              </a:path>
              <a:path w="994" h="3473">
                <a:moveTo>
                  <a:pt x="3597" y="9723"/>
                </a:moveTo>
                <a:cubicBezTo>
                  <a:pt x="3651" y="9761"/>
                  <a:pt x="3603" y="9795"/>
                  <a:pt x="3572" y="9847"/>
                </a:cubicBezTo>
                <a:cubicBezTo>
                  <a:pt x="3550" y="9883"/>
                  <a:pt x="3484" y="9951"/>
                  <a:pt x="3473" y="9971"/>
                </a:cubicBezTo>
                <a:cubicBezTo>
                  <a:pt x="3473" y="9979"/>
                  <a:pt x="3473" y="9988"/>
                  <a:pt x="3473" y="9996"/>
                </a:cubicBezTo>
                <a:cubicBezTo>
                  <a:pt x="3509" y="9987"/>
                  <a:pt x="3529" y="9963"/>
                  <a:pt x="3572" y="9971"/>
                </a:cubicBezTo>
                <a:cubicBezTo>
                  <a:pt x="3685" y="9991"/>
                  <a:pt x="3780" y="9996"/>
                  <a:pt x="3894" y="9996"/>
                </a:cubicBezTo>
                <a:cubicBezTo>
                  <a:pt x="3958" y="9996"/>
                  <a:pt x="3984" y="9993"/>
                  <a:pt x="4043" y="9971"/>
                </a:cubicBezTo>
              </a:path>
              <a:path w="994" h="3473">
                <a:moveTo>
                  <a:pt x="4018" y="9525"/>
                </a:moveTo>
                <a:cubicBezTo>
                  <a:pt x="4018" y="9670"/>
                  <a:pt x="3999" y="9808"/>
                  <a:pt x="3969" y="9947"/>
                </a:cubicBezTo>
                <a:cubicBezTo>
                  <a:pt x="3947" y="10050"/>
                  <a:pt x="3963" y="10097"/>
                  <a:pt x="3969" y="10195"/>
                </a:cubicBezTo>
                <a:cubicBezTo>
                  <a:pt x="3973" y="10258"/>
                  <a:pt x="4001" y="10267"/>
                  <a:pt x="4018" y="10319"/>
                </a:cubicBezTo>
                <a:cubicBezTo>
                  <a:pt x="4018" y="10327"/>
                  <a:pt x="4018" y="10336"/>
                  <a:pt x="4018" y="10344"/>
                </a:cubicBezTo>
              </a:path>
              <a:path w="994" h="3473">
                <a:moveTo>
                  <a:pt x="3572" y="10840"/>
                </a:moveTo>
                <a:cubicBezTo>
                  <a:pt x="3572" y="10913"/>
                  <a:pt x="3553" y="10970"/>
                  <a:pt x="3522" y="11038"/>
                </a:cubicBezTo>
                <a:cubicBezTo>
                  <a:pt x="3467" y="11156"/>
                  <a:pt x="3380" y="11233"/>
                  <a:pt x="3373" y="11361"/>
                </a:cubicBezTo>
                <a:cubicBezTo>
                  <a:pt x="3369" y="11435"/>
                  <a:pt x="3414" y="11492"/>
                  <a:pt x="3473" y="11534"/>
                </a:cubicBezTo>
                <a:cubicBezTo>
                  <a:pt x="3534" y="11577"/>
                  <a:pt x="3621" y="11621"/>
                  <a:pt x="3696" y="11609"/>
                </a:cubicBezTo>
                <a:cubicBezTo>
                  <a:pt x="3809" y="11591"/>
                  <a:pt x="3864" y="11568"/>
                  <a:pt x="3944" y="11509"/>
                </a:cubicBezTo>
                <a:cubicBezTo>
                  <a:pt x="3978" y="11484"/>
                  <a:pt x="4068" y="11422"/>
                  <a:pt x="4043" y="11361"/>
                </a:cubicBezTo>
                <a:cubicBezTo>
                  <a:pt x="4026" y="11318"/>
                  <a:pt x="4007" y="11312"/>
                  <a:pt x="3969" y="11286"/>
                </a:cubicBezTo>
                <a:cubicBezTo>
                  <a:pt x="3916" y="11328"/>
                  <a:pt x="3847" y="11344"/>
                  <a:pt x="3795" y="11385"/>
                </a:cubicBezTo>
                <a:cubicBezTo>
                  <a:pt x="3708" y="11453"/>
                  <a:pt x="3732" y="11507"/>
                  <a:pt x="3770" y="11584"/>
                </a:cubicBezTo>
                <a:cubicBezTo>
                  <a:pt x="3805" y="11653"/>
                  <a:pt x="3879" y="11676"/>
                  <a:pt x="3919" y="11733"/>
                </a:cubicBezTo>
                <a:cubicBezTo>
                  <a:pt x="3919" y="11741"/>
                  <a:pt x="3919" y="11749"/>
                  <a:pt x="3919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33640" y="4483080"/>
            <a:ext cx="322200" cy="803160"/>
          </a:xfrm>
          <a:custGeom>
            <a:avLst/>
            <a:gdLst/>
            <a:ahLst/>
            <a:rect l="l" t="t" r="r" b="b"/>
            <a:pathLst>
              <a:path w="894" h="2233">
                <a:moveTo>
                  <a:pt x="3746" y="12477"/>
                </a:moveTo>
                <a:cubicBezTo>
                  <a:pt x="3689" y="12465"/>
                  <a:pt x="3585" y="12431"/>
                  <a:pt x="3522" y="12452"/>
                </a:cubicBezTo>
                <a:cubicBezTo>
                  <a:pt x="3427" y="12484"/>
                  <a:pt x="3438" y="12490"/>
                  <a:pt x="3448" y="12576"/>
                </a:cubicBezTo>
                <a:cubicBezTo>
                  <a:pt x="3461" y="12693"/>
                  <a:pt x="3577" y="12803"/>
                  <a:pt x="3646" y="12898"/>
                </a:cubicBezTo>
                <a:cubicBezTo>
                  <a:pt x="3705" y="12980"/>
                  <a:pt x="3752" y="13095"/>
                  <a:pt x="3770" y="13196"/>
                </a:cubicBezTo>
                <a:cubicBezTo>
                  <a:pt x="3779" y="13246"/>
                  <a:pt x="3746" y="13323"/>
                  <a:pt x="3696" y="13345"/>
                </a:cubicBezTo>
                <a:cubicBezTo>
                  <a:pt x="3667" y="13358"/>
                  <a:pt x="3585" y="13353"/>
                  <a:pt x="3572" y="13320"/>
                </a:cubicBezTo>
                <a:cubicBezTo>
                  <a:pt x="3541" y="13240"/>
                  <a:pt x="3553" y="13129"/>
                  <a:pt x="3572" y="13047"/>
                </a:cubicBezTo>
                <a:cubicBezTo>
                  <a:pt x="3593" y="12959"/>
                  <a:pt x="3636" y="12858"/>
                  <a:pt x="3671" y="12774"/>
                </a:cubicBezTo>
                <a:cubicBezTo>
                  <a:pt x="3691" y="12726"/>
                  <a:pt x="3754" y="12654"/>
                  <a:pt x="3746" y="12601"/>
                </a:cubicBezTo>
                <a:cubicBezTo>
                  <a:pt x="3738" y="12593"/>
                  <a:pt x="3729" y="12584"/>
                  <a:pt x="3721" y="12576"/>
                </a:cubicBezTo>
              </a:path>
              <a:path w="894" h="2233">
                <a:moveTo>
                  <a:pt x="3249" y="13791"/>
                </a:moveTo>
                <a:cubicBezTo>
                  <a:pt x="3249" y="13867"/>
                  <a:pt x="3243" y="13942"/>
                  <a:pt x="3225" y="14015"/>
                </a:cubicBezTo>
                <a:cubicBezTo>
                  <a:pt x="3200" y="14115"/>
                  <a:pt x="3161" y="14210"/>
                  <a:pt x="3150" y="14312"/>
                </a:cubicBezTo>
                <a:cubicBezTo>
                  <a:pt x="3148" y="14332"/>
                  <a:pt x="3132" y="14615"/>
                  <a:pt x="3175" y="14610"/>
                </a:cubicBezTo>
                <a:cubicBezTo>
                  <a:pt x="3183" y="14602"/>
                  <a:pt x="3192" y="14593"/>
                  <a:pt x="3200" y="14585"/>
                </a:cubicBezTo>
              </a:path>
              <a:path w="894" h="2233">
                <a:moveTo>
                  <a:pt x="3621" y="13990"/>
                </a:moveTo>
                <a:cubicBezTo>
                  <a:pt x="3570" y="14129"/>
                  <a:pt x="3503" y="14264"/>
                  <a:pt x="3497" y="14412"/>
                </a:cubicBezTo>
                <a:cubicBezTo>
                  <a:pt x="3494" y="14501"/>
                  <a:pt x="3526" y="14602"/>
                  <a:pt x="3597" y="14660"/>
                </a:cubicBezTo>
                <a:cubicBezTo>
                  <a:pt x="3680" y="14728"/>
                  <a:pt x="3816" y="14666"/>
                  <a:pt x="3894" y="14635"/>
                </a:cubicBezTo>
                <a:cubicBezTo>
                  <a:pt x="3989" y="14598"/>
                  <a:pt x="4026" y="14508"/>
                  <a:pt x="4043" y="14412"/>
                </a:cubicBezTo>
                <a:cubicBezTo>
                  <a:pt x="4063" y="14304"/>
                  <a:pt x="4019" y="14251"/>
                  <a:pt x="3969" y="14163"/>
                </a:cubicBezTo>
                <a:cubicBezTo>
                  <a:pt x="3934" y="14102"/>
                  <a:pt x="3871" y="14031"/>
                  <a:pt x="3820" y="13990"/>
                </a:cubicBezTo>
                <a:cubicBezTo>
                  <a:pt x="3803" y="13982"/>
                  <a:pt x="3787" y="13973"/>
                  <a:pt x="3770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7880" y="2963880"/>
            <a:ext cx="36360" cy="304920"/>
          </a:xfrm>
          <a:custGeom>
            <a:avLst/>
            <a:gdLst/>
            <a:ahLst/>
            <a:rect l="l" t="t" r="r" b="b"/>
            <a:pathLst>
              <a:path w="100" h="845">
                <a:moveTo>
                  <a:pt x="1885" y="8235"/>
                </a:moveTo>
                <a:cubicBezTo>
                  <a:pt x="1920" y="8305"/>
                  <a:pt x="1913" y="8381"/>
                  <a:pt x="1935" y="8458"/>
                </a:cubicBezTo>
                <a:cubicBezTo>
                  <a:pt x="1959" y="8542"/>
                  <a:pt x="1960" y="8615"/>
                  <a:pt x="1960" y="8706"/>
                </a:cubicBezTo>
                <a:cubicBezTo>
                  <a:pt x="1960" y="8804"/>
                  <a:pt x="1981" y="8885"/>
                  <a:pt x="1984" y="8979"/>
                </a:cubicBezTo>
                <a:cubicBezTo>
                  <a:pt x="1984" y="9012"/>
                  <a:pt x="1984" y="9046"/>
                  <a:pt x="1984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8960" y="3510000"/>
            <a:ext cx="19692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637" y="9847"/>
                </a:moveTo>
                <a:cubicBezTo>
                  <a:pt x="1668" y="9837"/>
                  <a:pt x="1673" y="9815"/>
                  <a:pt x="1712" y="9798"/>
                </a:cubicBezTo>
                <a:cubicBezTo>
                  <a:pt x="1770" y="9773"/>
                  <a:pt x="1825" y="9752"/>
                  <a:pt x="1885" y="9748"/>
                </a:cubicBezTo>
                <a:cubicBezTo>
                  <a:pt x="1977" y="9743"/>
                  <a:pt x="2011" y="9788"/>
                  <a:pt x="2034" y="9872"/>
                </a:cubicBezTo>
                <a:cubicBezTo>
                  <a:pt x="2052" y="9938"/>
                  <a:pt x="1948" y="10008"/>
                  <a:pt x="1910" y="10046"/>
                </a:cubicBezTo>
                <a:cubicBezTo>
                  <a:pt x="1861" y="10095"/>
                  <a:pt x="1831" y="10145"/>
                  <a:pt x="1786" y="10195"/>
                </a:cubicBezTo>
                <a:cubicBezTo>
                  <a:pt x="1764" y="10217"/>
                  <a:pt x="1755" y="10222"/>
                  <a:pt x="1761" y="10244"/>
                </a:cubicBezTo>
                <a:cubicBezTo>
                  <a:pt x="1808" y="10279"/>
                  <a:pt x="1848" y="10269"/>
                  <a:pt x="1910" y="10269"/>
                </a:cubicBezTo>
                <a:cubicBezTo>
                  <a:pt x="1996" y="10269"/>
                  <a:pt x="2054" y="10276"/>
                  <a:pt x="2133" y="10294"/>
                </a:cubicBezTo>
                <a:cubicBezTo>
                  <a:pt x="2158" y="10294"/>
                  <a:pt x="2166" y="10294"/>
                  <a:pt x="2183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8760" y="3946680"/>
            <a:ext cx="295200" cy="1135080"/>
          </a:xfrm>
          <a:custGeom>
            <a:avLst/>
            <a:gdLst/>
            <a:ahLst/>
            <a:rect l="l" t="t" r="r" b="b"/>
            <a:pathLst>
              <a:path w="819" h="3151">
                <a:moveTo>
                  <a:pt x="1736" y="10964"/>
                </a:moveTo>
                <a:cubicBezTo>
                  <a:pt x="1826" y="10964"/>
                  <a:pt x="1885" y="10966"/>
                  <a:pt x="1960" y="10988"/>
                </a:cubicBezTo>
                <a:cubicBezTo>
                  <a:pt x="2009" y="11002"/>
                  <a:pt x="2009" y="11012"/>
                  <a:pt x="2009" y="11063"/>
                </a:cubicBezTo>
                <a:cubicBezTo>
                  <a:pt x="2009" y="11098"/>
                  <a:pt x="1935" y="11167"/>
                  <a:pt x="1910" y="11187"/>
                </a:cubicBezTo>
                <a:cubicBezTo>
                  <a:pt x="1867" y="11221"/>
                  <a:pt x="1818" y="11226"/>
                  <a:pt x="1811" y="11286"/>
                </a:cubicBezTo>
                <a:cubicBezTo>
                  <a:pt x="1805" y="11337"/>
                  <a:pt x="1902" y="11379"/>
                  <a:pt x="1935" y="11410"/>
                </a:cubicBezTo>
                <a:cubicBezTo>
                  <a:pt x="2016" y="11487"/>
                  <a:pt x="2029" y="11550"/>
                  <a:pt x="1984" y="11658"/>
                </a:cubicBezTo>
                <a:cubicBezTo>
                  <a:pt x="1970" y="11691"/>
                  <a:pt x="1826" y="11748"/>
                  <a:pt x="1786" y="11757"/>
                </a:cubicBezTo>
                <a:cubicBezTo>
                  <a:pt x="1726" y="11770"/>
                  <a:pt x="1606" y="11725"/>
                  <a:pt x="1588" y="11782"/>
                </a:cubicBezTo>
              </a:path>
              <a:path w="819" h="3151">
                <a:moveTo>
                  <a:pt x="1637" y="12179"/>
                </a:moveTo>
                <a:cubicBezTo>
                  <a:pt x="1596" y="12286"/>
                  <a:pt x="1559" y="12397"/>
                  <a:pt x="1513" y="12502"/>
                </a:cubicBezTo>
                <a:cubicBezTo>
                  <a:pt x="1481" y="12576"/>
                  <a:pt x="1466" y="12666"/>
                  <a:pt x="1563" y="12700"/>
                </a:cubicBezTo>
                <a:cubicBezTo>
                  <a:pt x="1636" y="12726"/>
                  <a:pt x="1723" y="12678"/>
                  <a:pt x="1786" y="12650"/>
                </a:cubicBezTo>
              </a:path>
              <a:path w="819" h="3151">
                <a:moveTo>
                  <a:pt x="1811" y="12427"/>
                </a:moveTo>
                <a:cubicBezTo>
                  <a:pt x="1805" y="12556"/>
                  <a:pt x="1786" y="12670"/>
                  <a:pt x="1786" y="12799"/>
                </a:cubicBezTo>
                <a:cubicBezTo>
                  <a:pt x="1786" y="12926"/>
                  <a:pt x="1772" y="13045"/>
                  <a:pt x="1761" y="13171"/>
                </a:cubicBezTo>
              </a:path>
              <a:path w="819" h="3151">
                <a:moveTo>
                  <a:pt x="1463" y="13568"/>
                </a:moveTo>
                <a:cubicBezTo>
                  <a:pt x="1570" y="13558"/>
                  <a:pt x="1664" y="13540"/>
                  <a:pt x="1761" y="13494"/>
                </a:cubicBezTo>
                <a:cubicBezTo>
                  <a:pt x="1815" y="13467"/>
                  <a:pt x="1835" y="13455"/>
                  <a:pt x="1860" y="13419"/>
                </a:cubicBezTo>
              </a:path>
              <a:path w="819" h="3151">
                <a:moveTo>
                  <a:pt x="1414" y="13543"/>
                </a:moveTo>
                <a:cubicBezTo>
                  <a:pt x="1374" y="13597"/>
                  <a:pt x="1403" y="13624"/>
                  <a:pt x="1463" y="13667"/>
                </a:cubicBezTo>
                <a:cubicBezTo>
                  <a:pt x="1532" y="13715"/>
                  <a:pt x="1642" y="13767"/>
                  <a:pt x="1687" y="13841"/>
                </a:cubicBezTo>
                <a:cubicBezTo>
                  <a:pt x="1728" y="13908"/>
                  <a:pt x="1753" y="14003"/>
                  <a:pt x="1687" y="14064"/>
                </a:cubicBezTo>
                <a:cubicBezTo>
                  <a:pt x="1608" y="14136"/>
                  <a:pt x="1517" y="14124"/>
                  <a:pt x="1439" y="14064"/>
                </a:cubicBezTo>
                <a:cubicBezTo>
                  <a:pt x="1277" y="13939"/>
                  <a:pt x="1275" y="13845"/>
                  <a:pt x="1191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44840" y="3205080"/>
            <a:ext cx="1590480" cy="546120"/>
          </a:xfrm>
          <a:custGeom>
            <a:avLst/>
            <a:gdLst/>
            <a:ahLst/>
            <a:rect l="l" t="t" r="r" b="b"/>
            <a:pathLst>
              <a:path w="4417" h="1514">
                <a:moveTo>
                  <a:pt x="7789" y="9451"/>
                </a:moveTo>
                <a:cubicBezTo>
                  <a:pt x="7789" y="9510"/>
                  <a:pt x="7777" y="9498"/>
                  <a:pt x="7789" y="9451"/>
                </a:cubicBezTo>
                <a:cubicBezTo>
                  <a:pt x="7809" y="9372"/>
                  <a:pt x="7801" y="9354"/>
                  <a:pt x="7789" y="9277"/>
                </a:cubicBezTo>
                <a:cubicBezTo>
                  <a:pt x="7780" y="9218"/>
                  <a:pt x="7774" y="9153"/>
                  <a:pt x="7764" y="9103"/>
                </a:cubicBezTo>
                <a:cubicBezTo>
                  <a:pt x="7752" y="9043"/>
                  <a:pt x="7748" y="8992"/>
                  <a:pt x="7689" y="8954"/>
                </a:cubicBezTo>
                <a:cubicBezTo>
                  <a:pt x="7624" y="8913"/>
                  <a:pt x="7558" y="8926"/>
                  <a:pt x="7491" y="8954"/>
                </a:cubicBezTo>
                <a:cubicBezTo>
                  <a:pt x="7411" y="8987"/>
                  <a:pt x="7331" y="9076"/>
                  <a:pt x="7293" y="9153"/>
                </a:cubicBezTo>
                <a:cubicBezTo>
                  <a:pt x="7237" y="9266"/>
                  <a:pt x="7220" y="9387"/>
                  <a:pt x="7169" y="9500"/>
                </a:cubicBezTo>
                <a:cubicBezTo>
                  <a:pt x="7116" y="9617"/>
                  <a:pt x="7082" y="9716"/>
                  <a:pt x="7069" y="9847"/>
                </a:cubicBezTo>
                <a:cubicBezTo>
                  <a:pt x="7058" y="9952"/>
                  <a:pt x="7096" y="10019"/>
                  <a:pt x="7144" y="10096"/>
                </a:cubicBezTo>
                <a:cubicBezTo>
                  <a:pt x="7185" y="10163"/>
                  <a:pt x="7233" y="10188"/>
                  <a:pt x="7317" y="10170"/>
                </a:cubicBezTo>
                <a:cubicBezTo>
                  <a:pt x="7440" y="10143"/>
                  <a:pt x="7552" y="10055"/>
                  <a:pt x="7640" y="9971"/>
                </a:cubicBezTo>
                <a:cubicBezTo>
                  <a:pt x="7712" y="9902"/>
                  <a:pt x="7774" y="9816"/>
                  <a:pt x="7813" y="9723"/>
                </a:cubicBezTo>
                <a:cubicBezTo>
                  <a:pt x="7832" y="9677"/>
                  <a:pt x="7884" y="9521"/>
                  <a:pt x="7863" y="9475"/>
                </a:cubicBezTo>
                <a:cubicBezTo>
                  <a:pt x="7855" y="9475"/>
                  <a:pt x="7846" y="9475"/>
                  <a:pt x="7838" y="9475"/>
                </a:cubicBezTo>
                <a:cubicBezTo>
                  <a:pt x="7812" y="9501"/>
                  <a:pt x="7818" y="9489"/>
                  <a:pt x="7813" y="9525"/>
                </a:cubicBezTo>
                <a:cubicBezTo>
                  <a:pt x="7799" y="9624"/>
                  <a:pt x="7814" y="9732"/>
                  <a:pt x="7838" y="9823"/>
                </a:cubicBezTo>
                <a:cubicBezTo>
                  <a:pt x="7884" y="9996"/>
                  <a:pt x="7877" y="10035"/>
                  <a:pt x="7987" y="10145"/>
                </a:cubicBezTo>
                <a:cubicBezTo>
                  <a:pt x="8010" y="10168"/>
                  <a:pt x="8014" y="10176"/>
                  <a:pt x="8037" y="10170"/>
                </a:cubicBezTo>
              </a:path>
              <a:path w="4417" h="1514">
                <a:moveTo>
                  <a:pt x="8235" y="10046"/>
                </a:moveTo>
                <a:cubicBezTo>
                  <a:pt x="8235" y="10162"/>
                  <a:pt x="8235" y="10277"/>
                  <a:pt x="8235" y="10393"/>
                </a:cubicBezTo>
                <a:cubicBezTo>
                  <a:pt x="8273" y="10380"/>
                  <a:pt x="8260" y="10364"/>
                  <a:pt x="8260" y="10319"/>
                </a:cubicBezTo>
                <a:cubicBezTo>
                  <a:pt x="8260" y="10234"/>
                  <a:pt x="8292" y="10182"/>
                  <a:pt x="8310" y="10096"/>
                </a:cubicBezTo>
                <a:cubicBezTo>
                  <a:pt x="8322" y="10039"/>
                  <a:pt x="8342" y="10012"/>
                  <a:pt x="8384" y="9971"/>
                </a:cubicBezTo>
                <a:cubicBezTo>
                  <a:pt x="8407" y="9948"/>
                  <a:pt x="8443" y="9900"/>
                  <a:pt x="8483" y="9922"/>
                </a:cubicBezTo>
                <a:cubicBezTo>
                  <a:pt x="8520" y="9942"/>
                  <a:pt x="8573" y="10006"/>
                  <a:pt x="8582" y="10046"/>
                </a:cubicBezTo>
                <a:cubicBezTo>
                  <a:pt x="8599" y="10118"/>
                  <a:pt x="8606" y="10227"/>
                  <a:pt x="8632" y="10294"/>
                </a:cubicBezTo>
                <a:cubicBezTo>
                  <a:pt x="8633" y="10298"/>
                  <a:pt x="8674" y="10424"/>
                  <a:pt x="8682" y="10418"/>
                </a:cubicBezTo>
                <a:cubicBezTo>
                  <a:pt x="8690" y="10401"/>
                  <a:pt x="8698" y="10385"/>
                  <a:pt x="8706" y="10368"/>
                </a:cubicBezTo>
              </a:path>
              <a:path w="4417" h="1514">
                <a:moveTo>
                  <a:pt x="8830" y="9451"/>
                </a:moveTo>
                <a:cubicBezTo>
                  <a:pt x="8972" y="9451"/>
                  <a:pt x="9087" y="9470"/>
                  <a:pt x="9227" y="9475"/>
                </a:cubicBezTo>
                <a:cubicBezTo>
                  <a:pt x="9268" y="9476"/>
                  <a:pt x="9310" y="9475"/>
                  <a:pt x="9351" y="9475"/>
                </a:cubicBezTo>
              </a:path>
              <a:path w="4417" h="1514">
                <a:moveTo>
                  <a:pt x="8930" y="9699"/>
                </a:moveTo>
                <a:cubicBezTo>
                  <a:pt x="9033" y="9717"/>
                  <a:pt x="9108" y="9742"/>
                  <a:pt x="9203" y="9748"/>
                </a:cubicBezTo>
                <a:cubicBezTo>
                  <a:pt x="9259" y="9752"/>
                  <a:pt x="9335" y="9772"/>
                  <a:pt x="9302" y="9723"/>
                </a:cubicBezTo>
              </a:path>
              <a:path w="4417" h="1514">
                <a:moveTo>
                  <a:pt x="9723" y="9203"/>
                </a:moveTo>
                <a:cubicBezTo>
                  <a:pt x="9744" y="9167"/>
                  <a:pt x="9763" y="9137"/>
                  <a:pt x="9798" y="9103"/>
                </a:cubicBezTo>
                <a:cubicBezTo>
                  <a:pt x="9840" y="9062"/>
                  <a:pt x="9870" y="9032"/>
                  <a:pt x="9922" y="9004"/>
                </a:cubicBezTo>
                <a:cubicBezTo>
                  <a:pt x="9976" y="8975"/>
                  <a:pt x="10024" y="8954"/>
                  <a:pt x="10071" y="8930"/>
                </a:cubicBezTo>
                <a:cubicBezTo>
                  <a:pt x="10107" y="8912"/>
                  <a:pt x="10148" y="8892"/>
                  <a:pt x="10195" y="8905"/>
                </a:cubicBezTo>
                <a:cubicBezTo>
                  <a:pt x="10255" y="8922"/>
                  <a:pt x="10279" y="8928"/>
                  <a:pt x="10294" y="9004"/>
                </a:cubicBezTo>
                <a:cubicBezTo>
                  <a:pt x="10307" y="9071"/>
                  <a:pt x="10279" y="9119"/>
                  <a:pt x="10269" y="9178"/>
                </a:cubicBezTo>
                <a:cubicBezTo>
                  <a:pt x="10254" y="9267"/>
                  <a:pt x="10227" y="9341"/>
                  <a:pt x="10195" y="9426"/>
                </a:cubicBezTo>
                <a:cubicBezTo>
                  <a:pt x="10158" y="9525"/>
                  <a:pt x="10123" y="9610"/>
                  <a:pt x="10071" y="9699"/>
                </a:cubicBezTo>
                <a:cubicBezTo>
                  <a:pt x="10020" y="9787"/>
                  <a:pt x="9968" y="9873"/>
                  <a:pt x="9897" y="9947"/>
                </a:cubicBezTo>
                <a:cubicBezTo>
                  <a:pt x="9844" y="10002"/>
                  <a:pt x="9818" y="10061"/>
                  <a:pt x="9773" y="10120"/>
                </a:cubicBezTo>
                <a:cubicBezTo>
                  <a:pt x="9732" y="10174"/>
                  <a:pt x="9741" y="10130"/>
                  <a:pt x="9723" y="10195"/>
                </a:cubicBezTo>
                <a:cubicBezTo>
                  <a:pt x="10003" y="10195"/>
                  <a:pt x="10297" y="10174"/>
                  <a:pt x="10567" y="10220"/>
                </a:cubicBezTo>
                <a:cubicBezTo>
                  <a:pt x="10633" y="10231"/>
                  <a:pt x="10640" y="10208"/>
                  <a:pt x="10666" y="10195"/>
                </a:cubicBezTo>
              </a:path>
              <a:path w="4417" h="1514">
                <a:moveTo>
                  <a:pt x="10740" y="9624"/>
                </a:moveTo>
                <a:cubicBezTo>
                  <a:pt x="10761" y="9721"/>
                  <a:pt x="10765" y="9798"/>
                  <a:pt x="10765" y="9897"/>
                </a:cubicBezTo>
                <a:cubicBezTo>
                  <a:pt x="10765" y="9977"/>
                  <a:pt x="10783" y="10043"/>
                  <a:pt x="10790" y="10120"/>
                </a:cubicBezTo>
                <a:cubicBezTo>
                  <a:pt x="10794" y="10163"/>
                  <a:pt x="10777" y="10157"/>
                  <a:pt x="10815" y="10170"/>
                </a:cubicBezTo>
                <a:cubicBezTo>
                  <a:pt x="10815" y="10090"/>
                  <a:pt x="10830" y="10020"/>
                  <a:pt x="10840" y="9947"/>
                </a:cubicBezTo>
                <a:cubicBezTo>
                  <a:pt x="10853" y="9847"/>
                  <a:pt x="10849" y="9745"/>
                  <a:pt x="10864" y="9649"/>
                </a:cubicBezTo>
                <a:cubicBezTo>
                  <a:pt x="10875" y="9580"/>
                  <a:pt x="10889" y="9530"/>
                  <a:pt x="10939" y="9475"/>
                </a:cubicBezTo>
                <a:cubicBezTo>
                  <a:pt x="10984" y="9426"/>
                  <a:pt x="11041" y="9404"/>
                  <a:pt x="11112" y="9426"/>
                </a:cubicBezTo>
                <a:cubicBezTo>
                  <a:pt x="11169" y="9444"/>
                  <a:pt x="11234" y="9551"/>
                  <a:pt x="11261" y="9599"/>
                </a:cubicBezTo>
                <a:cubicBezTo>
                  <a:pt x="11305" y="9679"/>
                  <a:pt x="11315" y="9763"/>
                  <a:pt x="11336" y="9847"/>
                </a:cubicBezTo>
                <a:cubicBezTo>
                  <a:pt x="11357" y="9932"/>
                  <a:pt x="11391" y="10014"/>
                  <a:pt x="11410" y="10096"/>
                </a:cubicBezTo>
                <a:cubicBezTo>
                  <a:pt x="11416" y="10121"/>
                  <a:pt x="11442" y="10208"/>
                  <a:pt x="11460" y="10220"/>
                </a:cubicBezTo>
                <a:cubicBezTo>
                  <a:pt x="11492" y="10241"/>
                  <a:pt x="11503" y="10234"/>
                  <a:pt x="11460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Write an expression for the apparent n</a:t>
            </a:r>
            <a:r>
              <a:rPr b="0" lang="en-US" sz="4000" spc="-1" strike="noStrike" baseline="30000">
                <a:solidFill>
                  <a:srgbClr val="007d8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 term: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, 7, 11, 15, 19, …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4680" y="2536920"/>
            <a:ext cx="1662120" cy="2508120"/>
          </a:xfrm>
          <a:custGeom>
            <a:avLst/>
            <a:gdLst/>
            <a:ahLst/>
            <a:rect l="l" t="t" r="r" b="b"/>
            <a:pathLst>
              <a:path w="4615" h="6971">
                <a:moveTo>
                  <a:pt x="2232" y="7764"/>
                </a:moveTo>
                <a:cubicBezTo>
                  <a:pt x="2201" y="7849"/>
                  <a:pt x="2228" y="7925"/>
                  <a:pt x="2208" y="8012"/>
                </a:cubicBezTo>
                <a:cubicBezTo>
                  <a:pt x="2198" y="8057"/>
                  <a:pt x="2181" y="8148"/>
                  <a:pt x="2158" y="8186"/>
                </a:cubicBezTo>
                <a:cubicBezTo>
                  <a:pt x="2150" y="8194"/>
                  <a:pt x="2141" y="8202"/>
                  <a:pt x="2133" y="8210"/>
                </a:cubicBezTo>
                <a:cubicBezTo>
                  <a:pt x="2083" y="8194"/>
                  <a:pt x="2108" y="8119"/>
                  <a:pt x="2108" y="8062"/>
                </a:cubicBezTo>
                <a:cubicBezTo>
                  <a:pt x="2108" y="7961"/>
                  <a:pt x="2133" y="7861"/>
                  <a:pt x="2158" y="7764"/>
                </a:cubicBezTo>
                <a:cubicBezTo>
                  <a:pt x="2189" y="7642"/>
                  <a:pt x="2226" y="7529"/>
                  <a:pt x="2282" y="7417"/>
                </a:cubicBezTo>
                <a:cubicBezTo>
                  <a:pt x="2322" y="7338"/>
                  <a:pt x="2361" y="7329"/>
                  <a:pt x="2431" y="7367"/>
                </a:cubicBezTo>
                <a:cubicBezTo>
                  <a:pt x="2495" y="7401"/>
                  <a:pt x="2545" y="7514"/>
                  <a:pt x="2555" y="7590"/>
                </a:cubicBezTo>
                <a:cubicBezTo>
                  <a:pt x="2569" y="7694"/>
                  <a:pt x="2576" y="7812"/>
                  <a:pt x="2604" y="7913"/>
                </a:cubicBezTo>
                <a:cubicBezTo>
                  <a:pt x="2622" y="7978"/>
                  <a:pt x="2667" y="8053"/>
                  <a:pt x="2679" y="8111"/>
                </a:cubicBezTo>
                <a:cubicBezTo>
                  <a:pt x="2688" y="8156"/>
                  <a:pt x="2694" y="8170"/>
                  <a:pt x="2704" y="8210"/>
                </a:cubicBezTo>
              </a:path>
              <a:path w="4615" h="6971">
                <a:moveTo>
                  <a:pt x="1513" y="8458"/>
                </a:moveTo>
                <a:cubicBezTo>
                  <a:pt x="2159" y="8458"/>
                  <a:pt x="2803" y="8463"/>
                  <a:pt x="3448" y="8483"/>
                </a:cubicBezTo>
                <a:cubicBezTo>
                  <a:pt x="3820" y="8494"/>
                  <a:pt x="4192" y="8504"/>
                  <a:pt x="4564" y="8508"/>
                </a:cubicBezTo>
                <a:cubicBezTo>
                  <a:pt x="4891" y="8511"/>
                  <a:pt x="5229" y="8510"/>
                  <a:pt x="5556" y="8533"/>
                </a:cubicBezTo>
                <a:cubicBezTo>
                  <a:pt x="5730" y="8545"/>
                  <a:pt x="5906" y="8578"/>
                  <a:pt x="6077" y="8533"/>
                </a:cubicBezTo>
                <a:cubicBezTo>
                  <a:pt x="6094" y="8525"/>
                  <a:pt x="6110" y="8516"/>
                  <a:pt x="6127" y="8508"/>
                </a:cubicBezTo>
              </a:path>
              <a:path w="4615" h="6971">
                <a:moveTo>
                  <a:pt x="3621" y="7045"/>
                </a:moveTo>
                <a:cubicBezTo>
                  <a:pt x="3611" y="7252"/>
                  <a:pt x="3581" y="7458"/>
                  <a:pt x="3572" y="7665"/>
                </a:cubicBezTo>
                <a:cubicBezTo>
                  <a:pt x="3559" y="7948"/>
                  <a:pt x="3587" y="8227"/>
                  <a:pt x="3597" y="8508"/>
                </a:cubicBezTo>
                <a:cubicBezTo>
                  <a:pt x="3630" y="9446"/>
                  <a:pt x="3606" y="10401"/>
                  <a:pt x="3547" y="11336"/>
                </a:cubicBezTo>
                <a:cubicBezTo>
                  <a:pt x="3517" y="11803"/>
                  <a:pt x="3471" y="12262"/>
                  <a:pt x="3398" y="12725"/>
                </a:cubicBezTo>
                <a:cubicBezTo>
                  <a:pt x="3343" y="13072"/>
                  <a:pt x="3303" y="13420"/>
                  <a:pt x="3249" y="13767"/>
                </a:cubicBezTo>
                <a:cubicBezTo>
                  <a:pt x="3228" y="13900"/>
                  <a:pt x="3223" y="13934"/>
                  <a:pt x="3200" y="140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86040" y="3116160"/>
            <a:ext cx="2544840" cy="714600"/>
          </a:xfrm>
          <a:custGeom>
            <a:avLst/>
            <a:gdLst/>
            <a:ahLst/>
            <a:rect l="l" t="t" r="r" b="b"/>
            <a:pathLst>
              <a:path w="7070" h="1985">
                <a:moveTo>
                  <a:pt x="8855" y="9451"/>
                </a:moveTo>
                <a:cubicBezTo>
                  <a:pt x="8850" y="9493"/>
                  <a:pt x="8839" y="9512"/>
                  <a:pt x="8830" y="9550"/>
                </a:cubicBezTo>
                <a:cubicBezTo>
                  <a:pt x="8830" y="9558"/>
                  <a:pt x="8830" y="9567"/>
                  <a:pt x="8830" y="9575"/>
                </a:cubicBezTo>
                <a:cubicBezTo>
                  <a:pt x="8835" y="9520"/>
                  <a:pt x="8848" y="9478"/>
                  <a:pt x="8855" y="9426"/>
                </a:cubicBezTo>
                <a:cubicBezTo>
                  <a:pt x="8867" y="9339"/>
                  <a:pt x="8864" y="9232"/>
                  <a:pt x="8830" y="9153"/>
                </a:cubicBezTo>
                <a:cubicBezTo>
                  <a:pt x="8798" y="9080"/>
                  <a:pt x="8748" y="9042"/>
                  <a:pt x="8682" y="9004"/>
                </a:cubicBezTo>
                <a:cubicBezTo>
                  <a:pt x="8612" y="8963"/>
                  <a:pt x="8540" y="8937"/>
                  <a:pt x="8458" y="8954"/>
                </a:cubicBezTo>
                <a:cubicBezTo>
                  <a:pt x="8361" y="8974"/>
                  <a:pt x="8261" y="9042"/>
                  <a:pt x="8186" y="9103"/>
                </a:cubicBezTo>
                <a:cubicBezTo>
                  <a:pt x="8044" y="9219"/>
                  <a:pt x="7974" y="9338"/>
                  <a:pt x="7888" y="9500"/>
                </a:cubicBezTo>
                <a:cubicBezTo>
                  <a:pt x="7818" y="9630"/>
                  <a:pt x="7791" y="9759"/>
                  <a:pt x="7764" y="9897"/>
                </a:cubicBezTo>
                <a:cubicBezTo>
                  <a:pt x="7737" y="10038"/>
                  <a:pt x="7733" y="10137"/>
                  <a:pt x="7813" y="10269"/>
                </a:cubicBezTo>
                <a:cubicBezTo>
                  <a:pt x="7859" y="10345"/>
                  <a:pt x="7957" y="10360"/>
                  <a:pt x="8037" y="10344"/>
                </a:cubicBezTo>
                <a:cubicBezTo>
                  <a:pt x="8120" y="10328"/>
                  <a:pt x="8247" y="10271"/>
                  <a:pt x="8310" y="10220"/>
                </a:cubicBezTo>
                <a:cubicBezTo>
                  <a:pt x="8403" y="10145"/>
                  <a:pt x="8491" y="10044"/>
                  <a:pt x="8558" y="9947"/>
                </a:cubicBezTo>
                <a:cubicBezTo>
                  <a:pt x="8619" y="9860"/>
                  <a:pt x="8661" y="9795"/>
                  <a:pt x="8706" y="9699"/>
                </a:cubicBezTo>
                <a:cubicBezTo>
                  <a:pt x="8734" y="9639"/>
                  <a:pt x="8734" y="9651"/>
                  <a:pt x="8756" y="9624"/>
                </a:cubicBezTo>
                <a:cubicBezTo>
                  <a:pt x="8749" y="9677"/>
                  <a:pt x="8733" y="9719"/>
                  <a:pt x="8731" y="9773"/>
                </a:cubicBezTo>
                <a:cubicBezTo>
                  <a:pt x="8725" y="9899"/>
                  <a:pt x="8722" y="9995"/>
                  <a:pt x="8781" y="10096"/>
                </a:cubicBezTo>
                <a:cubicBezTo>
                  <a:pt x="8838" y="10194"/>
                  <a:pt x="8906" y="10245"/>
                  <a:pt x="9004" y="10294"/>
                </a:cubicBezTo>
              </a:path>
              <a:path w="7070" h="1985">
                <a:moveTo>
                  <a:pt x="9203" y="10120"/>
                </a:moveTo>
                <a:cubicBezTo>
                  <a:pt x="9203" y="10219"/>
                  <a:pt x="9193" y="10301"/>
                  <a:pt x="9178" y="10393"/>
                </a:cubicBezTo>
                <a:cubicBezTo>
                  <a:pt x="9168" y="10453"/>
                  <a:pt x="9169" y="10522"/>
                  <a:pt x="9203" y="10567"/>
                </a:cubicBezTo>
                <a:cubicBezTo>
                  <a:pt x="9228" y="10532"/>
                  <a:pt x="9262" y="10488"/>
                  <a:pt x="9277" y="10443"/>
                </a:cubicBezTo>
                <a:cubicBezTo>
                  <a:pt x="9301" y="10371"/>
                  <a:pt x="9335" y="10269"/>
                  <a:pt x="9351" y="10195"/>
                </a:cubicBezTo>
                <a:cubicBezTo>
                  <a:pt x="9361" y="10149"/>
                  <a:pt x="9371" y="10095"/>
                  <a:pt x="9426" y="10071"/>
                </a:cubicBezTo>
                <a:cubicBezTo>
                  <a:pt x="9451" y="10071"/>
                  <a:pt x="9459" y="10071"/>
                  <a:pt x="9475" y="10071"/>
                </a:cubicBezTo>
                <a:cubicBezTo>
                  <a:pt x="9506" y="10124"/>
                  <a:pt x="9561" y="10183"/>
                  <a:pt x="9575" y="10244"/>
                </a:cubicBezTo>
                <a:cubicBezTo>
                  <a:pt x="9591" y="10316"/>
                  <a:pt x="9604" y="10398"/>
                  <a:pt x="9624" y="10468"/>
                </a:cubicBezTo>
                <a:cubicBezTo>
                  <a:pt x="9639" y="10521"/>
                  <a:pt x="9659" y="10571"/>
                  <a:pt x="9674" y="10616"/>
                </a:cubicBezTo>
                <a:cubicBezTo>
                  <a:pt x="9696" y="10681"/>
                  <a:pt x="9728" y="10603"/>
                  <a:pt x="9748" y="10567"/>
                </a:cubicBezTo>
              </a:path>
              <a:path w="7070" h="1985">
                <a:moveTo>
                  <a:pt x="9922" y="9773"/>
                </a:moveTo>
                <a:cubicBezTo>
                  <a:pt x="9980" y="9721"/>
                  <a:pt x="10020" y="9679"/>
                  <a:pt x="10096" y="9674"/>
                </a:cubicBezTo>
                <a:cubicBezTo>
                  <a:pt x="10174" y="9669"/>
                  <a:pt x="10221" y="9669"/>
                  <a:pt x="10294" y="9674"/>
                </a:cubicBezTo>
                <a:cubicBezTo>
                  <a:pt x="10311" y="9674"/>
                  <a:pt x="10327" y="9674"/>
                  <a:pt x="10344" y="9674"/>
                </a:cubicBezTo>
              </a:path>
              <a:path w="7070" h="1985">
                <a:moveTo>
                  <a:pt x="10096" y="10046"/>
                </a:moveTo>
                <a:cubicBezTo>
                  <a:pt x="10233" y="10046"/>
                  <a:pt x="10363" y="10049"/>
                  <a:pt x="10492" y="10071"/>
                </a:cubicBezTo>
                <a:cubicBezTo>
                  <a:pt x="10536" y="10078"/>
                  <a:pt x="10585" y="10128"/>
                  <a:pt x="10616" y="10096"/>
                </a:cubicBezTo>
                <a:cubicBezTo>
                  <a:pt x="10616" y="10088"/>
                  <a:pt x="10616" y="10079"/>
                  <a:pt x="10616" y="10071"/>
                </a:cubicBezTo>
              </a:path>
              <a:path w="7070" h="1985">
                <a:moveTo>
                  <a:pt x="11534" y="8830"/>
                </a:moveTo>
                <a:cubicBezTo>
                  <a:pt x="11534" y="8764"/>
                  <a:pt x="11537" y="8917"/>
                  <a:pt x="11534" y="8930"/>
                </a:cubicBezTo>
                <a:cubicBezTo>
                  <a:pt x="11514" y="9023"/>
                  <a:pt x="11454" y="9112"/>
                  <a:pt x="11435" y="9203"/>
                </a:cubicBezTo>
                <a:cubicBezTo>
                  <a:pt x="11420" y="9275"/>
                  <a:pt x="11383" y="9308"/>
                  <a:pt x="11361" y="9376"/>
                </a:cubicBezTo>
                <a:cubicBezTo>
                  <a:pt x="11352" y="9404"/>
                  <a:pt x="11343" y="9422"/>
                  <a:pt x="11336" y="9451"/>
                </a:cubicBezTo>
                <a:cubicBezTo>
                  <a:pt x="11402" y="9451"/>
                  <a:pt x="11449" y="9487"/>
                  <a:pt x="11509" y="9500"/>
                </a:cubicBezTo>
                <a:cubicBezTo>
                  <a:pt x="11589" y="9517"/>
                  <a:pt x="11674" y="9539"/>
                  <a:pt x="11757" y="9550"/>
                </a:cubicBezTo>
                <a:cubicBezTo>
                  <a:pt x="11829" y="9560"/>
                  <a:pt x="11878" y="9548"/>
                  <a:pt x="11931" y="9500"/>
                </a:cubicBezTo>
                <a:cubicBezTo>
                  <a:pt x="11939" y="9492"/>
                  <a:pt x="11948" y="9483"/>
                  <a:pt x="11956" y="9475"/>
                </a:cubicBezTo>
              </a:path>
              <a:path w="7070" h="1985">
                <a:moveTo>
                  <a:pt x="11931" y="8657"/>
                </a:moveTo>
                <a:cubicBezTo>
                  <a:pt x="11925" y="8717"/>
                  <a:pt x="11921" y="8773"/>
                  <a:pt x="11906" y="8830"/>
                </a:cubicBezTo>
                <a:cubicBezTo>
                  <a:pt x="11869" y="8972"/>
                  <a:pt x="11845" y="9106"/>
                  <a:pt x="11832" y="9252"/>
                </a:cubicBezTo>
                <a:cubicBezTo>
                  <a:pt x="11819" y="9401"/>
                  <a:pt x="11822" y="9551"/>
                  <a:pt x="11807" y="9699"/>
                </a:cubicBezTo>
                <a:cubicBezTo>
                  <a:pt x="11782" y="9947"/>
                  <a:pt x="11821" y="10202"/>
                  <a:pt x="11782" y="10443"/>
                </a:cubicBezTo>
                <a:cubicBezTo>
                  <a:pt x="11779" y="10462"/>
                  <a:pt x="11769" y="10566"/>
                  <a:pt x="11807" y="10542"/>
                </a:cubicBezTo>
                <a:cubicBezTo>
                  <a:pt x="11807" y="10514"/>
                  <a:pt x="11809" y="10503"/>
                  <a:pt x="11832" y="10492"/>
                </a:cubicBezTo>
              </a:path>
              <a:path w="7070" h="1985">
                <a:moveTo>
                  <a:pt x="12105" y="9773"/>
                </a:moveTo>
                <a:cubicBezTo>
                  <a:pt x="12105" y="9958"/>
                  <a:pt x="12100" y="10142"/>
                  <a:pt x="12129" y="10319"/>
                </a:cubicBezTo>
                <a:cubicBezTo>
                  <a:pt x="12129" y="10344"/>
                  <a:pt x="12129" y="10352"/>
                  <a:pt x="12129" y="10368"/>
                </a:cubicBezTo>
                <a:cubicBezTo>
                  <a:pt x="12143" y="10327"/>
                  <a:pt x="12136" y="10334"/>
                  <a:pt x="12154" y="10294"/>
                </a:cubicBezTo>
                <a:cubicBezTo>
                  <a:pt x="12183" y="10228"/>
                  <a:pt x="12186" y="10164"/>
                  <a:pt x="12204" y="10096"/>
                </a:cubicBezTo>
                <a:cubicBezTo>
                  <a:pt x="12225" y="10015"/>
                  <a:pt x="12249" y="9925"/>
                  <a:pt x="12278" y="9847"/>
                </a:cubicBezTo>
                <a:cubicBezTo>
                  <a:pt x="12307" y="9771"/>
                  <a:pt x="12342" y="9697"/>
                  <a:pt x="12378" y="9624"/>
                </a:cubicBezTo>
                <a:cubicBezTo>
                  <a:pt x="12405" y="9569"/>
                  <a:pt x="12452" y="9557"/>
                  <a:pt x="12477" y="9525"/>
                </a:cubicBezTo>
                <a:cubicBezTo>
                  <a:pt x="12477" y="9517"/>
                  <a:pt x="12477" y="9508"/>
                  <a:pt x="12477" y="9500"/>
                </a:cubicBezTo>
                <a:cubicBezTo>
                  <a:pt x="12516" y="9525"/>
                  <a:pt x="12569" y="9551"/>
                  <a:pt x="12601" y="9599"/>
                </a:cubicBezTo>
                <a:cubicBezTo>
                  <a:pt x="12633" y="9646"/>
                  <a:pt x="12666" y="9768"/>
                  <a:pt x="12675" y="9823"/>
                </a:cubicBezTo>
                <a:cubicBezTo>
                  <a:pt x="12692" y="9924"/>
                  <a:pt x="12695" y="10021"/>
                  <a:pt x="12725" y="10120"/>
                </a:cubicBezTo>
                <a:cubicBezTo>
                  <a:pt x="12747" y="10196"/>
                  <a:pt x="12768" y="10275"/>
                  <a:pt x="12799" y="10344"/>
                </a:cubicBezTo>
                <a:cubicBezTo>
                  <a:pt x="12820" y="10390"/>
                  <a:pt x="12843" y="10507"/>
                  <a:pt x="12874" y="10468"/>
                </a:cubicBezTo>
                <a:cubicBezTo>
                  <a:pt x="12874" y="10451"/>
                  <a:pt x="12874" y="10435"/>
                  <a:pt x="12874" y="10418"/>
                </a:cubicBezTo>
              </a:path>
              <a:path w="7070" h="1985">
                <a:moveTo>
                  <a:pt x="13320" y="9847"/>
                </a:moveTo>
                <a:cubicBezTo>
                  <a:pt x="13439" y="9832"/>
                  <a:pt x="13543" y="9847"/>
                  <a:pt x="13667" y="9847"/>
                </a:cubicBezTo>
                <a:cubicBezTo>
                  <a:pt x="13742" y="9847"/>
                  <a:pt x="13766" y="9847"/>
                  <a:pt x="13816" y="9847"/>
                </a:cubicBezTo>
              </a:path>
              <a:path w="7070" h="1985">
                <a:moveTo>
                  <a:pt x="14684" y="8979"/>
                </a:moveTo>
                <a:cubicBezTo>
                  <a:pt x="14714" y="9070"/>
                  <a:pt x="14709" y="9154"/>
                  <a:pt x="14709" y="9252"/>
                </a:cubicBezTo>
                <a:cubicBezTo>
                  <a:pt x="14709" y="9446"/>
                  <a:pt x="14718" y="9633"/>
                  <a:pt x="14734" y="9823"/>
                </a:cubicBezTo>
                <a:cubicBezTo>
                  <a:pt x="14744" y="9941"/>
                  <a:pt x="14771" y="10054"/>
                  <a:pt x="14784" y="10170"/>
                </a:cubicBezTo>
                <a:cubicBezTo>
                  <a:pt x="14795" y="10269"/>
                  <a:pt x="14796" y="10368"/>
                  <a:pt x="14808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70000" y="2741760"/>
            <a:ext cx="785880" cy="2849400"/>
          </a:xfrm>
          <a:custGeom>
            <a:avLst/>
            <a:gdLst/>
            <a:ahLst/>
            <a:rect l="l" t="t" r="r" b="b"/>
            <a:pathLst>
              <a:path w="2184" h="7914">
                <a:moveTo>
                  <a:pt x="4688" y="7838"/>
                </a:moveTo>
                <a:cubicBezTo>
                  <a:pt x="4688" y="7777"/>
                  <a:pt x="4699" y="7718"/>
                  <a:pt x="4663" y="7665"/>
                </a:cubicBezTo>
                <a:cubicBezTo>
                  <a:pt x="4622" y="7604"/>
                  <a:pt x="4593" y="7611"/>
                  <a:pt x="4539" y="7640"/>
                </a:cubicBezTo>
                <a:cubicBezTo>
                  <a:pt x="4443" y="7692"/>
                  <a:pt x="4385" y="7749"/>
                  <a:pt x="4316" y="7838"/>
                </a:cubicBezTo>
                <a:cubicBezTo>
                  <a:pt x="4240" y="7935"/>
                  <a:pt x="4198" y="8014"/>
                  <a:pt x="4192" y="8136"/>
                </a:cubicBezTo>
                <a:cubicBezTo>
                  <a:pt x="4190" y="8187"/>
                  <a:pt x="4181" y="8288"/>
                  <a:pt x="4266" y="8285"/>
                </a:cubicBezTo>
                <a:cubicBezTo>
                  <a:pt x="4362" y="8281"/>
                  <a:pt x="4435" y="8238"/>
                  <a:pt x="4490" y="8161"/>
                </a:cubicBezTo>
                <a:cubicBezTo>
                  <a:pt x="4529" y="8107"/>
                  <a:pt x="4582" y="8003"/>
                  <a:pt x="4589" y="7938"/>
                </a:cubicBezTo>
                <a:cubicBezTo>
                  <a:pt x="4589" y="7913"/>
                  <a:pt x="4589" y="7905"/>
                  <a:pt x="4589" y="7938"/>
                </a:cubicBezTo>
                <a:cubicBezTo>
                  <a:pt x="4589" y="8013"/>
                  <a:pt x="4582" y="8074"/>
                  <a:pt x="4614" y="8136"/>
                </a:cubicBezTo>
                <a:cubicBezTo>
                  <a:pt x="4635" y="8177"/>
                  <a:pt x="4706" y="8228"/>
                  <a:pt x="4762" y="8210"/>
                </a:cubicBezTo>
                <a:cubicBezTo>
                  <a:pt x="4785" y="8188"/>
                  <a:pt x="4790" y="8180"/>
                  <a:pt x="4812" y="8186"/>
                </a:cubicBezTo>
              </a:path>
              <a:path w="2184" h="7914">
                <a:moveTo>
                  <a:pt x="4961" y="8186"/>
                </a:moveTo>
                <a:cubicBezTo>
                  <a:pt x="4961" y="8243"/>
                  <a:pt x="4977" y="8133"/>
                  <a:pt x="4986" y="8111"/>
                </a:cubicBezTo>
                <a:cubicBezTo>
                  <a:pt x="5016" y="8037"/>
                  <a:pt x="5043" y="7978"/>
                  <a:pt x="5110" y="7938"/>
                </a:cubicBezTo>
                <a:cubicBezTo>
                  <a:pt x="5177" y="7899"/>
                  <a:pt x="5231" y="7898"/>
                  <a:pt x="5283" y="7962"/>
                </a:cubicBezTo>
                <a:cubicBezTo>
                  <a:pt x="5324" y="8012"/>
                  <a:pt x="5452" y="8235"/>
                  <a:pt x="5432" y="8285"/>
                </a:cubicBezTo>
                <a:cubicBezTo>
                  <a:pt x="5424" y="8293"/>
                  <a:pt x="5415" y="8302"/>
                  <a:pt x="5407" y="8310"/>
                </a:cubicBezTo>
              </a:path>
              <a:path w="2184" h="7914">
                <a:moveTo>
                  <a:pt x="4192" y="8880"/>
                </a:moveTo>
                <a:cubicBezTo>
                  <a:pt x="4227" y="8868"/>
                  <a:pt x="4221" y="8826"/>
                  <a:pt x="4266" y="8806"/>
                </a:cubicBezTo>
                <a:cubicBezTo>
                  <a:pt x="4313" y="8786"/>
                  <a:pt x="4333" y="8759"/>
                  <a:pt x="4390" y="8756"/>
                </a:cubicBezTo>
                <a:cubicBezTo>
                  <a:pt x="4461" y="8752"/>
                  <a:pt x="4492" y="8784"/>
                  <a:pt x="4539" y="8830"/>
                </a:cubicBezTo>
                <a:cubicBezTo>
                  <a:pt x="4593" y="8883"/>
                  <a:pt x="4556" y="8912"/>
                  <a:pt x="4514" y="8954"/>
                </a:cubicBezTo>
                <a:cubicBezTo>
                  <a:pt x="4478" y="8990"/>
                  <a:pt x="4452" y="9001"/>
                  <a:pt x="4415" y="9029"/>
                </a:cubicBezTo>
                <a:cubicBezTo>
                  <a:pt x="4472" y="9029"/>
                  <a:pt x="4514" y="9021"/>
                  <a:pt x="4564" y="9054"/>
                </a:cubicBezTo>
                <a:cubicBezTo>
                  <a:pt x="4630" y="9098"/>
                  <a:pt x="4652" y="9131"/>
                  <a:pt x="4688" y="9203"/>
                </a:cubicBezTo>
                <a:cubicBezTo>
                  <a:pt x="4708" y="9242"/>
                  <a:pt x="4730" y="9305"/>
                  <a:pt x="4713" y="9351"/>
                </a:cubicBezTo>
                <a:cubicBezTo>
                  <a:pt x="4696" y="9397"/>
                  <a:pt x="4639" y="9434"/>
                  <a:pt x="4589" y="9451"/>
                </a:cubicBezTo>
                <a:cubicBezTo>
                  <a:pt x="4528" y="9472"/>
                  <a:pt x="4462" y="9436"/>
                  <a:pt x="4415" y="9426"/>
                </a:cubicBezTo>
                <a:cubicBezTo>
                  <a:pt x="4361" y="9415"/>
                  <a:pt x="4337" y="9416"/>
                  <a:pt x="4291" y="9401"/>
                </a:cubicBezTo>
                <a:cubicBezTo>
                  <a:pt x="4237" y="9383"/>
                  <a:pt x="4252" y="9392"/>
                  <a:pt x="4217" y="9401"/>
                </a:cubicBezTo>
                <a:cubicBezTo>
                  <a:pt x="4209" y="9401"/>
                  <a:pt x="4200" y="9401"/>
                  <a:pt x="4192" y="9401"/>
                </a:cubicBezTo>
              </a:path>
              <a:path w="2184" h="7914">
                <a:moveTo>
                  <a:pt x="4266" y="9872"/>
                </a:moveTo>
                <a:cubicBezTo>
                  <a:pt x="4279" y="9910"/>
                  <a:pt x="4296" y="9897"/>
                  <a:pt x="4341" y="9897"/>
                </a:cubicBezTo>
                <a:cubicBezTo>
                  <a:pt x="4471" y="9897"/>
                  <a:pt x="4591" y="9893"/>
                  <a:pt x="4713" y="9872"/>
                </a:cubicBezTo>
                <a:cubicBezTo>
                  <a:pt x="4760" y="9864"/>
                  <a:pt x="4814" y="9872"/>
                  <a:pt x="4862" y="9872"/>
                </a:cubicBezTo>
                <a:cubicBezTo>
                  <a:pt x="4837" y="9889"/>
                  <a:pt x="4795" y="9994"/>
                  <a:pt x="4787" y="10046"/>
                </a:cubicBezTo>
                <a:cubicBezTo>
                  <a:pt x="4774" y="10129"/>
                  <a:pt x="4741" y="10209"/>
                  <a:pt x="4738" y="10294"/>
                </a:cubicBezTo>
                <a:cubicBezTo>
                  <a:pt x="4734" y="10384"/>
                  <a:pt x="4749" y="10459"/>
                  <a:pt x="4762" y="10542"/>
                </a:cubicBezTo>
                <a:cubicBezTo>
                  <a:pt x="4770" y="10597"/>
                  <a:pt x="4775" y="10618"/>
                  <a:pt x="4787" y="10666"/>
                </a:cubicBezTo>
              </a:path>
              <a:path w="2184" h="7914">
                <a:moveTo>
                  <a:pt x="4341" y="10988"/>
                </a:moveTo>
                <a:cubicBezTo>
                  <a:pt x="4310" y="11072"/>
                  <a:pt x="4316" y="11146"/>
                  <a:pt x="4316" y="11237"/>
                </a:cubicBezTo>
                <a:cubicBezTo>
                  <a:pt x="4316" y="11382"/>
                  <a:pt x="4271" y="11517"/>
                  <a:pt x="4266" y="11658"/>
                </a:cubicBezTo>
                <a:cubicBezTo>
                  <a:pt x="4266" y="11667"/>
                  <a:pt x="4260" y="11888"/>
                  <a:pt x="4291" y="11857"/>
                </a:cubicBezTo>
                <a:cubicBezTo>
                  <a:pt x="4291" y="11849"/>
                  <a:pt x="4291" y="11840"/>
                  <a:pt x="4291" y="11832"/>
                </a:cubicBezTo>
              </a:path>
              <a:path w="2184" h="7914">
                <a:moveTo>
                  <a:pt x="4787" y="11063"/>
                </a:moveTo>
                <a:cubicBezTo>
                  <a:pt x="4778" y="11175"/>
                  <a:pt x="4729" y="11275"/>
                  <a:pt x="4713" y="11385"/>
                </a:cubicBezTo>
                <a:cubicBezTo>
                  <a:pt x="4693" y="11523"/>
                  <a:pt x="4700" y="11619"/>
                  <a:pt x="4713" y="11757"/>
                </a:cubicBezTo>
                <a:cubicBezTo>
                  <a:pt x="4719" y="11821"/>
                  <a:pt x="4729" y="11900"/>
                  <a:pt x="4762" y="11956"/>
                </a:cubicBezTo>
                <a:cubicBezTo>
                  <a:pt x="4791" y="12005"/>
                  <a:pt x="4796" y="11960"/>
                  <a:pt x="4812" y="12005"/>
                </a:cubicBezTo>
              </a:path>
              <a:path w="2184" h="7914">
                <a:moveTo>
                  <a:pt x="4242" y="12675"/>
                </a:moveTo>
                <a:cubicBezTo>
                  <a:pt x="4210" y="12838"/>
                  <a:pt x="4165" y="13008"/>
                  <a:pt x="4142" y="13171"/>
                </a:cubicBezTo>
                <a:cubicBezTo>
                  <a:pt x="4135" y="13220"/>
                  <a:pt x="4120" y="13390"/>
                  <a:pt x="4167" y="13419"/>
                </a:cubicBezTo>
                <a:cubicBezTo>
                  <a:pt x="4175" y="13419"/>
                  <a:pt x="4184" y="13419"/>
                  <a:pt x="4192" y="13419"/>
                </a:cubicBezTo>
              </a:path>
              <a:path w="2184" h="7914">
                <a:moveTo>
                  <a:pt x="4589" y="12774"/>
                </a:moveTo>
                <a:cubicBezTo>
                  <a:pt x="4730" y="12756"/>
                  <a:pt x="4858" y="12748"/>
                  <a:pt x="4986" y="12700"/>
                </a:cubicBezTo>
              </a:path>
              <a:path w="2184" h="7914">
                <a:moveTo>
                  <a:pt x="4490" y="12874"/>
                </a:moveTo>
                <a:cubicBezTo>
                  <a:pt x="4477" y="12937"/>
                  <a:pt x="4461" y="12993"/>
                  <a:pt x="4514" y="13022"/>
                </a:cubicBezTo>
                <a:cubicBezTo>
                  <a:pt x="4571" y="13053"/>
                  <a:pt x="4649" y="13069"/>
                  <a:pt x="4713" y="13072"/>
                </a:cubicBezTo>
                <a:cubicBezTo>
                  <a:pt x="4885" y="13080"/>
                  <a:pt x="4910" y="13133"/>
                  <a:pt x="4961" y="13320"/>
                </a:cubicBezTo>
                <a:cubicBezTo>
                  <a:pt x="4992" y="13432"/>
                  <a:pt x="4891" y="13469"/>
                  <a:pt x="4837" y="13543"/>
                </a:cubicBezTo>
                <a:cubicBezTo>
                  <a:pt x="4788" y="13611"/>
                  <a:pt x="4725" y="13638"/>
                  <a:pt x="4638" y="13643"/>
                </a:cubicBezTo>
                <a:cubicBezTo>
                  <a:pt x="4572" y="13647"/>
                  <a:pt x="4527" y="13605"/>
                  <a:pt x="4465" y="13593"/>
                </a:cubicBezTo>
              </a:path>
              <a:path w="2184" h="7914">
                <a:moveTo>
                  <a:pt x="4142" y="13891"/>
                </a:moveTo>
                <a:cubicBezTo>
                  <a:pt x="4111" y="14065"/>
                  <a:pt x="4061" y="14238"/>
                  <a:pt x="4043" y="14412"/>
                </a:cubicBezTo>
                <a:cubicBezTo>
                  <a:pt x="4033" y="14511"/>
                  <a:pt x="4023" y="14610"/>
                  <a:pt x="4018" y="14709"/>
                </a:cubicBezTo>
                <a:cubicBezTo>
                  <a:pt x="4016" y="14750"/>
                  <a:pt x="4018" y="14841"/>
                  <a:pt x="4043" y="14808"/>
                </a:cubicBezTo>
                <a:cubicBezTo>
                  <a:pt x="4043" y="14800"/>
                  <a:pt x="4043" y="14792"/>
                  <a:pt x="4043" y="14784"/>
                </a:cubicBezTo>
              </a:path>
              <a:path w="2184" h="7914">
                <a:moveTo>
                  <a:pt x="4787" y="14089"/>
                </a:moveTo>
                <a:cubicBezTo>
                  <a:pt x="4759" y="14004"/>
                  <a:pt x="4698" y="14040"/>
                  <a:pt x="4614" y="14089"/>
                </a:cubicBezTo>
                <a:cubicBezTo>
                  <a:pt x="4553" y="14125"/>
                  <a:pt x="4482" y="14171"/>
                  <a:pt x="4465" y="14238"/>
                </a:cubicBezTo>
                <a:cubicBezTo>
                  <a:pt x="4478" y="14288"/>
                  <a:pt x="4507" y="14308"/>
                  <a:pt x="4564" y="14312"/>
                </a:cubicBezTo>
                <a:cubicBezTo>
                  <a:pt x="4637" y="14317"/>
                  <a:pt x="4698" y="14270"/>
                  <a:pt x="4762" y="14238"/>
                </a:cubicBezTo>
                <a:cubicBezTo>
                  <a:pt x="4822" y="14208"/>
                  <a:pt x="4826" y="14154"/>
                  <a:pt x="4887" y="14139"/>
                </a:cubicBezTo>
                <a:cubicBezTo>
                  <a:pt x="4836" y="14251"/>
                  <a:pt x="4774" y="14370"/>
                  <a:pt x="4738" y="14486"/>
                </a:cubicBezTo>
                <a:cubicBezTo>
                  <a:pt x="4693" y="14630"/>
                  <a:pt x="4721" y="14765"/>
                  <a:pt x="4738" y="14908"/>
                </a:cubicBezTo>
                <a:cubicBezTo>
                  <a:pt x="4738" y="14949"/>
                  <a:pt x="4738" y="14973"/>
                  <a:pt x="4738" y="14932"/>
                </a:cubicBezTo>
              </a:path>
              <a:path w="2184" h="7914">
                <a:moveTo>
                  <a:pt x="3398" y="13767"/>
                </a:moveTo>
                <a:cubicBezTo>
                  <a:pt x="3385" y="13882"/>
                  <a:pt x="3357" y="13997"/>
                  <a:pt x="3349" y="14114"/>
                </a:cubicBezTo>
                <a:cubicBezTo>
                  <a:pt x="3338" y="14288"/>
                  <a:pt x="3309" y="14461"/>
                  <a:pt x="3299" y="14635"/>
                </a:cubicBezTo>
                <a:cubicBezTo>
                  <a:pt x="3289" y="14817"/>
                  <a:pt x="3286" y="15000"/>
                  <a:pt x="3274" y="15180"/>
                </a:cubicBezTo>
                <a:cubicBezTo>
                  <a:pt x="3266" y="15303"/>
                  <a:pt x="3268" y="15406"/>
                  <a:pt x="3249" y="155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66880" y="3106800"/>
            <a:ext cx="172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2456" y="8632"/>
                </a:moveTo>
                <a:cubicBezTo>
                  <a:pt x="2430" y="8702"/>
                  <a:pt x="2431" y="8754"/>
                  <a:pt x="2431" y="8830"/>
                </a:cubicBezTo>
                <a:cubicBezTo>
                  <a:pt x="2431" y="8890"/>
                  <a:pt x="2401" y="9005"/>
                  <a:pt x="2406" y="9054"/>
                </a:cubicBezTo>
                <a:cubicBezTo>
                  <a:pt x="2413" y="9115"/>
                  <a:pt x="2424" y="9135"/>
                  <a:pt x="2431" y="9203"/>
                </a:cubicBezTo>
                <a:cubicBezTo>
                  <a:pt x="2431" y="9227"/>
                  <a:pt x="2431" y="9236"/>
                  <a:pt x="2431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8320" y="3537000"/>
            <a:ext cx="401760" cy="1589040"/>
          </a:xfrm>
          <a:custGeom>
            <a:avLst/>
            <a:gdLst/>
            <a:ahLst/>
            <a:rect l="l" t="t" r="r" b="b"/>
            <a:pathLst>
              <a:path w="1117" h="4416">
                <a:moveTo>
                  <a:pt x="2232" y="9847"/>
                </a:moveTo>
                <a:cubicBezTo>
                  <a:pt x="2279" y="9813"/>
                  <a:pt x="2320" y="9823"/>
                  <a:pt x="2381" y="9823"/>
                </a:cubicBezTo>
                <a:cubicBezTo>
                  <a:pt x="2453" y="9823"/>
                  <a:pt x="2542" y="9816"/>
                  <a:pt x="2580" y="9897"/>
                </a:cubicBezTo>
                <a:cubicBezTo>
                  <a:pt x="2608" y="9956"/>
                  <a:pt x="2560" y="10098"/>
                  <a:pt x="2530" y="10145"/>
                </a:cubicBezTo>
                <a:cubicBezTo>
                  <a:pt x="2483" y="10219"/>
                  <a:pt x="2405" y="10282"/>
                  <a:pt x="2356" y="10344"/>
                </a:cubicBezTo>
                <a:cubicBezTo>
                  <a:pt x="2307" y="10406"/>
                  <a:pt x="2334" y="10473"/>
                  <a:pt x="2406" y="10492"/>
                </a:cubicBezTo>
                <a:cubicBezTo>
                  <a:pt x="2511" y="10519"/>
                  <a:pt x="2644" y="10498"/>
                  <a:pt x="2753" y="10517"/>
                </a:cubicBezTo>
                <a:cubicBezTo>
                  <a:pt x="2761" y="10517"/>
                  <a:pt x="2770" y="10517"/>
                  <a:pt x="2778" y="10517"/>
                </a:cubicBezTo>
              </a:path>
              <a:path w="1117" h="4416">
                <a:moveTo>
                  <a:pt x="2282" y="10988"/>
                </a:moveTo>
                <a:cubicBezTo>
                  <a:pt x="2390" y="11054"/>
                  <a:pt x="2394" y="11002"/>
                  <a:pt x="2505" y="11038"/>
                </a:cubicBezTo>
                <a:cubicBezTo>
                  <a:pt x="2580" y="11062"/>
                  <a:pt x="2606" y="11089"/>
                  <a:pt x="2654" y="11137"/>
                </a:cubicBezTo>
                <a:cubicBezTo>
                  <a:pt x="2585" y="11221"/>
                  <a:pt x="2576" y="11243"/>
                  <a:pt x="2480" y="11286"/>
                </a:cubicBezTo>
                <a:cubicBezTo>
                  <a:pt x="2427" y="11310"/>
                  <a:pt x="2397" y="11346"/>
                  <a:pt x="2356" y="11385"/>
                </a:cubicBezTo>
                <a:cubicBezTo>
                  <a:pt x="2395" y="11398"/>
                  <a:pt x="2431" y="11452"/>
                  <a:pt x="2480" y="11485"/>
                </a:cubicBezTo>
                <a:cubicBezTo>
                  <a:pt x="2547" y="11529"/>
                  <a:pt x="2624" y="11603"/>
                  <a:pt x="2654" y="11683"/>
                </a:cubicBezTo>
                <a:cubicBezTo>
                  <a:pt x="2679" y="11749"/>
                  <a:pt x="2632" y="11789"/>
                  <a:pt x="2580" y="11807"/>
                </a:cubicBezTo>
                <a:cubicBezTo>
                  <a:pt x="2470" y="11846"/>
                  <a:pt x="2444" y="11837"/>
                  <a:pt x="2332" y="11832"/>
                </a:cubicBezTo>
                <a:cubicBezTo>
                  <a:pt x="2274" y="11832"/>
                  <a:pt x="2265" y="11832"/>
                  <a:pt x="2232" y="11832"/>
                </a:cubicBezTo>
              </a:path>
              <a:path w="1117" h="4416">
                <a:moveTo>
                  <a:pt x="2158" y="12278"/>
                </a:moveTo>
                <a:cubicBezTo>
                  <a:pt x="2137" y="12370"/>
                  <a:pt x="2082" y="12504"/>
                  <a:pt x="2108" y="12601"/>
                </a:cubicBezTo>
                <a:cubicBezTo>
                  <a:pt x="2121" y="12651"/>
                  <a:pt x="2181" y="12713"/>
                  <a:pt x="2232" y="12725"/>
                </a:cubicBezTo>
                <a:cubicBezTo>
                  <a:pt x="2284" y="12725"/>
                  <a:pt x="2302" y="12724"/>
                  <a:pt x="2332" y="12700"/>
                </a:cubicBezTo>
              </a:path>
              <a:path w="1117" h="4416">
                <a:moveTo>
                  <a:pt x="2406" y="12551"/>
                </a:moveTo>
                <a:cubicBezTo>
                  <a:pt x="2349" y="12664"/>
                  <a:pt x="2347" y="12746"/>
                  <a:pt x="2332" y="12874"/>
                </a:cubicBezTo>
                <a:cubicBezTo>
                  <a:pt x="2313" y="13028"/>
                  <a:pt x="2310" y="13107"/>
                  <a:pt x="2332" y="13246"/>
                </a:cubicBezTo>
                <a:cubicBezTo>
                  <a:pt x="2332" y="13262"/>
                  <a:pt x="2332" y="13279"/>
                  <a:pt x="2332" y="13295"/>
                </a:cubicBezTo>
              </a:path>
              <a:path w="1117" h="4416">
                <a:moveTo>
                  <a:pt x="1984" y="13543"/>
                </a:moveTo>
                <a:cubicBezTo>
                  <a:pt x="2099" y="13543"/>
                  <a:pt x="2197" y="13534"/>
                  <a:pt x="2307" y="13519"/>
                </a:cubicBezTo>
                <a:cubicBezTo>
                  <a:pt x="2358" y="13519"/>
                  <a:pt x="2377" y="13518"/>
                  <a:pt x="2406" y="13494"/>
                </a:cubicBezTo>
              </a:path>
              <a:path w="1117" h="4416">
                <a:moveTo>
                  <a:pt x="1935" y="13593"/>
                </a:moveTo>
                <a:cubicBezTo>
                  <a:pt x="1877" y="13661"/>
                  <a:pt x="1869" y="13671"/>
                  <a:pt x="1935" y="13742"/>
                </a:cubicBezTo>
                <a:cubicBezTo>
                  <a:pt x="2014" y="13827"/>
                  <a:pt x="2128" y="13888"/>
                  <a:pt x="2183" y="13990"/>
                </a:cubicBezTo>
                <a:cubicBezTo>
                  <a:pt x="2214" y="14048"/>
                  <a:pt x="2223" y="14168"/>
                  <a:pt x="2158" y="14213"/>
                </a:cubicBezTo>
                <a:cubicBezTo>
                  <a:pt x="2070" y="14274"/>
                  <a:pt x="1908" y="14228"/>
                  <a:pt x="1836" y="14163"/>
                </a:cubicBezTo>
                <a:cubicBezTo>
                  <a:pt x="1732" y="14026"/>
                  <a:pt x="1690" y="13949"/>
                  <a:pt x="1662" y="138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84160" y="5419800"/>
            <a:ext cx="972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2456" y="15056"/>
                </a:moveTo>
                <a:cubicBezTo>
                  <a:pt x="2480" y="15056"/>
                  <a:pt x="2488" y="15056"/>
                  <a:pt x="2480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28:40Z</dcterms:created>
  <dc:creator>jnewman</dc:creator>
  <dc:description/>
  <dc:language>en-US</dc:language>
  <cp:lastModifiedBy>abeason</cp:lastModifiedBy>
  <dcterms:modified xsi:type="dcterms:W3CDTF">2009-03-10T14:32:50Z</dcterms:modified>
  <cp:revision>15</cp:revision>
  <dc:subject/>
  <dc:title>Lesson 9.1 part two</dc:title>
</cp:coreProperties>
</file>